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4F13-D02D-4131-B206-B083886F2AC8}" type="slidenum">
              <a:rPr b="1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B805-B29E-4333-B5C8-2CFE42B8BF89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8F64-71BC-46CF-97BD-01D304F6DF4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0CB4-90C6-43D9-9F0B-6D9AC8ED6664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228-A122-415C-BD1E-0DD9E5AC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1C1-5D08-4B87-A727-02DD47B7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EC2-6C97-4288-9D44-735A8775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D12-3F01-4143-B660-A169AA79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3D6-8E3D-4B50-A0C6-6A32CEB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A3D-89BE-49C8-BB1F-F6740C5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1CE-A43D-4F6E-8C8D-73A6A7D4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A55-6B4B-46CF-B61D-E7B70488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DCF-D476-456A-824C-B462D088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881-378D-4213-AEF4-682CC035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B57-A4EA-4373-90C2-A22FD72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A10-54A6-4615-AF4D-1C58259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08F0-47BD-4600-ADB1-BC199B8E28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LECAnvaSIN"/>
          <p:cNvPicPr/>
          <p:nvPr/>
        </p:nvPicPr>
        <p:blipFill>
          <a:blip r:embed="rId1"/>
          <a:stretch/>
        </p:blipFill>
        <p:spPr>
          <a:xfrm>
            <a:off x="468360" y="595440"/>
            <a:ext cx="7991280" cy="757080"/>
          </a:xfrm>
          <a:prstGeom prst="rect">
            <a:avLst/>
          </a:prstGeom>
          <a:ln w="0">
            <a:noFill/>
          </a:ln>
        </p:spPr>
      </p:pic>
      <p:sp>
        <p:nvSpPr>
          <p:cNvPr id="49" name="1 CuadroTexto"/>
          <p:cNvSpPr/>
          <p:nvPr/>
        </p:nvSpPr>
        <p:spPr>
          <a:xfrm>
            <a:off x="2843280" y="706320"/>
            <a:ext cx="43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irección Académi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ubdirección de Contenido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partamento de Eje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CuadroTexto"/>
          <p:cNvSpPr/>
          <p:nvPr/>
        </p:nvSpPr>
        <p:spPr>
          <a:xfrm>
            <a:off x="4067280" y="4651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70c0"/>
                </a:solidFill>
                <a:latin typeface="Arial"/>
              </a:rPr>
              <a:t>México,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Arial"/>
              </a:rPr>
              <a:t>ESTRATEGIAS DE LECTURA Y ESCRI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PLECAnvaSIN"/>
          <p:cNvPicPr/>
          <p:nvPr/>
        </p:nvPicPr>
        <p:blipFill>
          <a:blip r:embed="rId1"/>
          <a:stretch/>
        </p:blipFill>
        <p:spPr>
          <a:xfrm>
            <a:off x="755640" y="236520"/>
            <a:ext cx="7993080" cy="744480"/>
          </a:xfrm>
          <a:prstGeom prst="rect">
            <a:avLst/>
          </a:prstGeom>
          <a:ln w="0">
            <a:noFill/>
          </a:ln>
        </p:spPr>
      </p:pic>
      <p:sp>
        <p:nvSpPr>
          <p:cNvPr id="53" name="1 CuadroTexto"/>
          <p:cNvSpPr/>
          <p:nvPr/>
        </p:nvSpPr>
        <p:spPr>
          <a:xfrm>
            <a:off x="900000" y="1844640"/>
            <a:ext cx="73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Los y las asesoras saben leer en su lengua indígena?, ¿escriben?, ¿leen en voz alt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ómo identifican las competencias de lectura y escritura que tienen los asesores/a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Todas las y los asesores han recibido el curso de lectura y escritura de la lengua indígen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tenidos abordan en el curso?, ¿qué duración tien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ómo fortalecen las competencias de lectura y escritura de sus asesoras/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 CuadroTexto"/>
          <p:cNvSpPr/>
          <p:nvPr/>
        </p:nvSpPr>
        <p:spPr>
          <a:xfrm>
            <a:off x="1042920" y="1197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70c0"/>
                </a:solidFill>
                <a:latin typeface="Arial"/>
              </a:rPr>
              <a:t>Para comentar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1841400" y="230040"/>
            <a:ext cx="597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Formación para alfabetizadores y asesores bilingües del nivel inic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556000" y="1413000"/>
            <a:ext cx="1523880" cy="11365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RMACIÓ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INIC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6 horas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727200" y="1420920"/>
            <a:ext cx="1439640" cy="113652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LECTURA Y ESCRITURA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DE LA LENGUA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INDÍGEN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100" spc="-1" strike="noStrike">
                <a:solidFill>
                  <a:srgbClr val="000000"/>
                </a:solidFill>
                <a:latin typeface="Calibri"/>
              </a:rPr>
              <a:t>12 horas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4186080" y="1455840"/>
            <a:ext cx="1368720" cy="10825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MEJORA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LA PRÁCTICA I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2 ho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5796000" y="1428840"/>
            <a:ext cx="1368360" cy="11365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MEJORA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LA PRÁCTICA  I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2 hora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79280" y="1798560"/>
            <a:ext cx="432000" cy="45237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763560" y="2660760"/>
            <a:ext cx="14032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70c0"/>
                </a:solidFill>
                <a:latin typeface="Calibri"/>
              </a:rPr>
              <a:t>Lengua escrita: sus características y us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70c0"/>
                </a:solidFill>
                <a:latin typeface="Calibri"/>
              </a:rPr>
              <a:t>El alfabeto y las características de la lengua indíge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70c0"/>
                </a:solidFill>
                <a:latin typeface="Calibri"/>
              </a:rPr>
              <a:t>Para mejorar la lectura en lengua indíge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70c0"/>
                </a:solidFill>
                <a:latin typeface="Calibri"/>
              </a:rPr>
              <a:t>Escribir más y mejor en la lengua indíge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543040" y="2629080"/>
            <a:ext cx="1549440" cy="348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Situación del analfabetismo  y compromiso del alfabetizad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Características y motivación  de las PJ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El MIB: características, estructura, nivel inicial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Concepto  y valor de la alfabetizació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Promoción y aplicación de la entrevista inici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Metodología de la alfabetización en lengua mater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Metodología del aprendizaje del  español como segunda lengu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Planeación  de las asesorías  y  evaluación del aprendizaj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5796000" y="2698920"/>
            <a:ext cx="1440000" cy="269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Recuperación de la práctic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La lectura y la escritura en una segunda lengu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el MIBES 4: los materiales y su uso, la metodología para el trabajo con el módul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el vocabulario del MIBES 4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reparación de las asesorí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725400" y="4245120"/>
            <a:ext cx="1441440" cy="40464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HABLO Y ESCRIBO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ESPAÑOL </a:t>
            </a:r>
            <a:r>
              <a:rPr b="1" lang="es-MX" sz="900" spc="-1" strike="noStrike">
                <a:solidFill>
                  <a:srgbClr val="ff0000"/>
                </a:solidFill>
                <a:latin typeface="Calibri"/>
              </a:rPr>
              <a:t>(opcional)</a:t>
            </a:r>
            <a:r>
              <a:rPr b="1" lang="es-MX" sz="1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2 hor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27200" y="4815000"/>
            <a:ext cx="1514520" cy="147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Aprendizaje del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xpresión y comprensión oral en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strategias para la lectura y escritura de textos en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4213080" y="2670120"/>
            <a:ext cx="1366920" cy="353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Recuperación de mi práctica alfabetizador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Importancia de la escritura en lengua indígen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Bases para la lectura y escritura en lengua indígena:  El trabajo con el MIBES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Tratamiento de  variantes dialecta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Fortalecimiento  del trabajo con MIBES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reparación de las asesorí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7377120" y="2703600"/>
            <a:ext cx="1441440" cy="307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La alfabetización y su vinculación con la vida de las person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MIBES 3:  los materiales y su uso, los momentos metodológicos para el trabajo con el módulo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el MIBES 5: materiales y su uso, momentos metodológicos para el  trabajo con el módul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reparación de las asesorí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7377120" y="1398600"/>
            <a:ext cx="1368360" cy="11365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CONCLUIR E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NIVEL INIC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2 hora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9"/>
          <p:cNvSpPr/>
          <p:nvPr/>
        </p:nvSpPr>
        <p:spPr>
          <a:xfrm>
            <a:off x="5796000" y="32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0" y="6543720"/>
            <a:ext cx="914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CuadroTexto"/>
          <p:cNvSpPr/>
          <p:nvPr/>
        </p:nvSpPr>
        <p:spPr>
          <a:xfrm>
            <a:off x="1898640" y="2565360"/>
            <a:ext cx="53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70c0"/>
                </a:solidFill>
                <a:latin typeface="Arial"/>
              </a:rPr>
              <a:t>Revisión del ejercicio diagnóstico para identificar las competencias de lectura y escritura de los alfabetizadores en su lengua indíge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2 CuadroTexto"/>
          <p:cNvSpPr/>
          <p:nvPr/>
        </p:nvSpPr>
        <p:spPr>
          <a:xfrm>
            <a:off x="611280" y="692280"/>
            <a:ext cx="7416720" cy="82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70c0"/>
                </a:solidFill>
                <a:latin typeface="Arial"/>
              </a:rPr>
              <a:t>El curso de Lectura y escritura de la lengua indíg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 el primer curso de formación que recibirán los alfabetizadores y asesores del nivel inici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mite el desarrollo de las competencias de lectura y escritura de la lengua indígena de los alfabetizador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borda contenidos referidos al alfabeto y las características de la lengua indíg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avorece el conocimiento y apropiación de la metodología para la lectura de diferentes tipos de texto y el uso de estrategias sencillas para la comprensión de la lectura y la lectura en voz alta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avorece el conocimiento y apropiación de la metodología para la producción de diferentes tipos de text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70c0"/>
                </a:solidFill>
                <a:latin typeface="Arial"/>
              </a:rPr>
              <a:t>En el cur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propicia la ejemplificación de las metodologías y su ejercit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utiliza el MIBES 7 y si no se cuenta con este material con el MIBES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sensibiliza a los alfabetizadores/as para continuar desarrollando sus competencias de lectura y escritura después del cur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propicia el desarrollo de otros cursos, talleres o reuniones en los que se continúen fortaleciendo las competencias de lectura y escritura de la lengua indígena de los alfabetizadores, por ejemplo en las Reuniones de balance educativ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1547640" y="285264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70c0"/>
                </a:solidFill>
                <a:latin typeface="Arial"/>
              </a:rPr>
              <a:t>Revisión del curso de Lectura y escritura de le lengua indíge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6:57:07Z</dcterms:created>
  <dc:creator>Mramirez</dc:creator>
  <dc:description/>
  <dc:language>en-US</dc:language>
  <cp:lastModifiedBy>PPerez</cp:lastModifiedBy>
  <cp:lastPrinted>2015-09-22T20:49:39Z</cp:lastPrinted>
  <dcterms:modified xsi:type="dcterms:W3CDTF">2015-09-22T20:51:14Z</dcterms:modified>
  <cp:revision>221</cp:revision>
  <dc:subject/>
  <dc:title>Formación para Asesores/Alfabetizadores MIB</dc:title>
</cp:coreProperties>
</file>