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F365-81B6-4DD0-ACD0-02C53C27288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AE1A-95F9-4680-92F0-68533F5C460D}" type="slidenum">
              <a:rPr b="0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F1AD-61B3-462B-8B16-B7038CE4FDF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A3BE-32C8-41CA-9916-D7A06DAD82A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BD68-7BF2-4E2E-8DBB-66B168B5AD3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8E9A-9C52-41D6-867E-FAC016DF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57B8-6B6E-4FAE-AA48-EDDCDA38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CEA2-7AE5-4BF0-A05E-40F8BFE9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646F-41B9-4F34-A5F5-B06E564C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8B46-9F1B-4293-B1AF-F93AFDEA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6887-E085-4487-969C-6A4DCB9D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78BC-E480-4611-B4D4-1101B279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8186-F511-4C5E-AB3A-3D6861F3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8B18-BDF2-49E8-84A0-A38626BA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2A4E-7878-4CD6-A47E-01746387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281A-40D4-4E4F-B1ED-C8B4B4FB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43FB-2FA6-4D26-8D1E-EBAB9C59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1E02-9859-44D8-8D69-059CBE4E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C0FF-5D36-4CDD-8344-D9CF3149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4142-55EA-45C9-8F12-F9AE5663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4B48-769D-42F9-9901-C807A5BA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EAAD-AA4F-4218-85F2-A7A80BC5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1E5BE3-9B19-4FD8-9FFA-996F3FB5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B0822A-35DB-41C0-8F3D-64295F4A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3F5527-3958-4303-A20C-98437F55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AB6C3B-924F-4970-BAF1-C4D4349F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7EE60-EA6A-4FB3-852B-DEC48406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3042-FE23-4839-9520-15C1774A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C84489-AD79-4B8A-AD0D-F507D20B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6AB63-228B-4DE1-ACA8-F65FF0E0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10C239-F6EE-45BE-8EF5-E4440CB3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CE528E-E2CC-4F74-89B8-D4326019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24705E-C9D6-4B08-9336-0D921F42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B0C681-9A0E-421B-AB5C-F57F769C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13386B-FA57-48DC-AB3A-50C87EE3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0FF17-08C0-425A-9A45-D08BBFC1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B108B-467D-4452-A076-7F0EBFFF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684CD-6E30-417F-B860-7EB6BB9D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15B1-629A-48CF-A0FD-76A4F1C4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F1AD9-5DD8-424B-9F21-A94FA27F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3BDC3-7BF7-4510-8E09-3BB3B811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0F57C-1270-4816-B494-6C985872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12957-2553-4806-92E4-E9B2B6EE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0BC9A-6FF3-4D01-86D1-E0FA83EF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93F80-F980-4B67-92C1-EBB25F2B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5AA7C-43EE-42AF-8871-65363587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DB1E6-7F85-4B37-8475-55E76A37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5B644-676E-4F93-ABA9-B7E58182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B33B-2866-4F05-970B-BAA0B2F6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E7B9-4C7C-4A22-BAD7-F6DE0B82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254A-FF0B-4226-9F6B-C3BF274B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76E9-578F-4316-8790-37C1B506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DD8B-1AB0-48D7-B83B-1C9A931B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7CD7-55A9-456C-A446-9682EA2B2B8C}" type="slidenum"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746D-4918-4079-B1A4-CCE76A3FF6AB}" type="slidenum">
              <a:rPr b="0" lang="es-MX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8EA8-D422-422B-B1D2-C0AE28FB15FD}" type="slidenum"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A72E-53FB-4F7C-BD5F-190D647E1385}" type="slidenum"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Imagen 2" descr=""/>
          <p:cNvPicPr/>
          <p:nvPr/>
        </p:nvPicPr>
        <p:blipFill>
          <a:blip r:embed="rId1"/>
          <a:stretch/>
        </p:blipFill>
        <p:spPr>
          <a:xfrm>
            <a:off x="1582560" y="2538360"/>
            <a:ext cx="5969160" cy="2374920"/>
          </a:xfrm>
          <a:prstGeom prst="rect">
            <a:avLst/>
          </a:prstGeom>
          <a:ln w="0">
            <a:noFill/>
          </a:ln>
        </p:spPr>
      </p:pic>
      <p:sp>
        <p:nvSpPr>
          <p:cNvPr id="343" name="Rectángulo 26"/>
          <p:cNvSpPr/>
          <p:nvPr/>
        </p:nvSpPr>
        <p:spPr>
          <a:xfrm>
            <a:off x="2556000" y="2852640"/>
            <a:ext cx="4032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1 Rectángulo"/>
          <p:cNvSpPr/>
          <p:nvPr/>
        </p:nvSpPr>
        <p:spPr>
          <a:xfrm>
            <a:off x="2050920" y="2979720"/>
            <a:ext cx="5029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  <a:ea typeface="Tahoma"/>
              </a:rPr>
              <a:t>Tema 1.  La lengua escri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CARACTERÍSTICAS LENGUA  ORAL Y ESCRITA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6 CuadroTexto"/>
          <p:cNvSpPr/>
          <p:nvPr/>
        </p:nvSpPr>
        <p:spPr>
          <a:xfrm>
            <a:off x="3132000" y="2781360"/>
            <a:ext cx="2880000" cy="1556280"/>
          </a:xfrm>
          <a:prstGeom prst="rect">
            <a:avLst/>
          </a:prstGeom>
          <a:noFill/>
          <a:ln w="9360">
            <a:solidFill>
              <a:srgbClr val="d77c01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spacios o contextos de la L. escr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1 CuadroTexto"/>
          <p:cNvSpPr/>
          <p:nvPr/>
        </p:nvSpPr>
        <p:spPr>
          <a:xfrm>
            <a:off x="6316560" y="1468440"/>
            <a:ext cx="1190880" cy="368280"/>
          </a:xfrm>
          <a:prstGeom prst="rect">
            <a:avLst/>
          </a:prstGeom>
          <a:noFill/>
          <a:ln w="9360">
            <a:solidFill>
              <a:srgbClr val="d77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famil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8 CuadroTexto"/>
          <p:cNvSpPr/>
          <p:nvPr/>
        </p:nvSpPr>
        <p:spPr>
          <a:xfrm>
            <a:off x="1606680" y="1628640"/>
            <a:ext cx="1190520" cy="368280"/>
          </a:xfrm>
          <a:prstGeom prst="rect">
            <a:avLst/>
          </a:prstGeom>
          <a:noFill/>
          <a:ln w="9360">
            <a:solidFill>
              <a:srgbClr val="716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cue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9 CuadroTexto"/>
          <p:cNvSpPr/>
          <p:nvPr/>
        </p:nvSpPr>
        <p:spPr>
          <a:xfrm>
            <a:off x="4140360" y="1197000"/>
            <a:ext cx="1190520" cy="368280"/>
          </a:xfrm>
          <a:prstGeom prst="rect">
            <a:avLst/>
          </a:prstGeom>
          <a:noFill/>
          <a:ln w="9360">
            <a:solidFill>
              <a:srgbClr val="716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10 CuadroTexto"/>
          <p:cNvSpPr/>
          <p:nvPr/>
        </p:nvSpPr>
        <p:spPr>
          <a:xfrm>
            <a:off x="6981840" y="3789360"/>
            <a:ext cx="1190520" cy="368280"/>
          </a:xfrm>
          <a:prstGeom prst="rect">
            <a:avLst/>
          </a:prstGeom>
          <a:noFill/>
          <a:ln w="9360">
            <a:solidFill>
              <a:srgbClr val="d77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municip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12 CuadroTexto"/>
          <p:cNvSpPr/>
          <p:nvPr/>
        </p:nvSpPr>
        <p:spPr>
          <a:xfrm>
            <a:off x="573120" y="2793960"/>
            <a:ext cx="1190520" cy="916920"/>
          </a:xfrm>
          <a:prstGeom prst="rect">
            <a:avLst/>
          </a:prstGeom>
          <a:noFill/>
          <a:ln w="9360">
            <a:solidFill>
              <a:srgbClr val="716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línica o centro de salu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13 CuadroTexto"/>
          <p:cNvSpPr/>
          <p:nvPr/>
        </p:nvSpPr>
        <p:spPr>
          <a:xfrm>
            <a:off x="2266920" y="5445000"/>
            <a:ext cx="1513080" cy="368280"/>
          </a:xfrm>
          <a:prstGeom prst="rect">
            <a:avLst/>
          </a:prstGeom>
          <a:noFill/>
          <a:ln w="9360">
            <a:solidFill>
              <a:srgbClr val="d77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samble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14 CuadroTexto"/>
          <p:cNvSpPr/>
          <p:nvPr/>
        </p:nvSpPr>
        <p:spPr>
          <a:xfrm>
            <a:off x="7270920" y="2781360"/>
            <a:ext cx="1188720" cy="368280"/>
          </a:xfrm>
          <a:prstGeom prst="rect">
            <a:avLst/>
          </a:prstGeom>
          <a:noFill/>
          <a:ln w="9360">
            <a:solidFill>
              <a:srgbClr val="d77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ca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15 CuadroTexto"/>
          <p:cNvSpPr/>
          <p:nvPr/>
        </p:nvSpPr>
        <p:spPr>
          <a:xfrm>
            <a:off x="861840" y="4581360"/>
            <a:ext cx="1189080" cy="368280"/>
          </a:xfrm>
          <a:prstGeom prst="rect">
            <a:avLst/>
          </a:prstGeom>
          <a:noFill/>
          <a:ln w="9360">
            <a:solidFill>
              <a:srgbClr val="d77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tien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16 CuadroTexto"/>
          <p:cNvSpPr/>
          <p:nvPr/>
        </p:nvSpPr>
        <p:spPr>
          <a:xfrm>
            <a:off x="4356000" y="5651640"/>
            <a:ext cx="1190880" cy="368280"/>
          </a:xfrm>
          <a:prstGeom prst="rect">
            <a:avLst/>
          </a:prstGeom>
          <a:noFill/>
          <a:ln w="9360">
            <a:solidFill>
              <a:srgbClr val="d77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municip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17 CuadroTexto"/>
          <p:cNvSpPr/>
          <p:nvPr/>
        </p:nvSpPr>
        <p:spPr>
          <a:xfrm>
            <a:off x="6621480" y="4941720"/>
            <a:ext cx="1550880" cy="916920"/>
          </a:xfrm>
          <a:prstGeom prst="rect">
            <a:avLst/>
          </a:prstGeom>
          <a:noFill/>
          <a:ln w="9360">
            <a:solidFill>
              <a:srgbClr val="d77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ctividades y reuniones comunitaria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3 Conector recto"/>
          <p:cNvSpPr/>
          <p:nvPr/>
        </p:nvSpPr>
        <p:spPr>
          <a:xfrm flipV="1">
            <a:off x="4735440" y="1566720"/>
            <a:ext cx="0" cy="121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21 Conector recto"/>
          <p:cNvSpPr/>
          <p:nvPr/>
        </p:nvSpPr>
        <p:spPr>
          <a:xfrm flipV="1">
            <a:off x="5330880" y="1838160"/>
            <a:ext cx="1581120" cy="9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24 Conector recto"/>
          <p:cNvSpPr/>
          <p:nvPr/>
        </p:nvSpPr>
        <p:spPr>
          <a:xfrm flipH="1" flipV="1">
            <a:off x="2797200" y="1998720"/>
            <a:ext cx="766800" cy="8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27 Conector recto"/>
          <p:cNvSpPr/>
          <p:nvPr/>
        </p:nvSpPr>
        <p:spPr>
          <a:xfrm flipV="1">
            <a:off x="6022800" y="2965320"/>
            <a:ext cx="1114560" cy="3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29 Conector recto"/>
          <p:cNvSpPr/>
          <p:nvPr/>
        </p:nvSpPr>
        <p:spPr>
          <a:xfrm>
            <a:off x="6022800" y="3973680"/>
            <a:ext cx="8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2 Conector recto"/>
          <p:cNvSpPr/>
          <p:nvPr/>
        </p:nvSpPr>
        <p:spPr>
          <a:xfrm flipH="1" flipV="1">
            <a:off x="5985000" y="4351320"/>
            <a:ext cx="63648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34 Conector recto"/>
          <p:cNvSpPr/>
          <p:nvPr/>
        </p:nvSpPr>
        <p:spPr>
          <a:xfrm flipV="1">
            <a:off x="4951440" y="4371840"/>
            <a:ext cx="0" cy="121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5 Conector recto"/>
          <p:cNvSpPr/>
          <p:nvPr/>
        </p:nvSpPr>
        <p:spPr>
          <a:xfrm flipV="1">
            <a:off x="3022560" y="4351320"/>
            <a:ext cx="541440" cy="10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7 Conector recto"/>
          <p:cNvSpPr/>
          <p:nvPr/>
        </p:nvSpPr>
        <p:spPr>
          <a:xfrm flipH="1" flipV="1">
            <a:off x="1763640" y="3255840"/>
            <a:ext cx="133992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40 Conector recto"/>
          <p:cNvSpPr/>
          <p:nvPr/>
        </p:nvSpPr>
        <p:spPr>
          <a:xfrm flipH="1">
            <a:off x="2050920" y="4118040"/>
            <a:ext cx="1052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ángulo 2"/>
          <p:cNvSpPr/>
          <p:nvPr/>
        </p:nvSpPr>
        <p:spPr>
          <a:xfrm>
            <a:off x="655560" y="1052640"/>
            <a:ext cx="81774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ENGUA ORAL: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 una forma de comunicación humana que se apoya de otros recursos gestuales y adema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mbién es conocido como «Lenguaje hablado», donde a través de la voz se emiten fonemas que se combinan para formar palabras y  frases con significado para comunicar mensaj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s mensajes son captados por medio del oíd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Imagen 3" descr=""/>
          <p:cNvPicPr/>
          <p:nvPr/>
        </p:nvPicPr>
        <p:blipFill>
          <a:blip r:embed="rId1"/>
          <a:stretch/>
        </p:blipFill>
        <p:spPr>
          <a:xfrm>
            <a:off x="1523880" y="4610160"/>
            <a:ext cx="5776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4 CuadroTexto"/>
          <p:cNvSpPr/>
          <p:nvPr/>
        </p:nvSpPr>
        <p:spPr>
          <a:xfrm>
            <a:off x="527040" y="2119320"/>
            <a:ext cx="7950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  <a:ea typeface="MS PGothic"/>
              </a:rPr>
              <a:t>LENGUA ESCRITA,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MS PGothic"/>
              </a:rPr>
              <a:t>es una representación a través de código o signos para expresar y comunicar ideas y tiene sus propias reglas. Es una invención y como tal debe ser enseñ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Imagen 2" descr=""/>
          <p:cNvPicPr/>
          <p:nvPr/>
        </p:nvPicPr>
        <p:blipFill>
          <a:blip r:embed="rId1"/>
          <a:stretch/>
        </p:blipFill>
        <p:spPr>
          <a:xfrm>
            <a:off x="2552760" y="4448160"/>
            <a:ext cx="358920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611280" y="1862280"/>
            <a:ext cx="359892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engua or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usa el canal auditiv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enguaje espontan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 inmediata en tiempo y espaci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queda registr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442800" y="1136520"/>
            <a:ext cx="83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d0d0d"/>
                </a:solidFill>
                <a:latin typeface="Arial"/>
              </a:rPr>
              <a:t>Características y diferencias contextu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C:\Users\ELY\Desktop\F.Alfabetizadores\Doctos.Recibidos email\FOTOS 1\chamulas\f45.jpg"/>
          <p:cNvPicPr/>
          <p:nvPr/>
        </p:nvPicPr>
        <p:blipFill>
          <a:blip r:embed="rId1"/>
          <a:stretch/>
        </p:blipFill>
        <p:spPr>
          <a:xfrm>
            <a:off x="1716120" y="4818240"/>
            <a:ext cx="1671480" cy="167004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2"/>
          <p:cNvSpPr/>
          <p:nvPr/>
        </p:nvSpPr>
        <p:spPr>
          <a:xfrm>
            <a:off x="4878360" y="1784520"/>
            <a:ext cx="359892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engua escr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usa el canal vis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quiere mas elaboración  para comunic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mensaje llega después de haberse emitido (es diferido en espacio y tiemp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Queda registr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611280" y="1720800"/>
            <a:ext cx="79930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7030a0"/>
                </a:solidFill>
                <a:latin typeface="Arial"/>
              </a:rPr>
              <a:t>Ejemplo de lengua oral</a:t>
            </a:r>
            <a:r>
              <a:rPr b="0" lang="es-MX" sz="2400" spc="-1" strike="noStrike">
                <a:solidFill>
                  <a:srgbClr val="7030a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« Ya po´h, entonces me fui corriendo porque el bus ya venía… no quería que se me pasara o sino iba a llegar  retarde a la paga. Al final el chofer paró mah lejo´h y no lo alcancé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744480" y="1628640"/>
            <a:ext cx="397188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engua or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acentúa las variantes dialec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lección de ideas menos cuidad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mportancia a la enton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ructura de frases sencil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ocabulario poco específ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681120" y="684360"/>
            <a:ext cx="83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d0d0d"/>
                </a:solidFill>
                <a:latin typeface="Arial"/>
              </a:rPr>
              <a:t>Características y diferencias textu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4713120" y="1628640"/>
            <a:ext cx="391032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engua escr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minuye las variantes dialec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vita repeticio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so de signos de puntuación y conectores entre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ructura frases más elaboradas y lar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ocabulario más preci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ángulo 2"/>
          <p:cNvSpPr/>
          <p:nvPr/>
        </p:nvSpPr>
        <p:spPr>
          <a:xfrm>
            <a:off x="804960" y="765000"/>
            <a:ext cx="7456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7030a0"/>
                </a:solidFill>
                <a:latin typeface="Arial"/>
              </a:rPr>
              <a:t>Ejemplo de lengua escrita</a:t>
            </a:r>
            <a:r>
              <a:rPr b="0" lang="es-MX" sz="2800" spc="-1" strike="noStrike">
                <a:solidFill>
                  <a:srgbClr val="7030a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«Ese día salí temprano para poder tomar el bus a la hora y no llegar tarde a la oficina. Al salir de casa, me di cuenta de que el bus ya venía, por lo que empecé a correr. Sin embargo, mis esfuerzos fueron en vano ya que el chofer del bus se detuvo demasiado lejos y no lo alcancé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Imagen 3" descr=""/>
          <p:cNvPicPr/>
          <p:nvPr/>
        </p:nvPicPr>
        <p:blipFill>
          <a:blip r:embed="rId1"/>
          <a:stretch/>
        </p:blipFill>
        <p:spPr>
          <a:xfrm>
            <a:off x="6540480" y="1193760"/>
            <a:ext cx="172080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Imagen 2" descr=""/>
          <p:cNvPicPr/>
          <p:nvPr/>
        </p:nvPicPr>
        <p:blipFill>
          <a:blip r:embed="rId1"/>
          <a:stretch/>
        </p:blipFill>
        <p:spPr>
          <a:xfrm>
            <a:off x="1582560" y="2538360"/>
            <a:ext cx="5969160" cy="2374920"/>
          </a:xfrm>
          <a:prstGeom prst="rect">
            <a:avLst/>
          </a:prstGeom>
          <a:ln w="0">
            <a:noFill/>
          </a:ln>
        </p:spPr>
      </p:pic>
      <p:sp>
        <p:nvSpPr>
          <p:cNvPr id="360" name="1 Rectángulo"/>
          <p:cNvSpPr/>
          <p:nvPr/>
        </p:nvSpPr>
        <p:spPr>
          <a:xfrm>
            <a:off x="2135160" y="35002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  <a:ea typeface="Tahoma"/>
              </a:rPr>
              <a:t>Necesidades de  uso de la lengua escri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3203640" y="2133720"/>
            <a:ext cx="2448000" cy="44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ficina Registro civ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611280" y="735120"/>
            <a:ext cx="7993080" cy="459720"/>
          </a:xfrm>
          <a:prstGeom prst="rect">
            <a:avLst/>
          </a:prstGeom>
          <a:noFill/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d0d0d"/>
                </a:solidFill>
                <a:latin typeface="Arial"/>
              </a:rPr>
              <a:t>Textos, lugares y necesidades de la lengua escr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5940360" y="2133720"/>
            <a:ext cx="2664000" cy="415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)  Tramitar copia  del Acta de nacimien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825480" y="2060640"/>
            <a:ext cx="2165400" cy="442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)-Cartel de requisi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3203640" y="1341360"/>
            <a:ext cx="2448000" cy="67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uga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826920" y="1341360"/>
            <a:ext cx="21639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xtos y format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5940360" y="1268280"/>
            <a:ext cx="26640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pósito o inten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6T04:17:26Z</dcterms:created>
  <dc:creator>ELY</dc:creator>
  <dc:description/>
  <dc:language>en-US</dc:language>
  <cp:lastModifiedBy>ELY</cp:lastModifiedBy>
  <dcterms:modified xsi:type="dcterms:W3CDTF">2014-11-06T10:04:18Z</dcterms:modified>
  <cp:revision>13</cp:revision>
  <dc:subject/>
  <dc:title>Presentación de PowerPoint</dc:title>
</cp:coreProperties>
</file>