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3FC-A5DB-48F0-B610-98058907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CE4-4BAC-4376-A15C-DEA9453F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4D6-35D7-4D79-87CA-4AF15D00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0D4-5723-4445-82FE-B313FA53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C404-AC48-4BFD-86EF-DF663F77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111D-0620-42FC-BCF8-1D2D2E2B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AB55-AD4B-4B93-9368-96F7E6B2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5067-51B4-4B90-B688-07C6C5E9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817A-0A7F-4402-BD3F-3D5AB8ED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06F3-DE55-4975-9C01-BDD104C9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1E84-D84A-463A-904B-886F3953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54F-F698-4878-81BB-BC9E9104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E038-69E0-48C0-992A-0308BD76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A87A-0D21-4642-BCD7-C1FFC97E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3848-C6FF-43B1-A38C-70CC854A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4AB1-0260-4E29-89E7-BACEF7EC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678D-3B70-4C63-9DF1-66C5795F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0A79-FDD4-42F6-87A8-E52181A7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6F5A-EB5D-4F66-BF08-5C4599E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50BB-77F2-4B1D-8DCD-6F7984B7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05A7-35BC-4906-A17E-D817B992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DE01-A555-4FF8-BC20-BC1F6DE6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9AB-2DF7-43AA-A285-D6E04770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4388-20C6-47BC-B102-1A003794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41F1-532A-4D19-BC71-B250CA4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BBCB5-E44D-40EE-9AAD-C1A187BF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E699-65EC-416E-8BD2-CB447F37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AADE-22DF-47C1-86D3-33FCF312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FFBD8-91FA-4B4F-8E13-6B8444BB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8777-0232-4BE5-BC9B-7AFA3E37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4CC6-E951-4C78-AE2C-84CA9947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A5755-4913-454C-8DA8-96C8CC8C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5800-FAB4-4EC3-8CCB-730A8B57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BF9-2E73-43ED-B4F4-3B0D994F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CF2A-A751-45B7-B8E9-FBE049EF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7E16-D678-46F3-8018-54A571F0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699B2-B8F3-4F71-8CD7-0BCCA7FB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D08A4-36BB-482F-8686-089A821F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12870-5DE1-4AD6-B937-C722FCA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E2CED-42FA-4C38-BB17-C93AE7C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3CB5C-0408-4FE1-99EC-DD3F2899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F0DF5-8C1F-4E69-BC67-9296B77C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43FEF-4260-4F97-A5CB-57C8EFA5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C4DE7-B191-488B-A435-1DA241A8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51B-2C0D-4D9F-8F8E-76EED76D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2CB0-AAA2-48DE-966B-E81AAF2A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5857D-7FFA-49B5-85CD-CDEA64CE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76134-A047-4300-B6AC-EC1DF47E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F5C9E-1AC1-440A-94C4-540CE9AC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3D39-3409-4D2E-888D-78055141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9DD43-3D60-4DC2-AFC3-6DB2470B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86963-CC6F-472B-9D2E-808D0B26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CB561-3742-4FC2-B120-FB0C4686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DE25-8556-4431-90C5-66E1B37D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03B5A-7DCA-4E94-9F1D-8043E3CD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777-799E-4086-B1A4-EE51D71E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AB55B-FA5E-418C-B4E2-432C2D06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70D29-3672-4813-B333-ADF05D27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28403-375B-44FB-A033-65D5A09D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332D-6F52-4EE6-A193-F8DF5FC2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399B8-AEC9-47B5-B0DF-8A46E9C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356BC-5EBF-4E5A-A9BB-5D946851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C51E6-BDDD-42A4-BE1F-61EF911F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0EBAE-1279-480D-B45B-7E29EEF9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6D4AA-E2B3-4157-B52D-A3124CE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5BAB-0691-4691-9E49-E12D919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9C0-90D0-4BBD-8C69-C726BF3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05393-A0B3-4B23-B79B-9C4CAF00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56CA1-3A9D-4C53-8D19-34B5FE38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19208-7CC8-4A31-B39F-7E451FE3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BA54F-C151-4DD1-A730-11BE3C77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04FFE-7D3E-4785-8CA9-1EA6ABC4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797CA-6BCC-44FF-97B7-CB7C6F5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1417F-9373-48D3-98A6-4EACE670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0694B-43DA-4A24-B7F6-DDC8D923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5823E-4347-4899-98F3-193FB7C0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1CF9E-78BC-4A7B-AD49-939AC01C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682-1DA1-42D1-AA4F-F4C8161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A8E80-30FB-405D-8711-2DF0458F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D797B-BA06-45E2-9C53-62D125BF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DB49F-AF29-4658-9D5B-62372EEC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505A-CBC3-4745-BA1A-01EA3DBE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72518-ADD4-41BC-AE88-28848EAE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A054E-A947-4B98-8E16-907CD208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2CF42-3B8E-4EFC-8A60-065B9321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6FCBB-0FBB-4A53-8400-3AD7DCA1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5CC34-124F-49D3-91E5-5F0CFEBB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9F04F-30D8-42CD-BE9F-A169F420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440-C77A-49D6-9B6C-3AC1F778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65632-4CA5-44CE-A238-38798B3B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775B3-3CE3-4785-82E5-918C06D6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11AC0-035C-49F0-BD6E-A53D9845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7A3C5-EDC3-4E75-8516-04AAD07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1BDE6-64DA-4847-AD97-DC5F9ECB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55472-2B1D-4567-90B0-83F9EDD8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42B31-1C91-415F-94AB-B396D659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868C-2CBC-41C4-8269-F2AE3F7408CC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5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51" name="18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8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pic>
          <p:nvPicPr>
            <p:cNvPr id="54" name="19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FCBE-3B0A-444D-85ED-B647548757EB}" type="slidenum"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11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4E23-86B8-4ADC-B84A-A40217076C6B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CCA8-2391-4F73-8451-07D742BA15F2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026E-6935-4798-87E6-FFDAD3F66980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750B-93E8-44A2-AD2B-5B81E3D7A682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69A8-6156-4582-A388-A6A7EC729D2A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23" name="15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5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326" name="16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8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19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F04B-7570-4A52-BFC9-0463314F7076}" type="slidenum"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4 Rectángulo"/>
          <p:cNvSpPr/>
          <p:nvPr/>
        </p:nvSpPr>
        <p:spPr>
          <a:xfrm>
            <a:off x="1356480" y="155736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5e2d37"/>
                </a:solidFill>
                <a:latin typeface="Century Gothic"/>
                <a:ea typeface="MS PGothic"/>
              </a:rPr>
              <a:t>Tareas del alfabetizador del MIB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8920" y="119700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Conoce a las personas y favorece su motivación para que aprendan a leer y escribir y no se desanime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Fomenta que las personas participen y aporten lo que sabe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Apoya las actividades que realizan las personas para aprender a leer y escribir con la ayuda de los materiales didáctic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Promueve el diálogo para que las personas aporten lo que saben, reflexionen y construyan nuevos conocimientos sobre la lectura y escritur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ealimenta y orienta el aprendizaje de las persona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espeta y propicia el respeto a los demás y a sus participacion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38040" y="1071360"/>
            <a:ext cx="84679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b050"/>
                </a:solidFill>
                <a:latin typeface="Lucida Sans Unicode"/>
              </a:rPr>
              <a:t>Antes de la asesorí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Aplicar la entrevista inici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evisar los módulos y la guía del alfabetizador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Planear las asesorí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b050"/>
                </a:solidFill>
                <a:latin typeface="Lucida Sans Unicode"/>
              </a:rPr>
              <a:t>Durante las asesorí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Crear  un ambiente  favorable para el aprendiza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Conocer y favorece la motivación de las personas  por aprend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ecuperar los saberes previos de  las persona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Propiciar el trabajo con los diferentes materiales de los módul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Vincular  los contenidos de la alfabetización con la vida de las person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Propiciar la creación de ambientes alfabetizado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4 Rectángulo"/>
          <p:cNvSpPr/>
          <p:nvPr/>
        </p:nvSpPr>
        <p:spPr>
          <a:xfrm>
            <a:off x="611280" y="54936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e2d37"/>
                </a:solidFill>
                <a:latin typeface="Lucida Sans Unicode"/>
                <a:ea typeface="MS PGothic"/>
              </a:rPr>
              <a:t>Tareas del alfabetizador  en las asesorí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87280" y="1776240"/>
            <a:ext cx="867888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Propiciar espacios para el trabajo colectivo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Hacer notar los avances y los aprendizajes  obtenid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Aplicar las evaluaciones formativas y realimentar a los educand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Ayudar a las personas a resolver sus dudas , reconocer sus errores y corregirlos y superar sus  dificultad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b050"/>
                </a:solidFill>
                <a:latin typeface="Lucida Sans Unicode"/>
              </a:rPr>
              <a:t>Después de la asesorí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egistrar aspectos significativos de la asesoría, en el Registro anecdótico (o anecdotario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Apoyar a las personas para que presenten su evaluación fina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Dar un acompañamiento más personal  a las personas que lo necesita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3 Rectángulo"/>
          <p:cNvSpPr/>
          <p:nvPr/>
        </p:nvSpPr>
        <p:spPr>
          <a:xfrm>
            <a:off x="611280" y="54936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e2d37"/>
                </a:solidFill>
                <a:latin typeface="Lucida Sans Unicode"/>
                <a:ea typeface="MS PGothic"/>
              </a:rPr>
              <a:t>Tareas del alfabetizador  en las asesorí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985160" cy="2103480"/>
          </a:xfrm>
          <a:prstGeom prst="rect">
            <a:avLst/>
          </a:prstGeom>
          <a:ln w="0">
            <a:noFill/>
          </a:ln>
        </p:spPr>
      </p:pic>
      <p:sp>
        <p:nvSpPr>
          <p:cNvPr id="378" name="4 Rectángulo"/>
          <p:cNvSpPr/>
          <p:nvPr/>
        </p:nvSpPr>
        <p:spPr>
          <a:xfrm>
            <a:off x="3292560" y="364500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e2d37"/>
                </a:solidFill>
                <a:latin typeface="Lucida Sans Unicode"/>
                <a:ea typeface="MS PGothic"/>
              </a:rPr>
              <a:t>Tareas del alfabetizador MIB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36720" bIns="3672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evaluación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camino de aprendizaje que iniciarán juntos tú y el educan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valuación no es serie de exámenes que se aplican para saber si alguien aprueba o reprueba, sino ese camino en el que tú y el educando tendrán que estudiar, realizar actividades constantes en los módulos, verificar el avance, resolver dudas, regresarse o detenerse a repasar, para seguir aprendiendo y alcanzar sus objetiv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evaluación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 como función valorar lo que ya sabe un educando, sus intereses, sus avances en el estudio, los temas que requiere repasar y para comprobar si ya alcanzó los propósitos de aprendizaje de un módul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304920" y="590400"/>
            <a:ext cx="83818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39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36720" bIns="36720" anchor="t">
            <a:normAutofit/>
          </a:bodyPr>
          <a:p>
            <a:pPr marL="114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¿Qué son las evaluaciones formativas?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14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on evaluaciones que se aplican al educando en diversos momentos de su proceso de aprendizaje, con el fin de que tanto él como tú identifiquen  lo que se ha aprendido y qué es necesario reforzar y realimenta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14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Lucida Sans Unicode"/>
            </a:endParaRPr>
          </a:p>
          <a:p>
            <a:pPr marL="114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¿Qué utilidad tienen las  evaluaciones formativas?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144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su aplicación, tú como alfabetizador/asesor educativo bilingüe y el educando podrán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1 Título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6"/>
          <p:cNvGrpSpPr/>
          <p:nvPr/>
        </p:nvGrpSpPr>
        <p:grpSpPr>
          <a:xfrm>
            <a:off x="611280" y="3448080"/>
            <a:ext cx="2508120" cy="1493640"/>
            <a:chOff x="611280" y="3448080"/>
            <a:chExt cx="2508120" cy="1493640"/>
          </a:xfrm>
        </p:grpSpPr>
        <p:pic>
          <p:nvPicPr>
            <p:cNvPr id="384" name="Picture 7" descr=""/>
            <p:cNvPicPr/>
            <p:nvPr/>
          </p:nvPicPr>
          <p:blipFill>
            <a:blip r:embed="rId2"/>
            <a:srcRect l="2611" t="0" r="0" b="0"/>
            <a:stretch/>
          </p:blipFill>
          <p:spPr>
            <a:xfrm>
              <a:off x="611280" y="3448080"/>
              <a:ext cx="250812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AutoShape 8"/>
            <p:cNvSpPr/>
            <p:nvPr/>
          </p:nvSpPr>
          <p:spPr>
            <a:xfrm>
              <a:off x="970560" y="3599280"/>
              <a:ext cx="1706400" cy="112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Valorar, con base en los resultados del examen, cuánto se </a:t>
              </a: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ha</a:t>
              </a: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 avanzado en el aprendizaje del módulo.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6" name="Group 9"/>
          <p:cNvGrpSpPr/>
          <p:nvPr/>
        </p:nvGrpSpPr>
        <p:grpSpPr>
          <a:xfrm>
            <a:off x="4173480" y="3429000"/>
            <a:ext cx="2486160" cy="1920960"/>
            <a:chOff x="4173480" y="3429000"/>
            <a:chExt cx="2486160" cy="1920960"/>
          </a:xfrm>
        </p:grpSpPr>
        <p:pic>
          <p:nvPicPr>
            <p:cNvPr id="387" name="Picture 10" descr=""/>
            <p:cNvPicPr/>
            <p:nvPr/>
          </p:nvPicPr>
          <p:blipFill>
            <a:blip r:embed="rId3"/>
            <a:srcRect l="2611" t="0" r="0" b="0"/>
            <a:stretch/>
          </p:blipFill>
          <p:spPr>
            <a:xfrm>
              <a:off x="4173480" y="3429000"/>
              <a:ext cx="24861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AutoShape 11"/>
            <p:cNvSpPr/>
            <p:nvPr/>
          </p:nvSpPr>
          <p:spPr>
            <a:xfrm>
              <a:off x="4529520" y="3641400"/>
              <a:ext cx="1691280" cy="145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etectar si hay temas en los que no se ha aprendido, y a los que es necesario regresar para comentar, revisar o volver a estudiar.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9" name="Group 12"/>
          <p:cNvGrpSpPr/>
          <p:nvPr/>
        </p:nvGrpSpPr>
        <p:grpSpPr>
          <a:xfrm>
            <a:off x="1619280" y="5013360"/>
            <a:ext cx="2863800" cy="1646280"/>
            <a:chOff x="1619280" y="5013360"/>
            <a:chExt cx="2863800" cy="1646280"/>
          </a:xfrm>
        </p:grpSpPr>
        <p:pic>
          <p:nvPicPr>
            <p:cNvPr id="390" name="Picture 13" descr=""/>
            <p:cNvPicPr/>
            <p:nvPr/>
          </p:nvPicPr>
          <p:blipFill>
            <a:blip r:embed="rId4"/>
            <a:srcRect l="2611" t="0" r="0" b="0"/>
            <a:stretch/>
          </p:blipFill>
          <p:spPr>
            <a:xfrm>
              <a:off x="1619280" y="5013360"/>
              <a:ext cx="286380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AutoShape 14"/>
            <p:cNvSpPr/>
            <p:nvPr/>
          </p:nvSpPr>
          <p:spPr>
            <a:xfrm>
              <a:off x="2046960" y="5262480"/>
              <a:ext cx="1948320" cy="113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Corroborar que lo que se ha estudiado se ha aprendido bien, lo que será una base importante para continuar aprendiendo lo que sigue.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92" name="Group 15"/>
          <p:cNvGrpSpPr/>
          <p:nvPr/>
        </p:nvGrpSpPr>
        <p:grpSpPr>
          <a:xfrm>
            <a:off x="6478560" y="4724280"/>
            <a:ext cx="2270160" cy="1657440"/>
            <a:chOff x="6478560" y="4724280"/>
            <a:chExt cx="2270160" cy="1657440"/>
          </a:xfrm>
        </p:grpSpPr>
        <p:pic>
          <p:nvPicPr>
            <p:cNvPr id="393" name="Picture 16" descr=""/>
            <p:cNvPicPr/>
            <p:nvPr/>
          </p:nvPicPr>
          <p:blipFill>
            <a:blip r:embed="rId5"/>
            <a:srcRect l="2611" t="0" r="0" b="0"/>
            <a:stretch/>
          </p:blipFill>
          <p:spPr>
            <a:xfrm>
              <a:off x="6478560" y="4724280"/>
              <a:ext cx="22701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AutoShape 17"/>
            <p:cNvSpPr/>
            <p:nvPr/>
          </p:nvSpPr>
          <p:spPr>
            <a:xfrm>
              <a:off x="6803640" y="4907520"/>
              <a:ext cx="1544400" cy="1252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Prepararse poco a poco, para resolver de mejor manera, el examen final del módulo</a:t>
              </a:r>
              <a:r>
                <a:rPr b="0" lang="es-MX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50560" y="1628280"/>
            <a:ext cx="8569080" cy="4845240"/>
          </a:xfrm>
          <a:prstGeom prst="rect">
            <a:avLst/>
          </a:prstGeom>
          <a:noFill/>
          <a:ln w="0">
            <a:noFill/>
          </a:ln>
        </p:spPr>
        <p:txBody>
          <a:bodyPr lIns="36720" rIns="36720" tIns="36720" bIns="36720" anchor="t">
            <a:normAutofit fontScale="97000"/>
          </a:bodyPr>
          <a:p>
            <a:pPr marL="110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Son evaluaciones de término de módulo, que tienen fines de acreditación de los mismos. Permiten conocer y asignar la calificación alcanzada al concluir el estudio de un módulo mediante la validación de evidencias y la presentación de un examen final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10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110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¿En  qué momento se aplica la evaluación final?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10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l final del estudio de cada módulo, por un aplicador y en una sede en la que se programa que acuda la persona joven o adulta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10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110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Para la presentación de este examen, te recomendamos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10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75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Comentar con los educandos que resolver todas las actividades del Libro del Adulto, les ayuda a comprender mejor los temas, además de que algunas actividades del libro pueden contar como evidencias para la presentación de exámene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10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75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Recordar que cada persona tiene su ritmo de aprendizaje, por lo que no se les debe forzar a presentar el examen si no se sienten 'preparadas aún. Es muy importante no exponerlas a un fracaso o un sentimiento de frustració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10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75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Procurar que las personas acudan al círculo de estudios al menos 6 horas a la semana, ya que esto les facilitará un aprendizaje progresivo y constant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10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75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Cuidar el proceso de las Evaluaciones formativas en todos sus aspectos, para poder determinar avances y problemas, y realimentar a la persona para superarlo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1 Título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6:33:12Z</dcterms:created>
  <dc:creator>ELY</dc:creator>
  <dc:description/>
  <dc:language>en-US</dc:language>
  <cp:lastModifiedBy>PPerez</cp:lastModifiedBy>
  <dcterms:modified xsi:type="dcterms:W3CDTF">2015-08-12T20:02:00Z</dcterms:modified>
  <cp:revision>19</cp:revision>
  <dc:subject/>
  <dc:title>Presentación de PowerPoint</dc:title>
</cp:coreProperties>
</file>