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png" ContentType="image/pn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C4DED-0CEC-478F-BC2B-10821615BC22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5B89F48-C9BD-470D-9CC3-76BCDA1B6CDB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F7D5D61-C673-4438-8127-C4C91329AA5A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010C616-BD05-4E08-9626-BADE1D699A20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21E8-817F-418B-83DA-96DA47055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191B-3FFD-415D-8BBA-ADB115401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1422-E3E5-46A1-A307-09DD35DA0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1CA9-0422-4FD1-A7D4-CD92B4FB4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BB27-C0A8-4E81-8F29-E6DD312DA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5AF4-2F07-4C28-9C3A-3D686E178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39CD-26C8-4C7D-94BB-FE21795DD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8303-7477-4C00-96C7-9C75FDBC8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AE08-28F7-443E-94FD-C0CEA6CE1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E0A5-745D-4488-99BC-978A9E38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E1FE-D690-4818-9B02-DE86B7B1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73D5-4552-465A-9BAA-72304169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493F0-4DBA-4B3B-9B2D-B7A458A97111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www.google.com.mx/url?sa=i&amp;rct=j&amp;q=&amp;esrc=s&amp;frm=1&amp;source=images&amp;cd=&amp;cad=rja&amp;docid=KYGUTyLF5L96tM&amp;tbnid=4qMkJzr517kqxM:&amp;ved=0CAUQjRw&amp;url=http://cieeinsp.wordpress.com/2013/06/06/estudio-para-determinar-el-uso-de-la-fragilidad-como-un-indicador-temprano-de-discapacidad-en-adultos-mayores-rurales-en-mexico/&amp;ei=MhUNUoLFKaPmyQGh5oDwDg&amp;psig=AFQjCNE2bz9TrXjx1H27Ims56x5RoT4QYQ&amp;ust=1376675444128429" TargetMode="External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image" Target="../media/image11.jpeg"/><Relationship Id="rId13" Type="http://schemas.openxmlformats.org/officeDocument/2006/relationships/image" Target="../media/image12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2 CuadroTexto"/>
          <p:cNvSpPr/>
          <p:nvPr/>
        </p:nvSpPr>
        <p:spPr>
          <a:xfrm>
            <a:off x="123840" y="244440"/>
            <a:ext cx="87822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SITUACIÓN DEL ANALFABETISM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ángulo 1"/>
          <p:cNvSpPr/>
          <p:nvPr/>
        </p:nvSpPr>
        <p:spPr>
          <a:xfrm>
            <a:off x="23760" y="666720"/>
            <a:ext cx="9144000" cy="5619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4 Rectángulo"/>
          <p:cNvSpPr/>
          <p:nvPr/>
        </p:nvSpPr>
        <p:spPr>
          <a:xfrm>
            <a:off x="142920" y="698400"/>
            <a:ext cx="83818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El Censo General de Población y Vivienda 2010, registró cerca de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5.4 millones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personas en condición de analfabetismo (6.9% de la población de 15 años y má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Imagen 2" descr="50anios.png"/>
          <p:cNvPicPr/>
          <p:nvPr/>
        </p:nvPicPr>
        <p:blipFill>
          <a:blip r:embed="rId1"/>
          <a:srcRect l="0" t="0" r="32085" b="4585"/>
          <a:stretch/>
        </p:blipFill>
        <p:spPr>
          <a:xfrm>
            <a:off x="3166920" y="2266920"/>
            <a:ext cx="790560" cy="739800"/>
          </a:xfrm>
          <a:prstGeom prst="rect">
            <a:avLst/>
          </a:prstGeom>
          <a:ln w="0">
            <a:noFill/>
          </a:ln>
        </p:spPr>
      </p:pic>
      <p:sp>
        <p:nvSpPr>
          <p:cNvPr id="52" name="2 Rectángulo"/>
          <p:cNvSpPr/>
          <p:nvPr/>
        </p:nvSpPr>
        <p:spPr>
          <a:xfrm>
            <a:off x="615960" y="1573200"/>
            <a:ext cx="1727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3.3 millones son mujeres (61%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3 Rectángulo"/>
          <p:cNvSpPr/>
          <p:nvPr/>
        </p:nvSpPr>
        <p:spPr>
          <a:xfrm>
            <a:off x="6297480" y="1465200"/>
            <a:ext cx="1459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2.1 millones son hombres (39%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Imagen 70" descr="Indigena.jpg"/>
          <p:cNvPicPr/>
          <p:nvPr/>
        </p:nvPicPr>
        <p:blipFill>
          <a:blip r:embed="rId2"/>
          <a:stretch/>
        </p:blipFill>
        <p:spPr>
          <a:xfrm>
            <a:off x="4695840" y="2395440"/>
            <a:ext cx="685800" cy="677880"/>
          </a:xfrm>
          <a:prstGeom prst="rect">
            <a:avLst/>
          </a:prstGeom>
          <a:ln w="0">
            <a:noFill/>
          </a:ln>
        </p:spPr>
      </p:pic>
      <p:sp>
        <p:nvSpPr>
          <p:cNvPr id="55" name="12 Rectángulo"/>
          <p:cNvSpPr/>
          <p:nvPr/>
        </p:nvSpPr>
        <p:spPr>
          <a:xfrm>
            <a:off x="615960" y="2293920"/>
            <a:ext cx="17272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3.9 millones hablan españo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(73%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4 Rectángulo"/>
          <p:cNvSpPr/>
          <p:nvPr/>
        </p:nvSpPr>
        <p:spPr>
          <a:xfrm>
            <a:off x="6297480" y="2409840"/>
            <a:ext cx="1603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1.5 millones hablan  lengua indígen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(27%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7 Rectángulo"/>
          <p:cNvSpPr/>
          <p:nvPr/>
        </p:nvSpPr>
        <p:spPr>
          <a:xfrm>
            <a:off x="615960" y="3336840"/>
            <a:ext cx="166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49.7% viven en zonas urbana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8 Rectángulo"/>
          <p:cNvSpPr/>
          <p:nvPr/>
        </p:nvSpPr>
        <p:spPr>
          <a:xfrm>
            <a:off x="6404040" y="3487680"/>
            <a:ext cx="1636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50.3% residen en comunidades rural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Imagen 69" descr="Rural.jpg"/>
          <p:cNvPicPr/>
          <p:nvPr/>
        </p:nvPicPr>
        <p:blipFill>
          <a:blip r:embed="rId3"/>
          <a:srcRect l="0" t="16980" r="0" b="0"/>
          <a:stretch/>
        </p:blipFill>
        <p:spPr>
          <a:xfrm>
            <a:off x="4757760" y="3336840"/>
            <a:ext cx="685800" cy="704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"/>
          <p:cNvPicPr/>
          <p:nvPr/>
        </p:nvPicPr>
        <p:blipFill>
          <a:blip r:embed="rId4"/>
          <a:stretch/>
        </p:blipFill>
        <p:spPr>
          <a:xfrm>
            <a:off x="3349800" y="3311640"/>
            <a:ext cx="685800" cy="679320"/>
          </a:xfrm>
          <a:prstGeom prst="rect">
            <a:avLst/>
          </a:prstGeom>
          <a:ln w="0">
            <a:noFill/>
          </a:ln>
        </p:spPr>
      </p:pic>
      <p:sp>
        <p:nvSpPr>
          <p:cNvPr id="61" name="24 Rectángulo"/>
          <p:cNvSpPr/>
          <p:nvPr/>
        </p:nvSpPr>
        <p:spPr>
          <a:xfrm>
            <a:off x="615960" y="4140360"/>
            <a:ext cx="16668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64% está en edad productiva (15-64 año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26 Rectángulo"/>
          <p:cNvSpPr/>
          <p:nvPr/>
        </p:nvSpPr>
        <p:spPr>
          <a:xfrm>
            <a:off x="6340320" y="4410000"/>
            <a:ext cx="151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36% es mayor a 65 años de eda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20 Rectángulo"/>
          <p:cNvSpPr/>
          <p:nvPr/>
        </p:nvSpPr>
        <p:spPr>
          <a:xfrm>
            <a:off x="615960" y="502452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35% está ocupad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21 Rectángulo"/>
          <p:cNvSpPr/>
          <p:nvPr/>
        </p:nvSpPr>
        <p:spPr>
          <a:xfrm>
            <a:off x="6361200" y="5153040"/>
            <a:ext cx="161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65% está desocupad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22 Rectángulo"/>
          <p:cNvSpPr/>
          <p:nvPr/>
        </p:nvSpPr>
        <p:spPr>
          <a:xfrm>
            <a:off x="503280" y="5627520"/>
            <a:ext cx="1668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El 70% no percibe ingresos y 20% recibe &lt; 2 S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23 Rectángulo"/>
          <p:cNvSpPr/>
          <p:nvPr/>
        </p:nvSpPr>
        <p:spPr>
          <a:xfrm>
            <a:off x="6297480" y="5824440"/>
            <a:ext cx="207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Sólo 10% percibe ingresos &gt; 2 S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http://cieeinsp.files.wordpress.com/2013/06/adultos-mayores-mimorelia20120116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716360" y="4276800"/>
            <a:ext cx="768600" cy="584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7"/>
          <a:stretch/>
        </p:blipFill>
        <p:spPr>
          <a:xfrm>
            <a:off x="3340080" y="4259160"/>
            <a:ext cx="635040" cy="598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"/>
          <p:cNvPicPr/>
          <p:nvPr/>
        </p:nvPicPr>
        <p:blipFill>
          <a:blip r:embed="rId8"/>
          <a:stretch/>
        </p:blipFill>
        <p:spPr>
          <a:xfrm>
            <a:off x="3313080" y="5049720"/>
            <a:ext cx="644400" cy="604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"/>
          <p:cNvPicPr/>
          <p:nvPr/>
        </p:nvPicPr>
        <p:blipFill>
          <a:blip r:embed="rId9"/>
          <a:stretch/>
        </p:blipFill>
        <p:spPr>
          <a:xfrm>
            <a:off x="4716360" y="5049720"/>
            <a:ext cx="714600" cy="612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http://images.all-free-download.com/images/graphiclarge/green_globe_money_purse_581.jpg"/>
          <p:cNvPicPr/>
          <p:nvPr/>
        </p:nvPicPr>
        <p:blipFill>
          <a:blip r:embed="rId10"/>
          <a:stretch/>
        </p:blipFill>
        <p:spPr>
          <a:xfrm>
            <a:off x="4695840" y="5761080"/>
            <a:ext cx="657360" cy="657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6" descr="https://encrypted-tbn1.gstatic.com/images?q=tbn:ANd9GcSOcK7bSUmPOXUeo8D_H3l_pakZArkhzYfbdQKi4Qzf4NZtnU0D"/>
          <p:cNvPicPr/>
          <p:nvPr/>
        </p:nvPicPr>
        <p:blipFill>
          <a:blip r:embed="rId11"/>
          <a:stretch/>
        </p:blipFill>
        <p:spPr>
          <a:xfrm>
            <a:off x="3166920" y="5886360"/>
            <a:ext cx="497160" cy="501840"/>
          </a:xfrm>
          <a:prstGeom prst="rect">
            <a:avLst/>
          </a:prstGeom>
          <a:ln w="0">
            <a:noFill/>
          </a:ln>
        </p:spPr>
      </p:pic>
      <p:grpSp>
        <p:nvGrpSpPr>
          <p:cNvPr id="73" name="2 Grupo"/>
          <p:cNvGrpSpPr/>
          <p:nvPr/>
        </p:nvGrpSpPr>
        <p:grpSpPr>
          <a:xfrm>
            <a:off x="3562200" y="1424160"/>
            <a:ext cx="1657440" cy="672840"/>
            <a:chOff x="3562200" y="1424160"/>
            <a:chExt cx="1657440" cy="672840"/>
          </a:xfrm>
        </p:grpSpPr>
        <p:pic>
          <p:nvPicPr>
            <p:cNvPr id="74" name="27 Imagen" descr=""/>
            <p:cNvPicPr/>
            <p:nvPr/>
          </p:nvPicPr>
          <p:blipFill>
            <a:blip r:embed="rId12"/>
            <a:stretch/>
          </p:blipFill>
          <p:spPr>
            <a:xfrm>
              <a:off x="3562200" y="1424160"/>
              <a:ext cx="578880" cy="67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28 Imagen" descr=""/>
            <p:cNvPicPr/>
            <p:nvPr/>
          </p:nvPicPr>
          <p:blipFill>
            <a:blip r:embed="rId13"/>
            <a:stretch/>
          </p:blipFill>
          <p:spPr>
            <a:xfrm>
              <a:off x="4523040" y="1433880"/>
              <a:ext cx="696600" cy="663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5 Rectángulo"/>
          <p:cNvSpPr/>
          <p:nvPr/>
        </p:nvSpPr>
        <p:spPr>
          <a:xfrm>
            <a:off x="619200" y="677880"/>
            <a:ext cx="7978680" cy="5248080"/>
          </a:xfrm>
          <a:prstGeom prst="rect">
            <a:avLst/>
          </a:prstGeom>
          <a:solidFill>
            <a:srgbClr val="fcd5b5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2 CuadroTexto"/>
          <p:cNvSpPr/>
          <p:nvPr/>
        </p:nvSpPr>
        <p:spPr>
          <a:xfrm>
            <a:off x="152280" y="487440"/>
            <a:ext cx="91440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Población analfabeta indígena:1.5 millon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14" descr=""/>
          <p:cNvPicPr/>
          <p:nvPr/>
        </p:nvPicPr>
        <p:blipFill>
          <a:blip r:embed="rId1"/>
          <a:stretch/>
        </p:blipFill>
        <p:spPr>
          <a:xfrm>
            <a:off x="1197000" y="1119240"/>
            <a:ext cx="3674880" cy="2817720"/>
          </a:xfrm>
          <a:prstGeom prst="rect">
            <a:avLst/>
          </a:prstGeom>
          <a:ln w="0">
            <a:noFill/>
          </a:ln>
        </p:spPr>
      </p:pic>
      <p:sp>
        <p:nvSpPr>
          <p:cNvPr id="79" name="2 Rectángulo"/>
          <p:cNvSpPr/>
          <p:nvPr/>
        </p:nvSpPr>
        <p:spPr>
          <a:xfrm>
            <a:off x="5506920" y="5415120"/>
            <a:ext cx="3206880" cy="5202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1 de cada 4 indígenas es analfabeta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1 de cada 20 hispanohablantes lo e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10 Rectángulo"/>
          <p:cNvSpPr/>
          <p:nvPr/>
        </p:nvSpPr>
        <p:spPr>
          <a:xfrm>
            <a:off x="4968720" y="2160720"/>
            <a:ext cx="1306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35 Mujeres analfabetas de cada 1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11 Rectángulo"/>
          <p:cNvSpPr/>
          <p:nvPr/>
        </p:nvSpPr>
        <p:spPr>
          <a:xfrm>
            <a:off x="6800760" y="2190600"/>
            <a:ext cx="1543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20 Hombres analfabetas de cada 1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3 CuadroTexto"/>
          <p:cNvSpPr/>
          <p:nvPr/>
        </p:nvSpPr>
        <p:spPr>
          <a:xfrm>
            <a:off x="5119560" y="3301920"/>
            <a:ext cx="3478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  <a:ea typeface="Arial"/>
              </a:rPr>
              <a:t>El 70.4 % de las mujeres indígenas  es mayor de 40 año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8 Rectángulo"/>
          <p:cNvSpPr/>
          <p:nvPr/>
        </p:nvSpPr>
        <p:spPr>
          <a:xfrm>
            <a:off x="2428920" y="3868560"/>
            <a:ext cx="24429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7 de cada 10 analfabetas indígenas reside en 6 estados: Chiapas, Oaxaca, Guerrero, Puebla, Veracruz y Yucatá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4 CuadroTexto"/>
          <p:cNvSpPr/>
          <p:nvPr/>
        </p:nvSpPr>
        <p:spPr>
          <a:xfrm>
            <a:off x="779400" y="3425760"/>
            <a:ext cx="123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68% vive en zona rur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3 CuadroTexto"/>
          <p:cNvSpPr/>
          <p:nvPr/>
        </p:nvSpPr>
        <p:spPr>
          <a:xfrm>
            <a:off x="6505560" y="1123920"/>
            <a:ext cx="194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518 mil hombres 948 mil muje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" name="12 Grupo"/>
          <p:cNvGrpSpPr/>
          <p:nvPr/>
        </p:nvGrpSpPr>
        <p:grpSpPr>
          <a:xfrm>
            <a:off x="5003640" y="1125360"/>
            <a:ext cx="1476360" cy="669960"/>
            <a:chOff x="5003640" y="1125360"/>
            <a:chExt cx="1476360" cy="669960"/>
          </a:xfrm>
        </p:grpSpPr>
        <p:pic>
          <p:nvPicPr>
            <p:cNvPr id="87" name="27 Imagen" descr=""/>
            <p:cNvPicPr/>
            <p:nvPr/>
          </p:nvPicPr>
          <p:blipFill>
            <a:blip r:embed="rId2"/>
            <a:stretch/>
          </p:blipFill>
          <p:spPr>
            <a:xfrm>
              <a:off x="5003640" y="1125360"/>
              <a:ext cx="515880" cy="66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28 Imagen" descr=""/>
            <p:cNvPicPr/>
            <p:nvPr/>
          </p:nvPicPr>
          <p:blipFill>
            <a:blip r:embed="rId3"/>
            <a:stretch/>
          </p:blipFill>
          <p:spPr>
            <a:xfrm>
              <a:off x="5859360" y="1135080"/>
              <a:ext cx="620640" cy="66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1 CuadroTexto"/>
          <p:cNvSpPr/>
          <p:nvPr/>
        </p:nvSpPr>
        <p:spPr>
          <a:xfrm>
            <a:off x="5076720" y="400536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Calibri"/>
                <a:ea typeface="Arial"/>
              </a:rPr>
              <a:t>El analfabetismo se acentúa por razones de género en las comunidades indígen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10080" y="907920"/>
            <a:ext cx="4129200" cy="51501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alibri"/>
              </a:rPr>
              <a:t>Hay muchos niños que se ausentan durante largos periodos de la escuela. Pero ¿cuáles son las causas?</a:t>
            </a:r>
            <a:br>
              <a:rPr sz="1400"/>
            </a:br>
            <a:br>
              <a:rPr sz="1400"/>
            </a:br>
            <a:r>
              <a:rPr b="0" lang="es-MX" sz="1400" spc="-1" strike="noStrike">
                <a:solidFill>
                  <a:srgbClr val="000000"/>
                </a:solidFill>
                <a:latin typeface="Calibri"/>
              </a:rPr>
              <a:t>Hay casos, en zona rurales, donde las condiciones climáticas o de distancia influyen, impidiendo la asistencia regular a la escuela. </a:t>
            </a:r>
            <a:br>
              <a:rPr sz="1400"/>
            </a:br>
            <a:br>
              <a:rPr sz="1400"/>
            </a:br>
            <a:r>
              <a:rPr b="0" lang="es-MX" sz="1400" spc="-1" strike="noStrike">
                <a:solidFill>
                  <a:srgbClr val="000000"/>
                </a:solidFill>
                <a:latin typeface="Calibri"/>
              </a:rPr>
              <a:t>En otros casos, la necesidad de ser útiles a la familia en tareas productivas determina la ausencia o el abandono. </a:t>
            </a:r>
            <a:br>
              <a:rPr sz="1400"/>
            </a:br>
            <a:br>
              <a:rPr sz="1400"/>
            </a:br>
            <a:r>
              <a:rPr b="0" lang="es-MX" sz="1400" spc="-1" strike="noStrike">
                <a:solidFill>
                  <a:srgbClr val="000000"/>
                </a:solidFill>
                <a:latin typeface="Calibri"/>
              </a:rPr>
              <a:t>Ésta es la realidad; sin mejorar las condiciones de vida de la población, difícilmente se podrá mejorar la situación. </a:t>
            </a:r>
            <a:r>
              <a:rPr b="0" lang="es-MX" sz="1400" spc="-1" strike="noStrike">
                <a:solidFill>
                  <a:srgbClr val="ff0000"/>
                </a:solidFill>
                <a:latin typeface="Calibri"/>
              </a:rPr>
              <a:t>Se trata pues de condiciones sociales y no de responsabilidades personales</a:t>
            </a:r>
            <a:r>
              <a:rPr b="0" lang="es-MX" sz="1400" spc="-1" strike="noStrike">
                <a:solidFill>
                  <a:srgbClr val="000000"/>
                </a:solidFill>
                <a:latin typeface="Calibri"/>
              </a:rPr>
              <a:t>…</a:t>
            </a:r>
            <a:br>
              <a:rPr sz="1400"/>
            </a:br>
            <a:br>
              <a:rPr sz="1400"/>
            </a:br>
            <a:br>
              <a:rPr sz="1300"/>
            </a:br>
            <a:r>
              <a:rPr b="0" lang="es-MX" sz="1100" spc="-1" strike="noStrike">
                <a:solidFill>
                  <a:srgbClr val="000000"/>
                </a:solidFill>
                <a:latin typeface="Calibri"/>
              </a:rPr>
              <a:t>Emilia Ferreiro y Ana Teberosky. Los sistemas de escritura en el desarrollo del niño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28200" y="907920"/>
            <a:ext cx="3591000" cy="515016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alibri"/>
              </a:rPr>
              <a:t>Las causas son complejas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alibri"/>
              </a:rPr>
              <a:t>Algunas se relacionan con siglos de explotación y dominio de los pueblos indígenas… y la realidad de pobreza consecuente… Esta misma situación explica la tardía expansión del sistema educativo a las localidades donde viven los pueblos indígenas, su deficiente calidad y desadecuación lingüística y cultura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s-MX" sz="1600" spc="-1" strike="noStrike">
                <a:solidFill>
                  <a:srgbClr val="000000"/>
                </a:solidFill>
                <a:latin typeface="Calibri"/>
              </a:rPr>
              <a:t>Las casusas culturales están relacionadas con las características propias de una cultura oral, que trasmite sus conocimientos y reproduce la cultura mediante mecanismos  que no precisan la lengua escrita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Silvia Schmelkes. La alfabetización en el medio indígena: algunas reflexiones y algunas pist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4 CuadroTexto"/>
          <p:cNvSpPr/>
          <p:nvPr/>
        </p:nvSpPr>
        <p:spPr>
          <a:xfrm>
            <a:off x="1000080" y="295200"/>
            <a:ext cx="74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alibri"/>
                <a:ea typeface="Arial"/>
              </a:rPr>
              <a:t>¿Por qué no aprendieron a leer y escribi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1 CuadroTexto"/>
          <p:cNvSpPr/>
          <p:nvPr/>
        </p:nvSpPr>
        <p:spPr>
          <a:xfrm>
            <a:off x="1305000" y="719280"/>
            <a:ext cx="675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  <a:ea typeface="Arial"/>
              </a:rPr>
              <a:t>Tu participación como alfabetizador es muy importante porque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2 Rectángulo"/>
          <p:cNvSpPr/>
          <p:nvPr/>
        </p:nvSpPr>
        <p:spPr>
          <a:xfrm>
            <a:off x="961920" y="1673280"/>
            <a:ext cx="7439040" cy="3660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Harás ver a las personas la utilidad  que tiene </a:t>
            </a:r>
            <a:r>
              <a:rPr b="0" i="1" lang="es-ES_tradnl" sz="1800" spc="-1" strike="noStrike">
                <a:solidFill>
                  <a:srgbClr val="000000"/>
                </a:solidFill>
                <a:latin typeface="Calibri"/>
              </a:rPr>
              <a:t>la alfabetización 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en su vid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Apoyarás </a:t>
            </a: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a las personas para que </a:t>
            </a:r>
            <a:r>
              <a:rPr b="0" lang="es-MX" sz="1800" spc="-1" strike="noStrike">
                <a:solidFill>
                  <a:srgbClr val="e46c0a"/>
                </a:solidFill>
                <a:latin typeface="Calibri"/>
              </a:rPr>
              <a:t>aprendan a leer y escribir tanto en su lengua indígena como en en español</a:t>
            </a: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Las  podrás ayudar a vencer sus resistencias porque muchas de ellas piensan: “ yo no sirvo para el estudio“, “a mi no se me pega nada”; “ no soy capaz”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Las motivarás a continuar una vez que ya dieron el primer paso, haciendo que reconozcan y valoren sus propias capacidades, saberes, experiencias, logros, etcéte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1 CuadroTexto"/>
          <p:cNvSpPr/>
          <p:nvPr/>
        </p:nvSpPr>
        <p:spPr>
          <a:xfrm>
            <a:off x="971640" y="5638680"/>
            <a:ext cx="7505640" cy="6426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¡Tu participación y la de otros alfabetizadores contribuirá a disminuir el problema del analfabetismo en la población indígena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5T16:21:20Z</dcterms:created>
  <dc:creator>ELY</dc:creator>
  <dc:description/>
  <dc:language>en-US</dc:language>
  <cp:lastModifiedBy>PPerez</cp:lastModifiedBy>
  <dcterms:modified xsi:type="dcterms:W3CDTF">2015-09-03T19:47:51Z</dcterms:modified>
  <cp:revision>7</cp:revision>
  <dc:subject/>
  <dc:title>Presentación de PowerPoint</dc:title>
</cp:coreProperties>
</file>