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2B5-306A-4A43-87C7-EC73DD63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6DD-D0CF-4806-90D2-8629A13B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4EA-17BD-4BBE-BC7A-F9B37CA6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A9C-4F35-40DD-AFFB-EF004EC6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704-D4D3-49A0-8826-8B3C9DC6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897-86FF-4240-A8C5-FB15F4E2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976-CEE9-4468-A4A7-33928F37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EEA-42B5-4F70-91AC-B44FBFC2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0E8-2FB5-4FBF-980E-1014A909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C81-7E3C-4A2E-8DB9-F26729E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EDF-F079-490D-9B1A-69C38EF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739-65A8-4D1E-8FBC-285E62E0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31CA-0D97-4A83-A89B-6283B9EAC64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227240"/>
            <a:ext cx="9153360" cy="4012920"/>
          </a:xfrm>
          <a:prstGeom prst="rect">
            <a:avLst/>
          </a:prstGeom>
          <a:ln w="0">
            <a:noFill/>
          </a:ln>
        </p:spPr>
      </p:pic>
      <p:sp>
        <p:nvSpPr>
          <p:cNvPr id="42" name="7 CuadroTexto"/>
          <p:cNvSpPr/>
          <p:nvPr/>
        </p:nvSpPr>
        <p:spPr>
          <a:xfrm>
            <a:off x="345240" y="33336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Arial"/>
              </a:rPr>
              <a:t>Perspectiva de género y derecho a la edu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Mis documentos\Mis imágenes\personas y grupos\d[1].jpg"/>
          <p:cNvPicPr/>
          <p:nvPr/>
        </p:nvPicPr>
        <p:blipFill>
          <a:blip r:embed="rId2"/>
          <a:stretch/>
        </p:blipFill>
        <p:spPr>
          <a:xfrm>
            <a:off x="4586400" y="1227240"/>
            <a:ext cx="4557600" cy="4012920"/>
          </a:xfrm>
          <a:prstGeom prst="rect">
            <a:avLst/>
          </a:prstGeom>
          <a:ln w="0">
            <a:noFill/>
          </a:ln>
        </p:spPr>
      </p:pic>
      <p:sp>
        <p:nvSpPr>
          <p:cNvPr id="44" name="7 CuadroTexto"/>
          <p:cNvSpPr/>
          <p:nvPr/>
        </p:nvSpPr>
        <p:spPr>
          <a:xfrm>
            <a:off x="4217400" y="551664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  <a:ea typeface="Arial"/>
              </a:rPr>
              <a:t>MI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99960" y="6224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  <a:ea typeface="Arial"/>
              </a:rPr>
              <a:t>QUÉ PODEMOS HACER EN LA COMUNIDAD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900000" y="1422360"/>
            <a:ext cx="712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mueve el respeto a las mujeres en la comunidad, elaborando con las personas de tu círculo de estudio, periódicos murales, carteles u otros materiales para que las personas de la comunidad los lean y coment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í te encuentras en una Plaza comunitaria, invita a personas de tu comunidad a ver algún video referido a la igualdad o equidad entre mujeres y hombres y al final genera un debate o que den su punto de vis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a a los familiares de las personas del círculo de estudio a una sesión para revisar algún contenido de los módulos diversificados que hablen sobre género, resolución no violenta de conflictos, derechos, valores, etc. entre otros temas y den opciones de mejora para su comun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a a algún experto sobre temas de derechos humanos, valores, prevención de la violencia, para dar una plática y que asistan familiares de las personas que estudian o convoca a la comunidad a particip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¿Qué otras actividades propo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ángulo 1"/>
          <p:cNvSpPr/>
          <p:nvPr/>
        </p:nvSpPr>
        <p:spPr>
          <a:xfrm>
            <a:off x="0" y="1252440"/>
            <a:ext cx="9144000" cy="5618160"/>
          </a:xfrm>
          <a:prstGeom prst="rect">
            <a:avLst/>
          </a:prstGeom>
          <a:solidFill>
            <a:srgbClr val="ebf1d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7 Rectángulo"/>
          <p:cNvSpPr/>
          <p:nvPr/>
        </p:nvSpPr>
        <p:spPr>
          <a:xfrm>
            <a:off x="4568760" y="1252440"/>
            <a:ext cx="4541760" cy="56278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2 CuadroTexto"/>
          <p:cNvSpPr/>
          <p:nvPr/>
        </p:nvSpPr>
        <p:spPr>
          <a:xfrm>
            <a:off x="-3240" y="438120"/>
            <a:ext cx="9144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blación analfabeta indíg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2 Rectángulo"/>
          <p:cNvSpPr/>
          <p:nvPr/>
        </p:nvSpPr>
        <p:spPr>
          <a:xfrm>
            <a:off x="174600" y="2394000"/>
            <a:ext cx="424980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 de cada 4 indígenas es analfabe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 de cada 20 hispanohablantes lo 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Rectángulo"/>
          <p:cNvSpPr/>
          <p:nvPr/>
        </p:nvSpPr>
        <p:spPr>
          <a:xfrm>
            <a:off x="4572000" y="3468600"/>
            <a:ext cx="4572000" cy="55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1 de cada 3 mujeres indígenas es analfabet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1 de cada 16 mujeres hispanohablantes lo e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5 Rectángulo"/>
          <p:cNvSpPr/>
          <p:nvPr/>
        </p:nvSpPr>
        <p:spPr>
          <a:xfrm>
            <a:off x="0" y="1252440"/>
            <a:ext cx="459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l analfabetismo indígena representa el 27% del analfabetismo total. En contraste, la población indígena mayor de 15 años representa sólo el 6.9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54000" y="860400"/>
            <a:ext cx="90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analfabetismo indígena es equivalente al que observaba el país hace 40 añ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3000" y="3062160"/>
            <a:ext cx="3719520" cy="2846520"/>
          </a:xfrm>
          <a:prstGeom prst="rect">
            <a:avLst/>
          </a:prstGeom>
          <a:ln w="0">
            <a:noFill/>
          </a:ln>
        </p:spPr>
      </p:pic>
      <p:sp>
        <p:nvSpPr>
          <p:cNvPr id="53" name="8 Rectángulo"/>
          <p:cNvSpPr/>
          <p:nvPr/>
        </p:nvSpPr>
        <p:spPr>
          <a:xfrm>
            <a:off x="287280" y="5816520"/>
            <a:ext cx="39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7 de cada 10 analfabetas indígenas reside en 6 estados: Chiapas, Oaxaca, Guerrero, Puebla, Veracruz y Yucatá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http://static2.bigstockphoto.com/thumbs/9/4/2/large2/24993218.jpg"/>
          <p:cNvPicPr/>
          <p:nvPr/>
        </p:nvPicPr>
        <p:blipFill>
          <a:blip r:embed="rId2"/>
          <a:stretch/>
        </p:blipFill>
        <p:spPr>
          <a:xfrm>
            <a:off x="6138720" y="4290840"/>
            <a:ext cx="1005120" cy="741600"/>
          </a:xfrm>
          <a:prstGeom prst="rect">
            <a:avLst/>
          </a:prstGeom>
          <a:ln w="0">
            <a:noFill/>
          </a:ln>
        </p:spPr>
      </p:pic>
      <p:sp>
        <p:nvSpPr>
          <p:cNvPr id="55" name="10 Rectángulo"/>
          <p:cNvSpPr/>
          <p:nvPr/>
        </p:nvSpPr>
        <p:spPr>
          <a:xfrm>
            <a:off x="4354560" y="421632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5 Mujeres Analfabetas de cada 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1 Rectángulo"/>
          <p:cNvSpPr/>
          <p:nvPr/>
        </p:nvSpPr>
        <p:spPr>
          <a:xfrm>
            <a:off x="7245360" y="421020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20 Hombres Analfabetas de cada 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2 Rectángulo"/>
          <p:cNvSpPr/>
          <p:nvPr/>
        </p:nvSpPr>
        <p:spPr>
          <a:xfrm>
            <a:off x="-241200" y="4587840"/>
            <a:ext cx="16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2% viven en zona urban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3 Rectángulo"/>
          <p:cNvSpPr/>
          <p:nvPr/>
        </p:nvSpPr>
        <p:spPr>
          <a:xfrm>
            <a:off x="2989440" y="3630600"/>
            <a:ext cx="14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68% residen en zona 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69" descr="Rural.jpg"/>
          <p:cNvPicPr/>
          <p:nvPr/>
        </p:nvPicPr>
        <p:blipFill>
          <a:blip r:embed="rId3"/>
          <a:srcRect l="0" t="16980" r="0" b="0"/>
          <a:stretch/>
        </p:blipFill>
        <p:spPr>
          <a:xfrm>
            <a:off x="3741840" y="4210200"/>
            <a:ext cx="61272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g.informador.com.mx/biblioteca/imagen/370x277/812/811323.jpg"/>
          <p:cNvPicPr/>
          <p:nvPr/>
        </p:nvPicPr>
        <p:blipFill>
          <a:blip r:embed="rId4"/>
          <a:stretch/>
        </p:blipFill>
        <p:spPr>
          <a:xfrm>
            <a:off x="1709640" y="4587840"/>
            <a:ext cx="488880" cy="43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Boletn de prensa"/>
          <p:cNvPicPr/>
          <p:nvPr/>
        </p:nvPicPr>
        <p:blipFill>
          <a:blip r:embed="rId5"/>
          <a:stretch/>
        </p:blipFill>
        <p:spPr>
          <a:xfrm>
            <a:off x="5800680" y="2021040"/>
            <a:ext cx="2394000" cy="139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www.que.es/archivos/201203/4463216w-640x640x80.jpg"/>
          <p:cNvPicPr/>
          <p:nvPr/>
        </p:nvPicPr>
        <p:blipFill>
          <a:blip r:embed="rId6"/>
          <a:stretch/>
        </p:blipFill>
        <p:spPr>
          <a:xfrm>
            <a:off x="5789520" y="5270400"/>
            <a:ext cx="1924200" cy="1274760"/>
          </a:xfrm>
          <a:prstGeom prst="rect">
            <a:avLst/>
          </a:prstGeom>
          <a:ln w="0">
            <a:noFill/>
          </a:ln>
        </p:spPr>
      </p:pic>
      <p:sp>
        <p:nvSpPr>
          <p:cNvPr id="63" name="21 Rectángulo"/>
          <p:cNvSpPr/>
          <p:nvPr/>
        </p:nvSpPr>
        <p:spPr>
          <a:xfrm>
            <a:off x="4862520" y="1252440"/>
            <a:ext cx="434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0000"/>
                </a:solidFill>
                <a:latin typeface="Arial"/>
                <a:ea typeface="Arial"/>
              </a:rPr>
              <a:t>El analfabetism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1500" spc="-1" strike="noStrike">
                <a:solidFill>
                  <a:srgbClr val="ff0000"/>
                </a:solidFill>
                <a:latin typeface="Arial"/>
                <a:ea typeface="Arial"/>
              </a:rPr>
              <a:t>se acentúa por condición de género en la población indíge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755640" y="1628640"/>
            <a:ext cx="79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Arial"/>
              </a:rPr>
              <a:t>Hay más mujeres que hombres que no saben leer y escribir en las poblaciones indígena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Arial"/>
              </a:rPr>
              <a:t>¿Por qué creen que esto ocurra?, ¿qué factores están present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Arial"/>
              </a:rPr>
              <a:t>¿Existe discriminación hacia las mujeres en sus comunidad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Arial"/>
              </a:rPr>
              <a:t>¿Será importante que las mujeres estudien, por qué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Arial"/>
              </a:rPr>
              <a:t>Mujeres y hombres deben tener las mismas oportunidades de desarrollo, ¿por qué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900000" y="9144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  <a:ea typeface="Arial"/>
              </a:rPr>
              <a:t>Preguntas de reflex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90600" y="26028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70c0"/>
                </a:solidFill>
                <a:latin typeface="Calibri"/>
                <a:ea typeface="Arial"/>
              </a:rPr>
              <a:t>Factores que inciden en “ser mujer” o “ser hombr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12 Conector recto de flecha"/>
          <p:cNvCxnSpPr/>
          <p:nvPr/>
        </p:nvCxnSpPr>
        <p:spPr>
          <a:xfrm flipV="1">
            <a:off x="5148360" y="2565000"/>
            <a:ext cx="223272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68" name="16 Grupo"/>
          <p:cNvGrpSpPr/>
          <p:nvPr/>
        </p:nvGrpSpPr>
        <p:grpSpPr>
          <a:xfrm>
            <a:off x="141120" y="1397160"/>
            <a:ext cx="9193680" cy="5118480"/>
            <a:chOff x="141120" y="1397160"/>
            <a:chExt cx="9193680" cy="5118480"/>
          </a:xfrm>
        </p:grpSpPr>
        <p:grpSp>
          <p:nvGrpSpPr>
            <p:cNvPr id="69" name="32 Grupo"/>
            <p:cNvGrpSpPr/>
            <p:nvPr/>
          </p:nvGrpSpPr>
          <p:grpSpPr>
            <a:xfrm>
              <a:off x="141120" y="1397160"/>
              <a:ext cx="9193680" cy="4469040"/>
              <a:chOff x="141120" y="1397160"/>
              <a:chExt cx="9193680" cy="4469040"/>
            </a:xfrm>
          </p:grpSpPr>
          <p:sp>
            <p:nvSpPr>
              <p:cNvPr id="70" name="3 Elipse"/>
              <p:cNvSpPr/>
              <p:nvPr/>
            </p:nvSpPr>
            <p:spPr>
              <a:xfrm>
                <a:off x="2944800" y="2549520"/>
                <a:ext cx="2521080" cy="144000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4 Elipse"/>
              <p:cNvSpPr/>
              <p:nvPr/>
            </p:nvSpPr>
            <p:spPr>
              <a:xfrm>
                <a:off x="1936440" y="1901880"/>
                <a:ext cx="4535640" cy="27338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5 Elipse"/>
              <p:cNvSpPr/>
              <p:nvPr/>
            </p:nvSpPr>
            <p:spPr>
              <a:xfrm>
                <a:off x="1217520" y="1397160"/>
                <a:ext cx="6105600" cy="374364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6 CuadroTexto"/>
              <p:cNvSpPr/>
              <p:nvPr/>
            </p:nvSpPr>
            <p:spPr>
              <a:xfrm>
                <a:off x="3448080" y="2842920"/>
                <a:ext cx="1512000" cy="91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FAMILI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Se educa según el sexo: hombre o muj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7 CuadroTexto"/>
              <p:cNvSpPr/>
              <p:nvPr/>
            </p:nvSpPr>
            <p:spPr>
              <a:xfrm>
                <a:off x="7137360" y="1901880"/>
                <a:ext cx="2197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Costumbres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y tradicione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Creencia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8 CuadroTexto"/>
              <p:cNvSpPr/>
              <p:nvPr/>
            </p:nvSpPr>
            <p:spPr>
              <a:xfrm>
                <a:off x="141120" y="4402800"/>
                <a:ext cx="215172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Ideas y creencias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Medios de comunicación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autas de comportamiento de mujeres y hombres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9 CuadroTexto"/>
              <p:cNvSpPr/>
              <p:nvPr/>
            </p:nvSpPr>
            <p:spPr>
              <a:xfrm>
                <a:off x="3160800" y="2002320"/>
                <a:ext cx="223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C O M U N I D A 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10 CuadroTexto"/>
              <p:cNvSpPr/>
              <p:nvPr/>
            </p:nvSpPr>
            <p:spPr>
              <a:xfrm>
                <a:off x="3109680" y="4638240"/>
                <a:ext cx="223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S O C I E D A 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17 Flecha curvada hacia la derecha"/>
              <p:cNvSpPr/>
              <p:nvPr/>
            </p:nvSpPr>
            <p:spPr>
              <a:xfrm>
                <a:off x="1433160" y="2802240"/>
                <a:ext cx="2232000" cy="2373480"/>
              </a:xfrm>
              <a:custGeom>
                <a:avLst/>
                <a:gdLst>
                  <a:gd name="textAreaLeft" fmla="*/ 298800 w 2232000"/>
                  <a:gd name="textAreaRight" fmla="*/ 1933200 w 2232000"/>
                  <a:gd name="textAreaTop" fmla="*/ 440280 h 2373480"/>
                  <a:gd name="textAreaBottom" fmla="*/ 1429200 h 237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016" stAng="-5400000" swAng="-5400000"/>
                    <a:lnTo>
                      <a:pt x="0" y="9000"/>
                    </a:lnTo>
                    <a:arcTo wR="21600" hR="8016" stAng="10800000" swAng="-3310214"/>
                    <a:lnTo>
                      <a:pt x="16200" y="21345"/>
                    </a:lnTo>
                    <a:lnTo>
                      <a:pt x="21600" y="16523"/>
                    </a:lnTo>
                    <a:lnTo>
                      <a:pt x="16200" y="11191"/>
                    </a:lnTo>
                    <a:lnTo>
                      <a:pt x="16200" y="15776"/>
                    </a:lnTo>
                    <a:arcTo wR="21600" hR="8016" stAng="7489786" swAng="3231775"/>
                    <a:lnTo>
                      <a:pt x="41" y="8507"/>
                    </a:lnTo>
                    <a:arcTo wR="21600" hR="8016" stAng="-10721561" swAng="5321561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016" stAng="-5400000" swAng="-5400000"/>
                    <a:lnTo>
                      <a:pt x="0" y="8016"/>
                    </a:lnTo>
                    <a:arcTo wR="21600" hR="8016" stAng="10800000" swAng="-78439"/>
                    <a:lnTo>
                      <a:pt x="41" y="8507"/>
                    </a:lnTo>
                    <a:arcTo wR="21600" hR="8016" stAng="-10721561" swAng="5321561"/>
                    <a:close/>
                  </a:path>
                </a:pathLst>
              </a:cu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18 Flecha curvada hacia la derecha"/>
              <p:cNvSpPr/>
              <p:nvPr/>
            </p:nvSpPr>
            <p:spPr>
              <a:xfrm rot="10148400">
                <a:off x="4746240" y="2279880"/>
                <a:ext cx="2414520" cy="2230560"/>
              </a:xfrm>
              <a:custGeom>
                <a:avLst/>
                <a:gdLst>
                  <a:gd name="textAreaLeft" fmla="*/ 323280 w 2414520"/>
                  <a:gd name="textAreaRight" fmla="*/ 2091240 w 2414520"/>
                  <a:gd name="textAreaTop" fmla="*/ 404640 h 2230560"/>
                  <a:gd name="textAreaBottom" fmla="*/ 1322280 h 223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839" stAng="-5400000" swAng="-5400000"/>
                    <a:lnTo>
                      <a:pt x="0" y="8885"/>
                    </a:lnTo>
                    <a:arcTo wR="21600" hR="7839" stAng="10800000" swAng="-3408195"/>
                    <a:lnTo>
                      <a:pt x="16610" y="21388"/>
                    </a:lnTo>
                    <a:lnTo>
                      <a:pt x="21600" y="16200"/>
                    </a:lnTo>
                    <a:lnTo>
                      <a:pt x="16610" y="10588"/>
                    </a:lnTo>
                    <a:lnTo>
                      <a:pt x="16610" y="15465"/>
                    </a:lnTo>
                    <a:arcTo wR="21600" hR="7839" stAng="7391805" swAng="3324787"/>
                    <a:lnTo>
                      <a:pt x="48" y="8362"/>
                    </a:lnTo>
                    <a:arcTo wR="21600" hR="7839" stAng="-10716592" swAng="531659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839" stAng="-5400000" swAng="-5400000"/>
                    <a:lnTo>
                      <a:pt x="0" y="7839"/>
                    </a:lnTo>
                    <a:arcTo wR="21600" hR="7839" stAng="10800000" swAng="-83408"/>
                    <a:lnTo>
                      <a:pt x="48" y="8362"/>
                    </a:lnTo>
                    <a:arcTo wR="21600" hR="7839" stAng="-10716592" swAng="5316592"/>
                    <a:close/>
                  </a:path>
                </a:pathLst>
              </a:cu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0" name="31 Grupo"/>
              <p:cNvGrpSpPr/>
              <p:nvPr/>
            </p:nvGrpSpPr>
            <p:grpSpPr>
              <a:xfrm>
                <a:off x="1864440" y="4961520"/>
                <a:ext cx="2412720" cy="682920"/>
                <a:chOff x="1864440" y="4961520"/>
                <a:chExt cx="2412720" cy="682920"/>
              </a:xfrm>
            </p:grpSpPr>
            <p:sp>
              <p:nvSpPr>
                <p:cNvPr id="81" name="22 Conector recto"/>
                <p:cNvSpPr/>
                <p:nvPr/>
              </p:nvSpPr>
              <p:spPr>
                <a:xfrm>
                  <a:off x="4226400" y="4961520"/>
                  <a:ext cx="50760" cy="6829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24 Conector recto"/>
                <p:cNvSpPr/>
                <p:nvPr/>
              </p:nvSpPr>
              <p:spPr>
                <a:xfrm flipH="1">
                  <a:off x="2441160" y="5644440"/>
                  <a:ext cx="182952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26 Conector recto"/>
                <p:cNvSpPr/>
                <p:nvPr/>
              </p:nvSpPr>
              <p:spPr>
                <a:xfrm flipV="1">
                  <a:off x="2441160" y="5021640"/>
                  <a:ext cx="0" cy="62280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28 Conector recto"/>
                <p:cNvSpPr/>
                <p:nvPr/>
              </p:nvSpPr>
              <p:spPr>
                <a:xfrm flipH="1">
                  <a:off x="1864440" y="5021640"/>
                  <a:ext cx="57636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5" name="15 Grupo"/>
            <p:cNvGrpSpPr/>
            <p:nvPr/>
          </p:nvGrpSpPr>
          <p:grpSpPr>
            <a:xfrm>
              <a:off x="1115640" y="5584680"/>
              <a:ext cx="7953840" cy="930960"/>
              <a:chOff x="1115640" y="5584680"/>
              <a:chExt cx="7953840" cy="930960"/>
            </a:xfrm>
          </p:grpSpPr>
          <p:sp>
            <p:nvSpPr>
              <p:cNvPr id="86" name="1 CuadroTexto"/>
              <p:cNvSpPr/>
              <p:nvPr/>
            </p:nvSpPr>
            <p:spPr>
              <a:xfrm>
                <a:off x="3058920" y="5628960"/>
                <a:ext cx="3529080" cy="763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Se piensa que las </a:t>
                </a:r>
                <a:r>
                  <a:rPr b="1" lang="es-MX" sz="1100" spc="-1" strike="noStrike">
                    <a:solidFill>
                      <a:srgbClr val="000000"/>
                    </a:solidFill>
                    <a:latin typeface="Calibri"/>
                  </a:rPr>
                  <a:t>mujere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s son: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Débiles, sentimentales, temerosa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Se van a dedicar al hogar y al cuidado de lo s hijos e hija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No es necesario que estudien porque se van a casar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20 CuadroTexto"/>
              <p:cNvSpPr/>
              <p:nvPr/>
            </p:nvSpPr>
            <p:spPr>
              <a:xfrm>
                <a:off x="6726240" y="5584680"/>
                <a:ext cx="2343240" cy="930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Se piensa que los </a:t>
                </a:r>
                <a:r>
                  <a:rPr b="1" lang="es-MX" sz="1100" spc="-1" strike="noStrike">
                    <a:solidFill>
                      <a:srgbClr val="000000"/>
                    </a:solidFill>
                    <a:latin typeface="Calibri"/>
                  </a:rPr>
                  <a:t>hombre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s son: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Fuertes y valiente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Con autoridad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Proveedores de la familia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Calibri"/>
                  </a:rPr>
                  <a:t>Tiene derecho a estudiar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6 Conector recto"/>
              <p:cNvSpPr/>
              <p:nvPr/>
            </p:nvSpPr>
            <p:spPr>
              <a:xfrm>
                <a:off x="1115640" y="5803560"/>
                <a:ext cx="0" cy="2160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11 Conector recto"/>
              <p:cNvSpPr/>
              <p:nvPr/>
            </p:nvSpPr>
            <p:spPr>
              <a:xfrm>
                <a:off x="1115640" y="6019560"/>
                <a:ext cx="2448000" cy="172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14 Conector recto"/>
              <p:cNvSpPr/>
              <p:nvPr/>
            </p:nvSpPr>
            <p:spPr>
              <a:xfrm>
                <a:off x="6588000" y="5968800"/>
                <a:ext cx="137880" cy="856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5002-17C7-41B0-A8B0-A5B3A8DB91D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963720" y="1557360"/>
            <a:ext cx="67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Grupo o conjunto de características biológicas, hereditarias o genéticamente adquiridas, que dividen a los individuos en dos categorías: mujeres y homb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Los cuerpos de los hombres y de las mujeres son diferentes, la muestra más notable está en los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órganos sexuales externos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, porque las mujeres tienen vulva y los hombres, pene y testícul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http://www.cursosinea.conevyt.org.mx/cursos/edu_hijos/contenido/libro/enhu2/imagesu2/enh-l1-05-01-p117-i2.jpg"/>
          <p:cNvPicPr/>
          <p:nvPr/>
        </p:nvPicPr>
        <p:blipFill>
          <a:blip r:embed="rId1"/>
          <a:stretch/>
        </p:blipFill>
        <p:spPr>
          <a:xfrm>
            <a:off x="2195640" y="4753080"/>
            <a:ext cx="1660320" cy="169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www.cursosinea.conevyt.org.mx/cursos/edu_hijos/contenido/libro/enhu2/imagesu2/enh-l1-05-01-p117-i3.jpg"/>
          <p:cNvPicPr/>
          <p:nvPr/>
        </p:nvPicPr>
        <p:blipFill>
          <a:blip r:embed="rId2"/>
          <a:stretch/>
        </p:blipFill>
        <p:spPr>
          <a:xfrm>
            <a:off x="5219640" y="4788000"/>
            <a:ext cx="1660680" cy="1728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399960" y="6224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  <a:ea typeface="Arial"/>
              </a:rPr>
              <a:t>Sex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D1A-1BCE-4935-94A8-C90738D2D89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28560" y="1557360"/>
            <a:ext cx="769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Es la manera como se considera que 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ben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comportarse y relacionarse hombres y mujeres durante toda su vida, de acuerdo con cada época y lugar donde v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Por tanto, “ser mujer” y “ser hombre” son conductas que se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prenden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en la familia, la comunidad y la sociedad, y que también se pueden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modifi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99960" y="476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  <a:ea typeface="Arial"/>
              </a:rPr>
              <a:t>Gén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hombre cocinando : cocina joven Foto de archivo"/>
          <p:cNvPicPr/>
          <p:nvPr/>
        </p:nvPicPr>
        <p:blipFill>
          <a:blip r:embed="rId1"/>
          <a:stretch/>
        </p:blipFill>
        <p:spPr>
          <a:xfrm>
            <a:off x="1763640" y="4863960"/>
            <a:ext cx="192888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El perfil de las mujeres taxistas en el DF"/>
          <p:cNvPicPr/>
          <p:nvPr/>
        </p:nvPicPr>
        <p:blipFill>
          <a:blip r:embed="rId2"/>
          <a:stretch/>
        </p:blipFill>
        <p:spPr>
          <a:xfrm>
            <a:off x="5151600" y="4702320"/>
            <a:ext cx="2441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9960" y="6224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  <a:ea typeface="Arial"/>
              </a:rPr>
              <a:t>Perspectiva de gén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833400" y="1557360"/>
            <a:ext cx="70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mplica mirar y actuar hacia adelante pa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mover acciones que favorezcan la igualdad y equidad entre mujeres y homb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conocer y valorar las capacidades por igual de mujeres y homb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avorecer la igualdad de oportunidades y desarrollo para mujeres y homb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mover el ejercicio pleno de los derechos humanos para mujeres y homb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CuadroTexto"/>
          <p:cNvSpPr/>
          <p:nvPr/>
        </p:nvSpPr>
        <p:spPr>
          <a:xfrm>
            <a:off x="755640" y="1433520"/>
            <a:ext cx="756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UJERES Y HOMBRES tenem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recho a conocer y ejercer nuestros derechos huma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recho a la educación, en todos los niveles educa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recho a una vida digna y sin discrimin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recho a desarrollar todas nuestras potencialidades human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recho a las mismas oportunidades en todos los ámbitos de la vi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recho a ser respetadas y respetados,  y a vivir una vida libre de viol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5 CuadroTexto"/>
          <p:cNvSpPr/>
          <p:nvPr/>
        </p:nvSpPr>
        <p:spPr>
          <a:xfrm>
            <a:off x="833400" y="54450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UJERES Y HOMBRES SOMOS IGUAL DE VALIOSOS E IMPORT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99960" y="6224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  <a:ea typeface="Arial"/>
              </a:rPr>
              <a:t>EL DERECHO A LA EDU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99960" y="6224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  <a:ea typeface="Arial"/>
              </a:rPr>
              <a:t>QUÉ HACER COMO ALFABETIZADOR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5 CuadroTexto"/>
          <p:cNvSpPr/>
          <p:nvPr/>
        </p:nvSpPr>
        <p:spPr>
          <a:xfrm>
            <a:off x="755640" y="2852640"/>
            <a:ext cx="287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n el círculo de estu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5 CuadroTexto"/>
          <p:cNvSpPr/>
          <p:nvPr/>
        </p:nvSpPr>
        <p:spPr>
          <a:xfrm>
            <a:off x="3780000" y="1422360"/>
            <a:ext cx="424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ar un trato igualitario y equitativo en las asesorí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alorar por igual la participación de mujeres y homb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ar la palabra a mujeres y hombres por igu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mover y fortalecer la participación oral y escrita de muje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ortalecer la autoestima de las mujeres a través del reconocimiento de sus actividades diar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nejar un lenguaje incluyente, hablar de: ellas y ellos, nosotras y nosotros o de personas jóvenes y adulta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tivar a las personas en sus log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18:37:47Z</dcterms:created>
  <dc:creator>DUARTE</dc:creator>
  <dc:description/>
  <dc:language>en-US</dc:language>
  <cp:lastModifiedBy>PPerez</cp:lastModifiedBy>
  <dcterms:modified xsi:type="dcterms:W3CDTF">2015-09-03T23:07:21Z</dcterms:modified>
  <cp:revision>28</cp:revision>
  <dc:subject/>
  <dc:title>Presentación de PowerPoint</dc:title>
</cp:coreProperties>
</file>