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0C1C-6FAC-4EE4-8A30-FA0A7C928343}" type="slidenum">
              <a:rPr b="1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4B6D-817D-40EC-9CB4-B3FE0E6B2A45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FB56-7A23-4980-BC44-F58382B10D6D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EA02-FACE-4A17-988C-60BEBA4D570E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1C1-F79F-4741-B316-F86AA8D6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308-B664-43A5-BA3A-C359D971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60F-C3BA-4A53-8466-34B38F2A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859-C61F-44A8-8877-93629CE0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435-EF86-4ED7-ACA0-C854C9E8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6B44-B9CF-4078-865D-FD507DEE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5C7-45D2-416A-90AF-8245AE41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2B1-7617-4FA6-A71C-E23678B5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957-9F70-4B58-8F65-9421BF2C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247-F022-4E69-AD4B-3B07D985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67A-F149-4538-8C0C-532A338B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343-D0BC-47D9-8A6A-69EE92AC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8940-DEB1-413C-BE83-06D71EC41A3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PLECAnvaSIN"/>
          <p:cNvPicPr/>
          <p:nvPr/>
        </p:nvPicPr>
        <p:blipFill>
          <a:blip r:embed="rId1"/>
          <a:stretch/>
        </p:blipFill>
        <p:spPr>
          <a:xfrm>
            <a:off x="468360" y="595440"/>
            <a:ext cx="7991280" cy="757080"/>
          </a:xfrm>
          <a:prstGeom prst="rect">
            <a:avLst/>
          </a:prstGeom>
          <a:ln w="0">
            <a:noFill/>
          </a:ln>
        </p:spPr>
      </p:pic>
      <p:sp>
        <p:nvSpPr>
          <p:cNvPr id="49" name="1 CuadroTexto"/>
          <p:cNvSpPr/>
          <p:nvPr/>
        </p:nvSpPr>
        <p:spPr>
          <a:xfrm>
            <a:off x="2843280" y="706320"/>
            <a:ext cx="432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irección Académic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ubdirección de Contenidos Diversificad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partamento de Ejes Diversificad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CuadroTexto"/>
          <p:cNvSpPr/>
          <p:nvPr/>
        </p:nvSpPr>
        <p:spPr>
          <a:xfrm>
            <a:off x="4067280" y="46512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éxico,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70c0"/>
                </a:solidFill>
                <a:latin typeface="Arial"/>
              </a:rPr>
              <a:t>APRENDIZAJE DEL ESPAÑOL COMO SEGUNDA LENG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PLECAnvaSIN"/>
          <p:cNvPicPr/>
          <p:nvPr/>
        </p:nvPicPr>
        <p:blipFill>
          <a:blip r:embed="rId1"/>
          <a:stretch/>
        </p:blipFill>
        <p:spPr>
          <a:xfrm>
            <a:off x="755640" y="236520"/>
            <a:ext cx="7993080" cy="744480"/>
          </a:xfrm>
          <a:prstGeom prst="rect">
            <a:avLst/>
          </a:prstGeom>
          <a:ln w="0">
            <a:noFill/>
          </a:ln>
        </p:spPr>
      </p:pic>
      <p:sp>
        <p:nvSpPr>
          <p:cNvPr id="53" name="1 CuadroTexto"/>
          <p:cNvSpPr/>
          <p:nvPr/>
        </p:nvSpPr>
        <p:spPr>
          <a:xfrm>
            <a:off x="900000" y="1844640"/>
            <a:ext cx="73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y los asesores ¿conocen los materiales y la metodología para el aprendizaje del español oral?, ¿los utilizan y aplica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Han recibido la formación necesaria para manejar la metodología propuesta en el MIBES 2 Hablemos españo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Qué cursos de formación han impartido a los asesores relacionados con el aprendizaje del español ora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Qué contenidos abordan?, ¿cómo  los trabaja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 CuadroTexto"/>
          <p:cNvSpPr/>
          <p:nvPr/>
        </p:nvSpPr>
        <p:spPr>
          <a:xfrm>
            <a:off x="1042920" y="1197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b6bcf"/>
                </a:solidFill>
                <a:latin typeface="Arial"/>
              </a:rPr>
              <a:t>Para comentar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1841400" y="230040"/>
            <a:ext cx="597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Formación para alfabetizadores y asesores bilingües del nivel inici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2556000" y="1413000"/>
            <a:ext cx="1523880" cy="113652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RMACIÓ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INIC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Calibri"/>
              </a:rPr>
              <a:t>16 horas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727200" y="1420920"/>
            <a:ext cx="1439640" cy="1136520"/>
          </a:xfrm>
          <a:prstGeom prst="rect">
            <a:avLst/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LECTURA Y ESCRITURA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DE LA LENGUA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INDÍGEN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100" spc="-1" strike="noStrike">
                <a:solidFill>
                  <a:srgbClr val="000000"/>
                </a:solidFill>
                <a:latin typeface="Calibri"/>
              </a:rPr>
              <a:t>12 horas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4186080" y="1455840"/>
            <a:ext cx="1368720" cy="108252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PARA MEJORA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LA PRÁCTICA I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Calibri"/>
              </a:rPr>
              <a:t>12 hor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5796000" y="1428840"/>
            <a:ext cx="1368360" cy="113652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PARA MEJORA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LA PRÁCTICA  I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Calibri"/>
              </a:rPr>
              <a:t>12 hora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179280" y="1798560"/>
            <a:ext cx="432000" cy="45237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763560" y="2660760"/>
            <a:ext cx="14032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Lengua escrita: sus características y uso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El alfabeto y las características de la lengua indíge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0000"/>
                </a:solidFill>
                <a:latin typeface="Calibri"/>
              </a:rPr>
              <a:t>Para mejorar la lectura en lengua indíge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0000"/>
                </a:solidFill>
                <a:latin typeface="Calibri"/>
              </a:rPr>
              <a:t>Escribir más y mejor en la lengua indíge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2543040" y="2629080"/>
            <a:ext cx="1549440" cy="348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1" lang="es-MX" sz="1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Situación del analfabetismo  y compromiso del alfabetizad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Características y motivación  de las PJ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El MIB: características, estructura, nivel inicial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Concepto  y valor de la alfabetizació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Promoción y aplicación de la entrevista inici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Metodología de la alfabetización en lengua mater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0000"/>
                </a:solidFill>
                <a:latin typeface="Calibri"/>
              </a:rPr>
              <a:t>Metodología del aprendizaje del  español como segunda lengu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Planeación  de las asesorías  y  evaluación del aprendizaj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5796000" y="2698920"/>
            <a:ext cx="1440000" cy="269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Recuperación de la práctica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La lectura y la escritura en una segunda lengua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El trabajo con el MIBES 4: los materiales y su uso, la metodología para el trabajo con el módul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El trabajo con el vocabulario del MIBES 4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Preparación de las asesorí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725400" y="4245120"/>
            <a:ext cx="1441440" cy="40464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HABLO Y ESCRIBO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ESPAÑOL </a:t>
            </a:r>
            <a:r>
              <a:rPr b="1" lang="es-MX" sz="900" spc="-1" strike="noStrike">
                <a:solidFill>
                  <a:srgbClr val="ff0000"/>
                </a:solidFill>
                <a:latin typeface="Calibri"/>
              </a:rPr>
              <a:t>(opcional)</a:t>
            </a:r>
            <a:r>
              <a:rPr b="1" lang="es-MX" sz="1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12 hor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727200" y="4815000"/>
            <a:ext cx="1514520" cy="1470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Aprendizaje del españo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Expresión y comprensión oral en españo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Estrategias para la lectura y escritura de textos en españo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4213080" y="2670120"/>
            <a:ext cx="1366920" cy="353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Recuperación de mi práctica alfabetizador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Importancia de la escritura en lengua indígen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Bases para la lectura y escritura en lengua indígena:  El trabajo con el MIBES 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Tratamiento de  variantes dialectal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0000"/>
                </a:solidFill>
                <a:latin typeface="Calibri"/>
              </a:rPr>
              <a:t>Fortalecimiento  del trabajo con MIBES 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Preparación de las asesorí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7377120" y="2703600"/>
            <a:ext cx="1441440" cy="307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24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1" lang="es-MX" sz="1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La alfabetización y su vinculación con la vida de las person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El trabajo con MIBES 3:  los materiales y su uso, los momentos metodológicos para el trabajo con el módulo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El trabajo con el MIBES 5: materiales y su uso, momentos metodológicos para el  trabajo con el módul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Preparación de las asesorí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7377120" y="1398600"/>
            <a:ext cx="1368360" cy="113652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PARA CONCLUIR E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NIVEL INIC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Calibri"/>
              </a:rPr>
              <a:t>12 hora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9"/>
          <p:cNvSpPr/>
          <p:nvPr/>
        </p:nvSpPr>
        <p:spPr>
          <a:xfrm>
            <a:off x="5796000" y="32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0" y="6543720"/>
            <a:ext cx="9144000" cy="32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2 CuadroTexto"/>
          <p:cNvSpPr/>
          <p:nvPr/>
        </p:nvSpPr>
        <p:spPr>
          <a:xfrm>
            <a:off x="611280" y="692280"/>
            <a:ext cx="7416720" cy="73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70c0"/>
                </a:solidFill>
                <a:latin typeface="Arial"/>
              </a:rPr>
              <a:t>Los asesores y ases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ician el conocimiento de los materiales y la metodología del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MIBES 2 Hablemos español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n el curso de formación inicial (el módulo se puede estudiar simultáneamente con el MIBES 1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ben contar con su Paquete para el asesor bilingüe MIBES 2 y MIBES 4  y trabajar la Guía del asesor Hablemos español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ortalecen el manejo del MIBES 2 con el curso Para mejorar la práctica educativa 1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70c0"/>
                </a:solidFill>
                <a:latin typeface="Arial"/>
              </a:rPr>
              <a:t>En los cursos es important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avorecer la apropiación de la metodología mediante la ejemplificación y ejercitació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oponer actividades que pueden poner en práctica en las asesoría para  favorecer el aprendizaje del español oral como:</a:t>
            </a:r>
            <a:br>
              <a:rPr sz="1600"/>
            </a:b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ramatizaciones o simulaciones de diálogos con personajes de la vida cotidia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versa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ntrevist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Juegos, rimas, adivinanz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scripciones de paisajes, personas, et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an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16:57:07Z</dcterms:created>
  <dc:creator>Mramirez</dc:creator>
  <dc:description/>
  <dc:language>en-US</dc:language>
  <cp:lastModifiedBy>PPerez</cp:lastModifiedBy>
  <cp:lastPrinted>2015-09-22T16:52:28Z</cp:lastPrinted>
  <dcterms:modified xsi:type="dcterms:W3CDTF">2015-09-22T20:26:26Z</dcterms:modified>
  <cp:revision>212</cp:revision>
  <dc:subject/>
  <dc:title>Formación para Asesores/Alfabetizadores MIB</dc:title>
</cp:coreProperties>
</file>