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845-FAF2-4852-8F74-C77D66C1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9BC-45D7-406E-8871-789D6FFD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660-85C0-4CA8-8C4E-C60CC791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FEA-4771-4182-9E67-9EF10B51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9910-BFDA-4DEF-BAA4-7A4A08A7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9824-6A4B-4C48-A8C7-4C35678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802D-304D-41CC-BC6B-5E5D6C9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A1EB-A5DA-405A-95BC-89472AD6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BEF5-D773-44DD-B070-5FEB0270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182D-4BC9-49BC-86B2-E49AF4D4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D848-D6E9-45ED-B5A6-24D7D3A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685-9EFC-494A-91B3-F788207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9C2-BC1F-4B73-96FB-CC1A587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99E9-7368-407B-84DC-148F9AA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E995-ED09-4479-B0AA-583D424A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1311-39D7-414A-9F72-814AA791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CB98-1A04-4DC2-B733-6D530553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4C21C-4C6F-46C6-A920-9F20AC82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D6D97-3DB4-4F1F-9C07-98197753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A2046-9A4C-430F-A3A7-F05C8C00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F0980-5F6D-484B-8267-18C461AD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2DFD9-4969-4125-B741-4D5E150E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26E-1078-4916-9868-8874742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2EA79-39A3-4C45-BA2D-D3317933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305FE-6CA7-48CA-80A4-6AF23401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2BF4B-C9E4-4206-BF7D-7D93269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1A8CB-BE50-4C64-835B-B51B2F1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6BAE-4ED0-4280-8C77-44D8177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6FBE2-0C9C-4574-99FF-6E947EAA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7E6F4-E485-4D81-A285-49E974BA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A56D-D655-4663-81E0-AE6BF9E1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9B6D-0D88-4A10-B7A6-CB323282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69212-117B-4405-954F-C62322EE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138-E2B4-4592-8602-0EB47ECF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98B9-2FBE-4823-8855-84FEBC7D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2457-1410-41FC-9667-ED05777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21CC1-8D8F-4AEC-A1B0-E0FB3061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A025-602B-49B9-8B60-C02E0E3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AF614-CB0A-4347-8DE4-03D0D63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A4F9-DAE4-48DA-BF8C-4B04705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319C-F149-457E-A91E-DC97FD1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446E-58FC-4FC8-A21E-B1FF1BFA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9A86-1EFF-4B94-8DB1-39294965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389B4-CA35-4451-A07C-2EABA8CE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20B-BEFC-472B-BCEA-A951C524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B9B63-F48F-4E0B-96DB-045B139A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F64AA-EF29-4AC2-8FEE-E68397E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4E906-6A98-45BE-B426-E3D3ED38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0D8D3-304E-4637-B422-AD9E891B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F26D1-7982-46E1-9696-449248E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5462A-0BE0-4A4B-A2C5-C9E72373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4DA8A-BB5E-44DC-8AFC-6EDC16E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5EC7C-9879-4C4C-9654-2E67EF7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B9E11-9D34-4622-9CCE-C47C4A61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9F9D8-975E-4E7E-B84C-54A6E340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3D7-D46E-408D-BC21-BC5CCCF8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CFE32-D9A9-41B0-9AFB-F6FA09AC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82480-049C-4552-A332-C5D6A578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DF0CA-9A69-4B38-A51A-861C8A92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AFCC3-3142-4644-ACD8-7F08BC94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2C6E7-005B-40C8-895F-B5B16043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FDBA6-A57F-43B7-8273-04E49566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02ADA-1BDD-4AF2-BB16-783FF055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7A671-DC92-48CE-BE62-6D44287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947D7-DD9A-4279-BE4E-95D6B26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05DFD-4949-4BC5-A314-CC1EA0A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9C7-6560-4416-B0B1-8487612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73AD4-98F1-4558-8D56-F6F4A618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A41BE-520D-4B1E-8C6E-66AD2C0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7A924-9956-4622-8868-9E05ABA5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52148-F065-4AC0-B626-B2815FC8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E151D-F744-4B6B-B762-140F6C52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6EAAE-F69B-4883-A3D9-3A9DFEA6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CEA5E-BB9C-4058-B130-B69E1682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09088-A024-4E10-A2FB-FF90DEB3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C5CD6-9B3F-4B1D-A830-EBFCCCF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078AF-0FF1-4917-B180-EA78D6D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714-AD95-4ADA-9F43-B2EE9C8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1E9F8-CE45-4A14-A682-0181D25D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977DD-5D47-4AED-BF49-A0AE6DA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06417-D0F0-4AF5-A5C9-DA135ECE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AD059-4ACA-4FC5-9B67-D6C5169B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94851-868C-4960-BC36-B5856FFF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DB6C-36FB-491B-9E8B-5112AF95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79B7C-3335-4473-9F43-059E337F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0D832-8FA5-4B81-90F1-4DD2FE66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2739B-FD78-4608-B4DB-39C34DD8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E0DDF-6D83-4F00-92C5-164067C4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751-D9DF-4438-A825-3000BB6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A232D-D622-4F38-99EA-5DF4BDBA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DC2BF-80DB-4E38-A039-85DA8B1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C649-8CF7-47A9-805F-385B9D59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2821B-40B3-4D29-B052-2977CAE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58AAD-139E-4CB2-87B0-2D74A118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276E2-04F4-4C27-A4F8-A14BD870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84A35-DD31-44E1-974D-F812E7DC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7804-FED3-4396-9DBA-593A0AFA871B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41B7-ADD8-45E4-BD0D-FBD680543D9E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22EC-5D17-49BD-AC2B-51FA3CE43301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12EA-27DB-4B92-A561-95006E1DAA80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B4BB-9F0D-4761-A5CB-81B20334E517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E789-61B6-411B-877D-A3928560899E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3467-C0A6-4F85-9B04-5A6898617145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2DAD-4D92-4407-91D4-72A455E393E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MÉTODOLOGÍA DE LA LENGUA MATERNA INDÍGENA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MIBES 1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2077920" y="2511360"/>
            <a:ext cx="2683080" cy="3395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2"/>
          <a:stretch/>
        </p:blipFill>
        <p:spPr>
          <a:xfrm>
            <a:off x="5292720" y="2590920"/>
            <a:ext cx="24606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1 Grupo"/>
          <p:cNvGrpSpPr/>
          <p:nvPr/>
        </p:nvGrpSpPr>
        <p:grpSpPr>
          <a:xfrm>
            <a:off x="324000" y="333360"/>
            <a:ext cx="8351640" cy="5970600"/>
            <a:chOff x="324000" y="333360"/>
            <a:chExt cx="8351640" cy="5970600"/>
          </a:xfrm>
        </p:grpSpPr>
        <p:sp>
          <p:nvSpPr>
            <p:cNvPr id="437" name="10 CuadroTexto"/>
            <p:cNvSpPr/>
            <p:nvPr/>
          </p:nvSpPr>
          <p:spPr>
            <a:xfrm>
              <a:off x="5819760" y="333360"/>
              <a:ext cx="2504880" cy="146556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entury Schoolbook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entury Schoolbook"/>
                </a:rPr>
                <a:t>EDUCACIÓN DE LOS HIJ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entury Schoolbook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entury Schoolbook"/>
                </a:rPr>
                <a:t>TRADI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11 CuadroTexto"/>
            <p:cNvSpPr/>
            <p:nvPr/>
          </p:nvSpPr>
          <p:spPr>
            <a:xfrm>
              <a:off x="441360" y="2314440"/>
              <a:ext cx="1577880" cy="82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e8637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Century Schoolbook"/>
                </a:rPr>
                <a:t>Localizando y descubriendo text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4 CuadroTexto"/>
            <p:cNvSpPr/>
            <p:nvPr/>
          </p:nvSpPr>
          <p:spPr>
            <a:xfrm>
              <a:off x="4584600" y="5661360"/>
              <a:ext cx="4091040" cy="64260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A TRAVÉS DE  ALGUNAS ACTIVIDADES DIDÁCTICAS ESPECÍFIC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13 CuadroTexto" descr=""/>
            <p:cNvPicPr/>
            <p:nvPr/>
          </p:nvPicPr>
          <p:blipFill>
            <a:blip r:embed="rId1"/>
            <a:stretch/>
          </p:blipFill>
          <p:spPr>
            <a:xfrm>
              <a:off x="5492520" y="3864960"/>
              <a:ext cx="28954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14 CuadroTexto"/>
            <p:cNvSpPr/>
            <p:nvPr/>
          </p:nvSpPr>
          <p:spPr>
            <a:xfrm>
              <a:off x="7078680" y="2386080"/>
              <a:ext cx="1596960" cy="58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e8637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Haciendo nuevos text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15 CuadroTexto"/>
            <p:cNvSpPr/>
            <p:nvPr/>
          </p:nvSpPr>
          <p:spPr>
            <a:xfrm>
              <a:off x="441360" y="3538440"/>
              <a:ext cx="1577880" cy="179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e8637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4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Usándolos fuera del espacio educativo, en la casa, el trabajo o la comunida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5 CuadroTexto"/>
            <p:cNvSpPr/>
            <p:nvPr/>
          </p:nvSpPr>
          <p:spPr>
            <a:xfrm>
              <a:off x="497160" y="1657080"/>
              <a:ext cx="1348200" cy="368280"/>
            </a:xfrm>
            <a:prstGeom prst="rect">
              <a:avLst/>
            </a:prstGeom>
            <a:noFill/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6 CuadroTexto"/>
            <p:cNvSpPr/>
            <p:nvPr/>
          </p:nvSpPr>
          <p:spPr>
            <a:xfrm>
              <a:off x="2909880" y="1665360"/>
              <a:ext cx="1938600" cy="368280"/>
            </a:xfrm>
            <a:prstGeom prst="rect">
              <a:avLst/>
            </a:prstGeom>
            <a:noFill/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Espacio educativ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19 Flecha derecha"/>
            <p:cNvSpPr/>
            <p:nvPr/>
          </p:nvSpPr>
          <p:spPr>
            <a:xfrm>
              <a:off x="2271600" y="2552760"/>
              <a:ext cx="574560" cy="761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e7d7"/>
            </a:solidFill>
            <a:ln w="12600">
              <a:solidFill>
                <a:srgbClr val="fe8637"/>
              </a:solidFill>
              <a:miter/>
            </a:ln>
            <a:effectLst>
              <a:outerShdw dist="20160" dir="5400000" blurRad="0" rotWithShape="0">
                <a:srgbClr val="000000">
                  <a:alpha val="4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20 CuadroTexto"/>
            <p:cNvSpPr/>
            <p:nvPr/>
          </p:nvSpPr>
          <p:spPr>
            <a:xfrm>
              <a:off x="5060880" y="2286000"/>
              <a:ext cx="1568160" cy="87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e8637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Century Schoolbook"/>
                </a:rPr>
                <a:t>Descubriendo nuevos texto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21 Conector recto"/>
            <p:cNvSpPr/>
            <p:nvPr/>
          </p:nvSpPr>
          <p:spPr>
            <a:xfrm>
              <a:off x="4656240" y="2724120"/>
              <a:ext cx="404640" cy="0"/>
            </a:xfrm>
            <a:prstGeom prst="line">
              <a:avLst/>
            </a:prstGeom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22 Conector recto"/>
            <p:cNvSpPr/>
            <p:nvPr/>
          </p:nvSpPr>
          <p:spPr>
            <a:xfrm>
              <a:off x="6664320" y="2811600"/>
              <a:ext cx="406080" cy="0"/>
            </a:xfrm>
            <a:prstGeom prst="line">
              <a:avLst/>
            </a:prstGeom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23 Conector recto"/>
            <p:cNvSpPr/>
            <p:nvPr/>
          </p:nvSpPr>
          <p:spPr>
            <a:xfrm>
              <a:off x="6864480" y="2811600"/>
              <a:ext cx="0" cy="1109520"/>
            </a:xfrm>
            <a:prstGeom prst="line">
              <a:avLst/>
            </a:prstGeom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24 Flecha derecha"/>
            <p:cNvSpPr/>
            <p:nvPr/>
          </p:nvSpPr>
          <p:spPr>
            <a:xfrm rot="10800000">
              <a:off x="2203560" y="4092120"/>
              <a:ext cx="574560" cy="7635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e7d7"/>
            </a:solidFill>
            <a:ln w="12600">
              <a:solidFill>
                <a:srgbClr val="fe8637"/>
              </a:solidFill>
              <a:miter/>
            </a:ln>
            <a:effectLst>
              <a:outerShdw dist="20160" dir="5400000" blurRad="0" rotWithShape="0">
                <a:srgbClr val="000000">
                  <a:alpha val="4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25 CuadroTexto"/>
            <p:cNvSpPr/>
            <p:nvPr/>
          </p:nvSpPr>
          <p:spPr>
            <a:xfrm>
              <a:off x="2967120" y="2286000"/>
              <a:ext cx="1689120" cy="3111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e8637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Utilizándolos en situaciones estructuradas dentro del espacio educativ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3 CuadroTexto"/>
            <p:cNvSpPr/>
            <p:nvPr/>
          </p:nvSpPr>
          <p:spPr>
            <a:xfrm>
              <a:off x="324000" y="471240"/>
              <a:ext cx="5635440" cy="947160"/>
            </a:xfrm>
            <a:prstGeom prst="rect">
              <a:avLst/>
            </a:prstGeom>
            <a:noFill/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Se puede comenzar con algunos ejes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2 Grupo"/>
          <p:cNvGrpSpPr/>
          <p:nvPr/>
        </p:nvGrpSpPr>
        <p:grpSpPr>
          <a:xfrm>
            <a:off x="2691360" y="1057320"/>
            <a:ext cx="3960360" cy="5105520"/>
            <a:chOff x="2691360" y="1057320"/>
            <a:chExt cx="3960360" cy="5105520"/>
          </a:xfrm>
        </p:grpSpPr>
        <p:grpSp>
          <p:nvGrpSpPr>
            <p:cNvPr id="402" name="1 Grupo"/>
            <p:cNvGrpSpPr/>
            <p:nvPr/>
          </p:nvGrpSpPr>
          <p:grpSpPr>
            <a:xfrm>
              <a:off x="2691360" y="1057320"/>
              <a:ext cx="3960360" cy="3475440"/>
              <a:chOff x="2691360" y="1057320"/>
              <a:chExt cx="3960360" cy="3475440"/>
            </a:xfrm>
          </p:grpSpPr>
          <p:pic>
            <p:nvPicPr>
              <p:cNvPr id="403" name="Picture 2" descr=""/>
              <p:cNvPicPr/>
              <p:nvPr/>
            </p:nvPicPr>
            <p:blipFill>
              <a:blip r:embed="rId1"/>
              <a:stretch/>
            </p:blipFill>
            <p:spPr>
              <a:xfrm rot="20195400">
                <a:off x="3098520" y="1328760"/>
                <a:ext cx="1872000" cy="2439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404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923720" y="2281320"/>
                <a:ext cx="1728000" cy="225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405" name="Picture 4" descr=""/>
            <p:cNvPicPr/>
            <p:nvPr/>
          </p:nvPicPr>
          <p:blipFill>
            <a:blip r:embed="rId3"/>
            <a:stretch/>
          </p:blipFill>
          <p:spPr>
            <a:xfrm rot="5400000">
              <a:off x="2895120" y="3679920"/>
              <a:ext cx="2755800" cy="22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6 CuadroTexto"/>
          <p:cNvSpPr/>
          <p:nvPr/>
        </p:nvSpPr>
        <p:spPr>
          <a:xfrm>
            <a:off x="1692360" y="333360"/>
            <a:ext cx="57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ateriales de MIBES 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7 Rectángulo" descr=""/>
          <p:cNvPicPr/>
          <p:nvPr/>
        </p:nvPicPr>
        <p:blipFill>
          <a:blip r:embed="rId4"/>
          <a:stretch/>
        </p:blipFill>
        <p:spPr>
          <a:xfrm>
            <a:off x="311040" y="927000"/>
            <a:ext cx="2859120" cy="3243240"/>
          </a:xfrm>
          <a:prstGeom prst="rect">
            <a:avLst/>
          </a:prstGeom>
          <a:ln w="0">
            <a:noFill/>
          </a:ln>
        </p:spPr>
      </p:pic>
      <p:pic>
        <p:nvPicPr>
          <p:cNvPr id="408" name="8 Rectángulo" descr=""/>
          <p:cNvPicPr/>
          <p:nvPr/>
        </p:nvPicPr>
        <p:blipFill>
          <a:blip r:embed="rId5"/>
          <a:stretch/>
        </p:blipFill>
        <p:spPr>
          <a:xfrm>
            <a:off x="5273640" y="993600"/>
            <a:ext cx="3559320" cy="2414880"/>
          </a:xfrm>
          <a:prstGeom prst="rect">
            <a:avLst/>
          </a:prstGeom>
          <a:ln w="0">
            <a:noFill/>
          </a:ln>
        </p:spPr>
      </p:pic>
      <p:pic>
        <p:nvPicPr>
          <p:cNvPr id="409" name="10 Rectángulo" descr=""/>
          <p:cNvPicPr/>
          <p:nvPr/>
        </p:nvPicPr>
        <p:blipFill>
          <a:blip r:embed="rId6"/>
          <a:stretch/>
        </p:blipFill>
        <p:spPr>
          <a:xfrm>
            <a:off x="1395360" y="3754440"/>
            <a:ext cx="2311560" cy="1420920"/>
          </a:xfrm>
          <a:prstGeom prst="rect">
            <a:avLst/>
          </a:prstGeom>
          <a:ln w="0">
            <a:noFill/>
          </a:ln>
        </p:spPr>
      </p:pic>
      <p:pic>
        <p:nvPicPr>
          <p:cNvPr id="410" name="11 Rectángulo" descr=""/>
          <p:cNvPicPr/>
          <p:nvPr/>
        </p:nvPicPr>
        <p:blipFill>
          <a:blip r:embed="rId7"/>
          <a:stretch/>
        </p:blipFill>
        <p:spPr>
          <a:xfrm>
            <a:off x="5376960" y="3309840"/>
            <a:ext cx="3224160" cy="2444760"/>
          </a:xfrm>
          <a:prstGeom prst="rect">
            <a:avLst/>
          </a:prstGeom>
          <a:ln w="0">
            <a:noFill/>
          </a:ln>
        </p:spPr>
      </p:pic>
      <p:pic>
        <p:nvPicPr>
          <p:cNvPr id="411" name="12 Rectángulo" descr=""/>
          <p:cNvPicPr/>
          <p:nvPr/>
        </p:nvPicPr>
        <p:blipFill>
          <a:blip r:embed="rId8"/>
          <a:stretch/>
        </p:blipFill>
        <p:spPr>
          <a:xfrm>
            <a:off x="762120" y="6162840"/>
            <a:ext cx="7772400" cy="529920"/>
          </a:xfrm>
          <a:prstGeom prst="rect">
            <a:avLst/>
          </a:prstGeom>
          <a:ln w="0">
            <a:noFill/>
          </a:ln>
        </p:spPr>
      </p:pic>
      <p:sp>
        <p:nvSpPr>
          <p:cNvPr id="412" name="1 CuadroTexto"/>
          <p:cNvSpPr/>
          <p:nvPr/>
        </p:nvSpPr>
        <p:spPr>
          <a:xfrm>
            <a:off x="108000" y="11592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alibri"/>
              </a:rPr>
              <a:t>Nota: Adaptar diapositivas a la versión del MIBES 1 correspondi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75c01"/>
                </a:solidFill>
                <a:latin typeface="Calibri"/>
              </a:rPr>
              <a:t>METODOLOGÍA DE ALFABETIZACIÓN EN LA LENGUA MATERNA INDÍGEN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547640" y="3214800"/>
            <a:ext cx="31687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ectura de tex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Anticip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Lectur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Comprens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2 Marcador de contenido"/>
          <p:cNvSpPr/>
          <p:nvPr/>
        </p:nvSpPr>
        <p:spPr>
          <a:xfrm>
            <a:off x="971640" y="5013360"/>
            <a:ext cx="734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Lectura y escritura de frases, palabras y letr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Características de los textos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5 CuadroTexto"/>
          <p:cNvSpPr/>
          <p:nvPr/>
        </p:nvSpPr>
        <p:spPr>
          <a:xfrm>
            <a:off x="826920" y="220500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dentificación de las situaciones de uso de textos de lectura y escrit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2 Marcador de contenido"/>
          <p:cNvSpPr/>
          <p:nvPr/>
        </p:nvSpPr>
        <p:spPr>
          <a:xfrm>
            <a:off x="4994280" y="3213000"/>
            <a:ext cx="3538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Escritura del tex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alibri"/>
                <a:ea typeface="Arial"/>
              </a:rPr>
              <a:t>Planea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alibri"/>
                <a:ea typeface="Arial"/>
              </a:rPr>
              <a:t>Redac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alibri"/>
                <a:ea typeface="Arial"/>
              </a:rPr>
              <a:t>Revisión y correc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4 Marcador de texto"/>
          <p:cNvSpPr/>
          <p:nvPr/>
        </p:nvSpPr>
        <p:spPr>
          <a:xfrm>
            <a:off x="1042920" y="1700280"/>
            <a:ext cx="4075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MS PGothic"/>
              </a:rPr>
              <a:t>Materiales “nuevo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60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75c01"/>
                </a:solidFill>
                <a:latin typeface="Calibri"/>
              </a:rPr>
              <a:t>MOMENTOS DE TRABAJO MIBES 1 (NUEVOS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250920" y="1557360"/>
            <a:ext cx="4390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Momentos de lec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ituación comunicativa de lect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prensión del tex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Lectura de frase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Lectura de palabra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1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Identificación de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letra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427640" y="1486080"/>
            <a:ext cx="4248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lic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Momento en donde la persona sabe en qué circunstancia  debe  leer un determinado tex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ermite poner en juego los conocimientos que se tiene sobre lo que va a leer, para comprender lo que dice el text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Ejercita el reconocimiento de la escritura de palabras y el orden de éstas.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Se práctica la lectura de palabras completas para recocer su escritur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Se lleva a cabo el reconocimiento de la letra para diferenciar los rasgos.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75c01"/>
                </a:solidFill>
                <a:latin typeface="Century Schoolbook"/>
              </a:rPr>
              <a:t>MOMENTOS DE TRABAJO MIBES 1</a:t>
            </a:r>
            <a:r>
              <a:rPr b="1" lang="es-MX" sz="28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lang="es-MX" sz="1600" spc="-1" strike="noStrike">
                <a:solidFill>
                  <a:srgbClr val="ff0000"/>
                </a:solidFill>
                <a:latin typeface="Century Schoolbook"/>
              </a:rPr>
              <a:t>(NUEVOS)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468360" y="1630440"/>
            <a:ext cx="439092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99"/>
                </a:solidFill>
                <a:latin typeface="Calibri"/>
              </a:rPr>
              <a:t>Momentos de escri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ituación comunic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lan de escritur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scritura del texto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2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Revisión y corrección del tex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1630440"/>
            <a:ext cx="39672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99"/>
                </a:solidFill>
                <a:latin typeface="Calibri"/>
              </a:rPr>
              <a:t>Explic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Momento en donde la persona sabe en qué circunstancia  debe  escribir un determinado tex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ermite pensar qué información queremos comunicar en el texto.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Se expresan las ideas de forma escrita, utilizando las reglas de escritura, el formato del texto.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Ayuda a verificar que las ideas estén claras y que tengan coherencia entre ellas, que escriban las palabras correctamente, que hagan el buen uso de mayúsculas, que utilicen los signos de puntuación o bien las reglas propias de cada lengua.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75c01"/>
                </a:solidFill>
                <a:latin typeface="Century Schoolbook"/>
              </a:rPr>
              <a:t>MOMENTOS DE TRABAJO MIBES 1</a:t>
            </a:r>
            <a:r>
              <a:rPr b="1" lang="es-MX" sz="25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Century Schoolbook"/>
              </a:rPr>
              <a:t>(NUEVOS)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468360" y="1846440"/>
            <a:ext cx="395928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99"/>
                </a:solidFill>
                <a:latin typeface="Calibri"/>
              </a:rPr>
              <a:t>Momentos de escri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scritura de frase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scritura de palab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scritura de letra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2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roducción del texto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paración de text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4284720" y="1846440"/>
            <a:ext cx="42544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99"/>
                </a:solidFill>
                <a:latin typeface="Arial"/>
              </a:rPr>
              <a:t>Explic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ejercita la escritura de textos breves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actican la escritura de palabras completa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jercita la escritura de la letra para reconocer los rasgos, la posición que se encuentra en las palabr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abora textos brev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mite diferenciar las características y usos de los textos que se estudian en cada lecc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8"/>
          <p:cNvSpPr/>
          <p:nvPr/>
        </p:nvSpPr>
        <p:spPr>
          <a:xfrm flipV="1">
            <a:off x="611280" y="187956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paración de textos para leer y escribi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actividad previa al trabajo de las lecciones del Libro del adul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dentificación de la letra a aprender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lenado de la letra para completar la palabra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ectura de palabras o enunciados de las imágenes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lación de la imagen con la palabra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lática acerca de la imagen presentada con palabras claves de la letra a estudiar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75f6d"/>
                </a:solidFill>
                <a:latin typeface="Century Schoolbook"/>
              </a:rPr>
              <a:t>PASOS PARA EL TRABAJO DEL MÓDULO MIBES 1</a:t>
            </a:r>
            <a:r>
              <a:rPr b="0" lang="es-MX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MX" sz="1800" spc="-1" strike="noStrike">
                <a:solidFill>
                  <a:srgbClr val="ff0000"/>
                </a:solidFill>
                <a:latin typeface="Century Schoolbook"/>
              </a:rPr>
              <a:t>(VIEJITOS)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75c01"/>
                </a:solidFill>
                <a:latin typeface="Century Schoolbook"/>
              </a:rPr>
              <a:t>PASOS Y EXPLICACIÓN DE LOS PASOS DEL  MÓDULO MIBES 1 </a:t>
            </a:r>
            <a:r>
              <a:rPr b="1" lang="es-MX" sz="1800" spc="-1" strike="noStrike">
                <a:solidFill>
                  <a:srgbClr val="ff0000"/>
                </a:solidFill>
                <a:latin typeface="Century Schoolbook"/>
              </a:rPr>
              <a:t>(VIEJITOS)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755640" y="2060640"/>
          <a:ext cx="7632720" cy="4451400"/>
        </p:xfrm>
        <a:graphic>
          <a:graphicData uri="http://schemas.openxmlformats.org/drawingml/2006/table">
            <a:tbl>
              <a:tblPr/>
              <a:tblGrid>
                <a:gridCol w="3456000"/>
                <a:gridCol w="4176720"/>
              </a:tblGrid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ción de textos para leer y escrib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alfabetizador prepara textos de interés para que los adultos participen de su lectura y escri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57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ción de la letra a aprende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lleva a cabo el reconocimiento de la letra que se va a estudia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enado de la letra para completar la palabra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completan palabras para reconocer la escritura de éstas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a de palabras o enunciados de las imágenes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realiza la lectura de palabras para completar en algunas actividades o formar enunciados nuevo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ón de la imagen con la palabra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asocia la palabra escrita con la imagen, identificando los significados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tica acerca de la imagen presentada con palabras claves de la letra a estudiar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realizan preguntas de lo que ve en la imagen para recuperar palabras o ideas que tengan la letra que se va a estudiar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d7"/>
                    </a:solidFill>
                  </a:tcPr>
                </a:tc>
              </a:tr>
            </a:tbl>
          </a:graphicData>
        </a:graphic>
      </p:graphicFrame>
      <p:sp>
        <p:nvSpPr>
          <p:cNvPr id="432" name="1 Rectángulo"/>
          <p:cNvSpPr/>
          <p:nvPr/>
        </p:nvSpPr>
        <p:spPr>
          <a:xfrm>
            <a:off x="1559880" y="1700280"/>
            <a:ext cx="2398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Momentos de escri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2 Rectángulo"/>
          <p:cNvSpPr/>
          <p:nvPr/>
        </p:nvSpPr>
        <p:spPr>
          <a:xfrm>
            <a:off x="5988600" y="162864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xplic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5 CuadroTexto"/>
          <p:cNvSpPr/>
          <p:nvPr/>
        </p:nvSpPr>
        <p:spPr>
          <a:xfrm>
            <a:off x="503280" y="2060640"/>
            <a:ext cx="8101080" cy="44809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MS PGothic"/>
              </a:rPr>
              <a:t>Construcción de ambientes letr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MS PGothic"/>
              </a:rPr>
              <a:t>Identificar o elaborar  textos en lengua indígena para ser leídos o que sirvan como modelos  para escribirlos con los adul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MS PGothic"/>
              </a:rPr>
              <a:t>Identificar tareas, acciones personales o  comunitarias para escribirl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  <a:ea typeface="MS PGothic"/>
              </a:rPr>
              <a:t>Identificar textos orales para transformarlos en textos escr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324000" y="5414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a ampliar las posibilidades de la alfabetiza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23:53:57Z</dcterms:created>
  <dc:creator>ELY</dc:creator>
  <dc:description/>
  <dc:language>en-US</dc:language>
  <cp:lastModifiedBy>PPerez</cp:lastModifiedBy>
  <dcterms:modified xsi:type="dcterms:W3CDTF">2015-08-12T20:00:13Z</dcterms:modified>
  <cp:revision>13</cp:revision>
  <dc:subject/>
  <dc:title>Presentación de PowerPoint</dc:title>
</cp:coreProperties>
</file>