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123D-2D40-409D-871E-5BD0543220C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3F91-45EE-4F1B-B9F6-6260897EBE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A85EDF6-4FF7-45CD-AE6B-887D05CA42F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7BA0BC5-A419-4C83-A6F4-9112628EFD7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FD0-6AC1-4356-8170-5B75025213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23F-CBDA-401D-81BF-9F0C6E59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120-1640-4070-983D-B3B59BD1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3BA-EB59-4CA4-B481-6A699B38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3FE-3DE7-4C3F-A646-917BE1CA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4FBA-1F12-4B74-B4E4-402EA3C9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8EBF-6BBF-474B-B007-ECB49EB1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0D3B-91C4-42B1-A7DA-DC19DDC3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5F97-CCD3-4500-9D63-F78CFDD8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FF26-F59A-45EA-B826-3E20EE87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C455-A85B-4D57-B2BA-432E78F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63CF-4387-4A74-8341-ABD581D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96B-3D06-4262-9731-8D183918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648-60AB-4CE5-AFE1-9A49681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BF07-4A17-4859-9B9E-FA559EC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0EF5-7E97-4381-9D56-94E2C11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64FD-8229-4744-BF3E-FFE3E257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C56-FB96-4B78-B70B-8CA2F78D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BA9A-A90B-492B-A5E4-D0E42E75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DB9B-01F9-4770-A7C3-674A3922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A82A-5BE0-44F4-95E7-B68BE85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359A-9E35-4F91-8865-AB95123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F658-39FB-4949-81E4-387173E4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B28-9686-4B61-8DB5-CF36E59A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AB80-3268-49FE-8C42-467842E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FD7D-0056-4123-8B32-52D997B0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FEBE-50E7-4FFF-8DF0-B1BC2E38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5168-400D-41CB-8A5F-D83CA9C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1468-A37E-48EF-AF3A-7A573BD7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B3C8-3EBB-4E70-B988-DAC7DEC2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1151-446D-4F7B-8D32-4EB6A8BA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FDDFF-118F-48CF-9E87-46BE3FEB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A8E9-5B4B-42F9-B32C-669B89CC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22CF-18D9-45A7-B612-569B6446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425-0FE6-4C4F-81A0-D4DE44DE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17E3-388C-4641-AE95-A029ED4C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9CBA-231A-4652-B3C8-05EC6EB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EA86-8D3E-4A31-A459-76DE9AB3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BD81-F4F4-40C5-BFBD-882E6E7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34FE-6EF3-474F-B993-275228F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BC45-089F-4B2A-9A1B-70947D5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7E5A-AFD0-4989-80EC-14A300E2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4892-C173-4413-9775-37307624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7AC8-DD13-46F5-A665-D1E648F7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DE60-784E-414F-86D2-69164098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253-F665-4686-956D-7E398E80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73BB8-45E1-4904-A4F1-D1B7F2F5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66EC-5737-4B20-B370-2040DCC0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EC08-2895-4103-B94E-F3239E5C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B5AF-C0E9-4E20-A4BC-CABBA97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D6E6-350C-4E05-8E64-63E12030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1652-C941-45A9-86B0-48E48FBB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F231-5450-40C0-AA1F-F1991317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218F-1D01-408C-82C1-35E2D9F8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2AB6-2735-4EF0-B44F-780CE34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431C-FB66-4222-9CBC-08EE26C0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30D-D7DC-42D9-AC43-2F3C2BA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71D8-73C5-4DA4-B192-8F044C88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C8D-44E4-4D5C-A315-B5F4B1E4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DAD-1821-403F-9AB5-8BA1A7FA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2C6-403E-44A1-91B0-A59D9BF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3D6E-7395-46C7-A221-AEA653F9C161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5233-BCA3-432A-965C-4A919F03C5E6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F71-C72A-4459-89F2-857F32BB6808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E3CD-DD81-44F6-B310-3E837A0B6977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EC1-E46B-4C71-91E9-E7B9466D5E48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1f497d"/>
                </a:solidFill>
                <a:latin typeface="Arial"/>
              </a:rPr>
              <a:t>DETERMINACIÓN DEL BILINGÜISMO</a:t>
            </a:r>
            <a:endParaRPr b="0" lang="en-US" sz="5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24955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211280" y="1555560"/>
            <a:ext cx="469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enta de lo que tratará la entrevista, el tiempo aproximado que tardarás e invítala a estudiar o alfabetiz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 iniciar pregunta únicamente el nombre de la persona. Al finalizar anotarás los datos restantes a la portada del instru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117600" cy="25351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1547640" y="476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omendaciones para la aplicación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250920" y="1844640"/>
            <a:ext cx="5078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urante el transcurso de la entrevista, lee en voz alta algunas de las respuestas de las personas para que te confirme que anotaste correctamente lo que está diciendo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la persona no quiere o no puede responder algo, apúntalo así y pasa al siguiente punto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216240" cy="3743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1547640" y="476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omendaciones para la aplicación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514440" y="2060640"/>
            <a:ext cx="8137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MS PGothic"/>
              </a:rPr>
              <a:t>1. ¿Qué es el bilingüismo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MS PGothic"/>
              </a:rPr>
              <a:t>2. Todas las personas bilingües que conocen ¿tienen el mismo dominio de las dos lengu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MS PGothic"/>
              </a:rPr>
              <a:t>3. ¿Por qué es importante conocer el tipo de bilingüismo de los educando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Rectángulo 26"/>
          <p:cNvSpPr/>
          <p:nvPr/>
        </p:nvSpPr>
        <p:spPr>
          <a:xfrm>
            <a:off x="3648240" y="676440"/>
            <a:ext cx="5027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rajan Pro"/>
                <a:ea typeface="Trajan Pro"/>
              </a:rPr>
              <a:t>Preguntas de inici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3480" y="61416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d0d0d"/>
                </a:solidFill>
                <a:latin typeface="Arial"/>
                <a:ea typeface="MS PGothic"/>
              </a:rPr>
              <a:t>¿Qué es el bilingüismo?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24000" y="1628640"/>
            <a:ext cx="8569080" cy="5031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  <a:ea typeface="MS PGothic"/>
              </a:rPr>
              <a:t>Es la capacidad de una persona de saber dos lengua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  <a:ea typeface="MS PGothic"/>
              </a:rPr>
              <a:t>El uso de la segunda lengua varía de acuerdo con el grado de conocimiento que se tenga para entender, hablar, leer y/o escribi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746600" y="2252520"/>
            <a:ext cx="27781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30280" y="119556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lingüe receptivo en españo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persona que domina la lengua indígena y que comprende algunas palabras o expresiones del español, pero no puede expresarse o hablar en españo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lingüe incipiente en españo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persona que domina la lengua indígena y puede producir algunas expresiones en español, pero no puede entablar una plática extens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ilingüe coordinado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persona que domina, comprende y habla su lengua indígena y el españo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952560" y="549360"/>
            <a:ext cx="74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d0d0d"/>
                </a:solidFill>
                <a:latin typeface="Arial"/>
                <a:ea typeface="MS PGothic"/>
              </a:rPr>
              <a:t>Tipos de bilingüism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55640" y="3131640"/>
            <a:ext cx="357192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recomendarle  la forma en la que iniciará su proceso de alfabet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25520" y="4149720"/>
            <a:ext cx="403884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plicando la entrevista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 Título"/>
          <p:cNvSpPr/>
          <p:nvPr/>
        </p:nvSpPr>
        <p:spPr>
          <a:xfrm>
            <a:off x="4915080" y="3284640"/>
            <a:ext cx="3760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376092"/>
                </a:solidFill>
                <a:latin typeface="Arial"/>
              </a:rPr>
              <a:t>¿CÓMO PUEDO IDENTIFICAR LOS TIPOS DE BILINGÜISMO?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5 Rectángulo"/>
          <p:cNvSpPr/>
          <p:nvPr/>
        </p:nvSpPr>
        <p:spPr>
          <a:xfrm>
            <a:off x="582480" y="1836720"/>
            <a:ext cx="3913200" cy="4256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  <a:effectLst>
            <a:outerShdw dist="25455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6 Rectángulo"/>
          <p:cNvSpPr/>
          <p:nvPr/>
        </p:nvSpPr>
        <p:spPr>
          <a:xfrm>
            <a:off x="4951440" y="2909880"/>
            <a:ext cx="4003560" cy="3183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  <a:effectLst>
            <a:outerShdw dist="25455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1 Título"/>
          <p:cNvSpPr/>
          <p:nvPr/>
        </p:nvSpPr>
        <p:spPr>
          <a:xfrm>
            <a:off x="684360" y="2133720"/>
            <a:ext cx="37400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376092"/>
                </a:solidFill>
                <a:latin typeface="Arial"/>
              </a:rPr>
              <a:t>¿POR QUÉ ES IMPORTANTE IDENTIFICAR EL TIPO DE BILINGÜISMO DE LAS PERSONAS?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43440" y="500040"/>
            <a:ext cx="39052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6 Grupo"/>
          <p:cNvGrpSpPr/>
          <p:nvPr/>
        </p:nvGrpSpPr>
        <p:grpSpPr>
          <a:xfrm>
            <a:off x="29160" y="1738440"/>
            <a:ext cx="8689320" cy="5179680"/>
            <a:chOff x="29160" y="1738440"/>
            <a:chExt cx="8689320" cy="51796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307960" y="1738440"/>
              <a:ext cx="4128120" cy="29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" descr=""/>
            <p:cNvPicPr/>
            <p:nvPr/>
          </p:nvPicPr>
          <p:blipFill>
            <a:blip r:embed="rId2"/>
            <a:stretch/>
          </p:blipFill>
          <p:spPr>
            <a:xfrm rot="19929000">
              <a:off x="686880" y="2843640"/>
              <a:ext cx="2973600" cy="355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" descr=""/>
            <p:cNvPicPr/>
            <p:nvPr/>
          </p:nvPicPr>
          <p:blipFill>
            <a:blip r:embed="rId3"/>
            <a:stretch/>
          </p:blipFill>
          <p:spPr>
            <a:xfrm rot="1510200">
              <a:off x="5159160" y="2979000"/>
              <a:ext cx="2961000" cy="347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2 Marcador de contenido"/>
          <p:cNvSpPr/>
          <p:nvPr/>
        </p:nvSpPr>
        <p:spPr>
          <a:xfrm>
            <a:off x="468360" y="5661000"/>
            <a:ext cx="35272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strumento para la Entrevista inici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635440" y="1901880"/>
            <a:ext cx="21049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Calibri"/>
              </a:rPr>
              <a:t>Instr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0" y="4797360"/>
            <a:ext cx="2340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Calibri"/>
              </a:rPr>
              <a:t>Registro del educ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 CuadroTexto"/>
          <p:cNvSpPr/>
          <p:nvPr/>
        </p:nvSpPr>
        <p:spPr>
          <a:xfrm>
            <a:off x="1074600" y="663480"/>
            <a:ext cx="75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MS PGothic"/>
              </a:rPr>
              <a:t>MATERIALES PARA LA ENTREVISTA INICI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556080" y="1844640"/>
            <a:ext cx="5408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r las características lingüísticas de cada persona para recomendarle la vertiente y opciones educativas más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car los antecedentes educativos y algunos intereses de aprendizaje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r si la persona tiene conocimientos de la lectura y escritura para acreditar módu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nvencer a cada persona para que estudie en la lengua que do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egistrar a las personas que se incorporarán a la atención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 Rectángulo"/>
          <p:cNvSpPr/>
          <p:nvPr/>
        </p:nvSpPr>
        <p:spPr>
          <a:xfrm>
            <a:off x="1866960" y="60156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d0d0d"/>
                </a:solidFill>
                <a:latin typeface="Arial"/>
              </a:rPr>
              <a:t>Propósitos de la entrevista inicial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178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539640" y="1700280"/>
            <a:ext cx="8174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El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Apartado 1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se aplica 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todas las persona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entrevistadas (identificación de lengua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Si la persona es: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Monolingüe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en LI o español se aplica además el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Apartado 3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(Identificación de  interese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Bilingüe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se aplican además los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Apartados 2 y 3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(Identificación de tipo de bilingüismo e Interese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Si manifiest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saber leer y escribi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se aplica el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Apartado 4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MS PGothic"/>
              </a:rPr>
              <a:t> (Identificación del analfabetismo en español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727200" y="549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¿Qué apartados se aplican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24000" y="2205000"/>
            <a:ext cx="4895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visa los apartados de la Entrevista inicial antes de aplicarlo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ndo inicies la conversación, saluda y pide permiso a la persona para poder entrevistarla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547640" y="476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omendaciones para la aplicación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7" name="3 Imagen" descr=""/>
          <p:cNvPicPr/>
          <p:nvPr/>
        </p:nvPicPr>
        <p:blipFill>
          <a:blip r:embed="rId1"/>
          <a:stretch/>
        </p:blipFill>
        <p:spPr>
          <a:xfrm>
            <a:off x="5316480" y="2344680"/>
            <a:ext cx="3432240" cy="338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9:34:28Z</dcterms:created>
  <dc:creator>ELY</dc:creator>
  <dc:description/>
  <dc:language>en-US</dc:language>
  <cp:lastModifiedBy>PPerez</cp:lastModifiedBy>
  <dcterms:modified xsi:type="dcterms:W3CDTF">2015-08-12T19:57:44Z</dcterms:modified>
  <cp:revision>13</cp:revision>
  <dc:subject/>
  <dc:title>Presentación de PowerPoint</dc:title>
</cp:coreProperties>
</file>