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AB1F-BB2E-401E-8061-51438250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EDE04-AE9F-4C16-AA86-4E65CC8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3A8B6-C770-465E-AB72-CAE4AF5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803E-A409-48B4-86C3-BDE7EF2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8D2F-EC41-4965-8886-9F9336E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88A8-8B48-4048-A6B1-744D55D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7FAE-A552-4221-B9AF-A0B6D10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7AB1-41C5-4D64-829D-FAAB0EF7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B2A0-F261-484E-B542-6475FB22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5BB6-F724-46F0-ABEE-AB7FED7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AFB0-2206-4BE6-891A-EF124A4E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7BF9D-C6C8-44A8-B17E-D537DDB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A1D4-5023-461A-83BB-4E59351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F3CF-F512-46F4-A4A4-59AABFD7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3028-EB0B-4D4A-846F-671B8C9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55A92-B63D-480E-97F0-DD7E0C7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70C13-9E81-4EFC-A53F-6D96D9A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6D60-ADB5-4423-9436-12565CF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BA13-EC9C-4C89-B9F3-2A157AC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22C4-27E1-459D-B930-C870A978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EF499-27C2-4BD2-AC87-95BDAAF1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64DBF-B4C6-41A4-B31F-181542BF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2A953-9864-467C-8C51-471EB04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B6489-5B3B-46AB-AA77-A243E84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00511-2866-4574-B048-E22AF41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B00D-4848-4AC2-8C19-833352FD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CF79C-2FC1-40A5-883A-42B9774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78DEF-3911-4140-8617-6F417EA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693B-DA8C-412B-B8DD-07569FB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B876-EFE5-4B73-84E6-673D101D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0000-05E3-4187-90A8-26E6236C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71B66-C87B-4E2F-B97A-0FB0A10B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5AAB-8041-44B2-B13A-0EB68729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54802-CE87-41E9-AF9A-AF417F6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49DBF-B996-4BEC-AB8C-C932ED2E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462CF-25C4-4B58-B52E-56CD1288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2BA69-4D96-43B1-8425-76AF26CD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D3FA6-C335-4B61-8EEB-F6DF20F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51A41-BAA8-44C9-882D-C7B65F64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3DE92-8A22-450F-BFE7-2D5FB19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7E471-A1AD-4F63-8CFF-885A4DA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14152-AAF4-44E2-A07B-89F27B4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243FD-250C-44E0-98F0-1E4D3D77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92513-BA53-4E2B-8325-8033C37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70829-0EC7-4FE2-8075-5150EAA0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D5F-7F30-4514-B63D-B8C38F6A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4B-B0DA-448F-96DB-503D655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58F-8F88-4B34-BA30-AF8A158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236-D004-4819-B462-C73F702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913-8E5B-4815-901C-1AC1B3C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D7C-0418-4B38-A741-6C45982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7FB-7852-4E88-AF24-D83445F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01C-9347-4E18-8FFD-7AFAAB9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8F5-FC30-4B3C-9167-B139F3D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E46-19B6-4346-938B-DD73B52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C6C-7E3A-426A-9B03-BDA70D8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833-845E-4034-B3C7-13CDE5D8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65D-82EF-491B-BC0D-E9E5FC3F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F81-8032-4B1D-A135-2ABDF58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BAD-8FD1-4EC4-86A6-5E16CFA6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A58F-65F8-42D3-A73A-A911C1D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2A9-F814-47C3-B5AC-31EB1461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001F-800E-49FC-92D7-5A0BFF0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61C-01E3-449F-ADF9-1A36678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F7C7-1D5D-4B16-A51B-4990DCC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AE8E-CBB1-4053-B8B6-F85A5E2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6A0-2F71-4687-8D9F-58647F76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D553-A971-4F17-A342-17D3D4D6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12A-4FCB-432F-8280-F417CBE3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5ABC-B822-4A71-9A8A-3009FA2B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D851-6FD0-4619-BD36-68CBFD1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8B09-B65B-4084-9B8F-D562290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00E2-1830-47A2-91A2-327E734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940D-DD36-49E3-9C1B-6693A2D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0BA4-C81D-43FF-A9CD-553CA540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5614-37CE-4F56-B9FD-8CC60EF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C7CB-8C4A-4F03-A2B8-4435329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D8DF-9BED-42DF-98B5-6F9D131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3A59-415E-4B1D-B069-EBA0B55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B345-6CBC-4BAF-ABBF-816A4E8C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1588-0289-41AB-89BC-82C1CADD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0627-3B35-4859-BB15-93D06D8E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7EA8-82BA-4880-A25F-0593A98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15AC-C50B-4341-8522-A745B2D0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2AA0-260E-4095-B904-74D99BCA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BFE7-F76E-40A1-83AA-63B666B8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AADC-CDB2-4544-A3D1-C77EB80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CBFD-6583-4CF2-91A0-F999E69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3AA4-6CFB-4D3E-B0E2-B4631AA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4122-50C1-470A-BC76-F2B9B4C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7B59-5EF0-41EC-962D-3CA76F2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A1AD-EF55-4CFE-8B5A-667750D3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7C7D-0D97-4F6F-90C9-38ED6248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B4CD-B196-42F0-AB54-086B816D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D757-5EE3-48E1-9E8F-5FD31504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9FD4C-0497-4FBE-938E-90119D6D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8DB7-98CA-4719-ABB2-5D3BF87B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F850-B54E-43FD-829F-CB8C873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A7B6-80EF-4318-A96D-3B228B5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FD0A-3C3E-42EA-AF23-59D6D33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7542-7625-424C-8DB4-7E980D9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4B6D-F801-4D33-A10B-61509A3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4B60-00AE-4E58-8B22-79D5089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7D22-1525-4706-B488-C03FA9A2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381F-A38E-444F-98EE-FB3474F0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79B6-401A-45D9-B7E2-F5523319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21C7-C7D9-4A4A-AAC4-7F3D1A6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3FEB-60C5-4939-8CE6-E25679D1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3A1B-A412-49F9-B7DC-81D0DA0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99A5-0736-49A8-90A0-71D3A2D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7214-44CB-4BA7-8F6F-BA561C5F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5266-0C6E-4F94-B33E-7D4E81C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AC07-4117-45FD-BFEF-8B7E87C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DD908-2A0C-42BA-AEC6-E39C411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F827-DAF4-459B-BCEE-28B4283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9837-51F1-4010-B8E9-245D9C3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4EAE-4DBA-4716-B8F5-CEDAADE2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31C75-A3E0-4863-A56D-C998DDFC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B929-EAD5-4079-98EC-CCE545F3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7D412-6071-4893-9B47-339281B3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3F9-1860-47A3-A1A2-4EA91B3F01E2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11E-B065-4314-929F-A309FDBF18EF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85D2-6605-45D1-AFDC-92B68C42DDD7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1 Tabla"/>
          <p:cNvGrpSpPr/>
          <p:nvPr/>
        </p:nvGrpSpPr>
        <p:grpSpPr>
          <a:xfrm>
            <a:off x="343080" y="6504120"/>
            <a:ext cx="8572320" cy="371520"/>
            <a:chOff x="343080" y="6504120"/>
            <a:chExt cx="8572320" cy="371520"/>
          </a:xfrm>
        </p:grpSpPr>
        <p:sp>
          <p:nvSpPr>
            <p:cNvPr id="37" name=""/>
            <p:cNvSpPr/>
            <p:nvPr/>
          </p:nvSpPr>
          <p:spPr>
            <a:xfrm>
              <a:off x="343080" y="6504120"/>
              <a:ext cx="4500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404040"/>
                  </a:solidFill>
                  <a:latin typeface="Calibri"/>
                </a:rPr>
                <a:t>Departamento de Atención a Grupos Étn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843440" y="6504120"/>
              <a:ext cx="1214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58080" y="6504120"/>
              <a:ext cx="28573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404040"/>
                  </a:solidFill>
                  <a:latin typeface="Calibri"/>
                </a:rPr>
                <a:t>Septiembre de 2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" name="2 Imagen" descr="Escudo Chiapas 2.PNG"/>
          <p:cNvPicPr/>
          <p:nvPr/>
        </p:nvPicPr>
        <p:blipFill>
          <a:blip r:embed="rId2"/>
          <a:stretch/>
        </p:blipFill>
        <p:spPr>
          <a:xfrm>
            <a:off x="250920" y="174600"/>
            <a:ext cx="1379520" cy="446040"/>
          </a:xfrm>
          <a:prstGeom prst="rect">
            <a:avLst/>
          </a:prstGeom>
          <a:ln w="0">
            <a:noFill/>
          </a:ln>
        </p:spPr>
      </p:pic>
      <p:grpSp>
        <p:nvGrpSpPr>
          <p:cNvPr id="41" name="12 Grupo"/>
          <p:cNvGrpSpPr/>
          <p:nvPr/>
        </p:nvGrpSpPr>
        <p:grpSpPr>
          <a:xfrm>
            <a:off x="7236000" y="189000"/>
            <a:ext cx="1971360" cy="482400"/>
            <a:chOff x="7236000" y="189000"/>
            <a:chExt cx="1971360" cy="482400"/>
          </a:xfrm>
        </p:grpSpPr>
        <p:pic>
          <p:nvPicPr>
            <p:cNvPr id="42" name="9 Imagen" descr="IEA.PNG"/>
            <p:cNvPicPr/>
            <p:nvPr/>
          </p:nvPicPr>
          <p:blipFill>
            <a:blip r:embed="rId3"/>
            <a:srcRect l="0" t="0" r="94147" b="0"/>
            <a:stretch/>
          </p:blipFill>
          <p:spPr>
            <a:xfrm>
              <a:off x="7236000" y="189000"/>
              <a:ext cx="11988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10 CuadroTexto"/>
            <p:cNvSpPr/>
            <p:nvPr/>
          </p:nvSpPr>
          <p:spPr>
            <a:xfrm>
              <a:off x="7284960" y="272880"/>
              <a:ext cx="192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a6a6a6"/>
                  </a:solidFill>
                  <a:latin typeface="Calibri"/>
                </a:rPr>
                <a:t>INSTITUTO CHIAPANEC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7f7f7f"/>
                  </a:solidFill>
                  <a:latin typeface="Calibri"/>
                </a:rPr>
                <a:t>DE  EDUCACIÓN  PARA  JÓVENES Y ADUL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6 CuadroTexto"/>
          <p:cNvSpPr/>
          <p:nvPr/>
        </p:nvSpPr>
        <p:spPr>
          <a:xfrm>
            <a:off x="1763640" y="189000"/>
            <a:ext cx="51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STITUTO CHIAPANECO DE EDUCACIÓN PARA JÓVENES Y ADUL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CIÓN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EPARTAMENTO DE ATENCIÓN A GRUPOS ÉTNIC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6EC-FD45-4E39-AC1D-0E372A8DF57D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C7B-866C-40EA-83E5-7AC96D1C670E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A33-B3C8-49F5-A9D9-DD8549862C82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AD7-01E9-4868-BA5E-95B68ED5D5AA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F818-F31E-4AB8-AA43-E560FCCC27E3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E30-C1F3-443C-89DD-E1BEB095B3F6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F2A-78D1-4BA1-98F5-C11DFB6AADC1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4 Grupo"/>
          <p:cNvGrpSpPr/>
          <p:nvPr/>
        </p:nvGrpSpPr>
        <p:grpSpPr>
          <a:xfrm>
            <a:off x="357120" y="1341360"/>
            <a:ext cx="8358120" cy="3857760"/>
            <a:chOff x="357120" y="1341360"/>
            <a:chExt cx="8358120" cy="3857760"/>
          </a:xfrm>
        </p:grpSpPr>
        <p:pic>
          <p:nvPicPr>
            <p:cNvPr id="474" name="2 CuadroTexto" descr=""/>
            <p:cNvPicPr/>
            <p:nvPr/>
          </p:nvPicPr>
          <p:blipFill>
            <a:blip r:embed="rId1"/>
            <a:stretch/>
          </p:blipFill>
          <p:spPr>
            <a:xfrm>
              <a:off x="737280" y="1341360"/>
              <a:ext cx="7729920" cy="34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3 Rectángulo"/>
            <p:cNvSpPr/>
            <p:nvPr/>
          </p:nvSpPr>
          <p:spPr>
            <a:xfrm>
              <a:off x="357120" y="1490760"/>
              <a:ext cx="8358120" cy="3708360"/>
            </a:xfrm>
            <a:prstGeom prst="rect">
              <a:avLst/>
            </a:prstGeom>
            <a:noFill/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"/>
          <p:cNvPicPr/>
          <p:nvPr/>
        </p:nvPicPr>
        <p:blipFill>
          <a:blip r:embed="rId1"/>
          <a:srcRect l="4372" t="30182" r="51367" b="14414"/>
          <a:stretch/>
        </p:blipFill>
        <p:spPr>
          <a:xfrm>
            <a:off x="108000" y="1349280"/>
            <a:ext cx="8785080" cy="4967280"/>
          </a:xfrm>
          <a:prstGeom prst="rect">
            <a:avLst/>
          </a:prstGeom>
          <a:ln w="0">
            <a:noFill/>
          </a:ln>
        </p:spPr>
      </p:pic>
      <p:sp>
        <p:nvSpPr>
          <p:cNvPr id="502" name="2 CuadroTexto"/>
          <p:cNvSpPr/>
          <p:nvPr/>
        </p:nvSpPr>
        <p:spPr>
          <a:xfrm>
            <a:off x="6297480" y="890640"/>
            <a:ext cx="281160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e envía la 3er. Semana de cada mes junto con el Informe de Acompañ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684360" y="981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FORME DE ACTIV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-36360" y="60480"/>
            <a:ext cx="9144000" cy="66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216000" y="1254240"/>
          <a:ext cx="8677080" cy="4576680"/>
        </p:xfrm>
        <a:graphic>
          <a:graphicData uri="http://schemas.openxmlformats.org/drawingml/2006/table">
            <a:tbl>
              <a:tblPr/>
              <a:tblGrid>
                <a:gridCol w="971280"/>
                <a:gridCol w="320760"/>
                <a:gridCol w="405000"/>
                <a:gridCol w="366480"/>
                <a:gridCol w="405000"/>
                <a:gridCol w="390600"/>
                <a:gridCol w="465120"/>
                <a:gridCol w="388800"/>
                <a:gridCol w="388800"/>
                <a:gridCol w="392400"/>
                <a:gridCol w="420480"/>
                <a:gridCol w="552600"/>
                <a:gridCol w="420480"/>
                <a:gridCol w="552600"/>
                <a:gridCol w="420840"/>
                <a:gridCol w="422280"/>
                <a:gridCol w="550800"/>
                <a:gridCol w="419040"/>
                <a:gridCol w="423720"/>
              </a:tblGrid>
              <a:tr h="376200">
                <a:tc gridSpan="19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quema de Atención Ruta MI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ses de A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BE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BE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BE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BE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BES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c96"/>
                    </a:solidFill>
                  </a:tcPr>
                </a:tc>
              </a:tr>
            </a:tbl>
          </a:graphicData>
        </a:graphic>
      </p:graphicFrame>
      <p:sp>
        <p:nvSpPr>
          <p:cNvPr id="506" name="Text Box 2"/>
          <p:cNvSpPr/>
          <p:nvPr/>
        </p:nvSpPr>
        <p:spPr>
          <a:xfrm>
            <a:off x="1268280" y="6013440"/>
            <a:ext cx="574920" cy="160200"/>
          </a:xfrm>
          <a:prstGeom prst="rect">
            <a:avLst/>
          </a:prstGeom>
          <a:solidFill>
            <a:srgbClr val="8db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994040" y="5972040"/>
            <a:ext cx="2009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Evaluaciones formativas 1 y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1258920" y="6288120"/>
            <a:ext cx="574560" cy="160200"/>
          </a:xfrm>
          <a:prstGeom prst="rect">
            <a:avLst/>
          </a:prstGeom>
          <a:solidFill>
            <a:srgbClr val="c4bc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011320" y="6261120"/>
            <a:ext cx="1851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Evaluaciones Fi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0 CuadroTexto"/>
          <p:cNvSpPr/>
          <p:nvPr/>
        </p:nvSpPr>
        <p:spPr>
          <a:xfrm>
            <a:off x="539640" y="836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TNIAS: CH’ol   y   Z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F:\Res misd\DAGE\2014\SocialExperienInsPuebla\yaa.JPG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4 CuadroTexto"/>
          <p:cNvSpPr/>
          <p:nvPr/>
        </p:nvSpPr>
        <p:spPr>
          <a:xfrm>
            <a:off x="826920" y="141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guras que intervienen en la operación de los procesos educativos a nivel de las Coordinaciones de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5 Rectángulo redondeado"/>
          <p:cNvSpPr/>
          <p:nvPr/>
        </p:nvSpPr>
        <p:spPr>
          <a:xfrm>
            <a:off x="1835280" y="2565360"/>
            <a:ext cx="3960720" cy="863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1.- Formador Especializ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6 Rectángulo redondeado"/>
          <p:cNvSpPr/>
          <p:nvPr/>
        </p:nvSpPr>
        <p:spPr>
          <a:xfrm>
            <a:off x="2916360" y="3716280"/>
            <a:ext cx="3959280" cy="8650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.- Enlace Educativo Bilingü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7 Rectángulo redondeado"/>
          <p:cNvSpPr/>
          <p:nvPr/>
        </p:nvSpPr>
        <p:spPr>
          <a:xfrm>
            <a:off x="4356000" y="4797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.- Alfabetizador/Asesor Bilingü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8 Redondear rectángulo de esquina sencilla"/>
          <p:cNvSpPr/>
          <p:nvPr/>
        </p:nvSpPr>
        <p:spPr>
          <a:xfrm>
            <a:off x="324000" y="3645000"/>
            <a:ext cx="1368360" cy="244800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Técnico Do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Micr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2 CuadroTexto"/>
          <p:cNvSpPr/>
          <p:nvPr/>
        </p:nvSpPr>
        <p:spPr>
          <a:xfrm>
            <a:off x="395280" y="1700280"/>
            <a:ext cx="8497800" cy="4515840"/>
          </a:xfrm>
          <a:prstGeom prst="rect">
            <a:avLst/>
          </a:prstGeom>
          <a:noFill/>
          <a:ln w="936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us principales actividades en la Coordinación de Zon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9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a  planeación y organización de los Talleres de 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9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a impartición y seguimiento de la formación de las figuras educativas, (formación inicial y contin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9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n las acciones de acompañamiento educativo de los Enlaces Educativos Bilingü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9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seguimiento técnico a la operación de los Enlaces Educativos Bilingü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rman, principalmente, a los Enlaces Educativos  y otras figuras responsables de la formación de los  Alfabetizadores y Asesores, considerando a los Técnicos Docentes y Coordinadores de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onsideró para cada una de las Coordinaciones de Zona que operan el MIB, a por lo menos un Formador Especi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4 CuadroTexto"/>
          <p:cNvSpPr/>
          <p:nvPr/>
        </p:nvSpPr>
        <p:spPr>
          <a:xfrm>
            <a:off x="611280" y="755640"/>
            <a:ext cx="673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ormadores espec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incipale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4 CuadroTexto"/>
          <p:cNvSpPr/>
          <p:nvPr/>
        </p:nvSpPr>
        <p:spPr>
          <a:xfrm>
            <a:off x="611280" y="755640"/>
            <a:ext cx="673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ormadores espec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incipale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2 Marcador de contenido"/>
          <p:cNvSpPr/>
          <p:nvPr/>
        </p:nvSpPr>
        <p:spPr>
          <a:xfrm>
            <a:off x="84240" y="1844640"/>
            <a:ext cx="8964360" cy="30970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Elabora el programa de 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Organiza los eventos de 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Apoya el reclutamiento, selección y formación de Alfabetizadores Bilingü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Coordina y monitorea las tareas de los Enlaces Educativos Bilingües de la zo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Organiza reuniones de balance operativo y académico a nivel de micro-regio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Verifica periódicamente los avances académicos y de acreditación de los educan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1 Pentágono"/>
          <p:cNvSpPr/>
          <p:nvPr/>
        </p:nvSpPr>
        <p:spPr>
          <a:xfrm rot="1251000">
            <a:off x="355320" y="1312560"/>
            <a:ext cx="3529080" cy="244800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09" y="0"/>
                </a:lnTo>
                <a:lnTo>
                  <a:pt x="21600" y="10800"/>
                </a:lnTo>
                <a:lnTo>
                  <a:pt x="141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D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Brinda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Proporciona norma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Ofrece 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Brinda apoyo y segu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Pentágono"/>
          <p:cNvSpPr/>
          <p:nvPr/>
        </p:nvSpPr>
        <p:spPr>
          <a:xfrm flipH="1" rot="19678800">
            <a:off x="5549400" y="1131840"/>
            <a:ext cx="3291120" cy="2297160"/>
          </a:xfrm>
          <a:custGeom>
            <a:avLst/>
            <a:gdLst>
              <a:gd name="textAreaLeft" fmla="*/ 360 w 3291120"/>
              <a:gd name="textAreaRight" fmla="*/ 3291840 w 329112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61" y="0"/>
                </a:lnTo>
                <a:lnTo>
                  <a:pt x="21600" y="10800"/>
                </a:lnTo>
                <a:lnTo>
                  <a:pt x="140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96f39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C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Coordina proceso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Coordina la 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Programa, autoriza y gestiona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5 Hexágono"/>
          <p:cNvSpPr/>
          <p:nvPr/>
        </p:nvSpPr>
        <p:spPr>
          <a:xfrm>
            <a:off x="2556000" y="3500280"/>
            <a:ext cx="4895640" cy="29530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cc66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Formador Especializ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labora y pone a consideración de la CZ los Tallere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Solicita y orienta a los EEB para las acciones de Seguimiento Técnico y Acompañamient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Concentra y con el Visto Bueno del CZ envía 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6 Nube"/>
          <p:cNvSpPr/>
          <p:nvPr/>
        </p:nvSpPr>
        <p:spPr>
          <a:xfrm>
            <a:off x="324000" y="4005360"/>
            <a:ext cx="1871640" cy="1280880"/>
          </a:xfrm>
          <a:prstGeom prst="pie">
            <a:avLst/>
          </a:prstGeom>
          <a:solidFill>
            <a:srgbClr val="c0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spaci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7 Nube"/>
          <p:cNvSpPr/>
          <p:nvPr/>
        </p:nvSpPr>
        <p:spPr>
          <a:xfrm>
            <a:off x="7267680" y="3500280"/>
            <a:ext cx="1841400" cy="1281240"/>
          </a:xfrm>
          <a:prstGeom prst="pie">
            <a:avLst/>
          </a:prstGeom>
          <a:solidFill>
            <a:srgbClr val="796f39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spacio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4 CuadroTexto"/>
          <p:cNvSpPr/>
          <p:nvPr/>
        </p:nvSpPr>
        <p:spPr>
          <a:xfrm>
            <a:off x="858960" y="879480"/>
            <a:ext cx="6737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lace Educativo Bilingü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finición y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2 Marcador de contenido"/>
          <p:cNvSpPr/>
          <p:nvPr/>
        </p:nvSpPr>
        <p:spPr>
          <a:xfrm>
            <a:off x="84240" y="1916280"/>
            <a:ext cx="8964360" cy="424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on las figuras solidarias que apoyan el proceso de alfabetización de un promedio de 150 adultos, lo que puede representar que orientará la colaboración de 10 a 15 Alfabetizadores que operan en una o más loc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iene como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Identificar y vincular a Alfabetiz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ar el esquema de Formación para los Alfabetiz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Brindar el acompañamiento educativo a los Alfabetizadores y Adu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r las acciones de seguimiento y evaluación del proceso de alfabetización de los Adu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rcRect l="20873" t="21457" r="19232" b="12185"/>
          <a:stretch/>
        </p:blipFill>
        <p:spPr>
          <a:xfrm>
            <a:off x="135000" y="919080"/>
            <a:ext cx="8856720" cy="5516640"/>
          </a:xfrm>
          <a:prstGeom prst="rect">
            <a:avLst/>
          </a:prstGeom>
          <a:ln w="0">
            <a:noFill/>
          </a:ln>
        </p:spPr>
      </p:pic>
      <p:sp>
        <p:nvSpPr>
          <p:cNvPr id="493" name="1 CuadroTexto"/>
          <p:cNvSpPr/>
          <p:nvPr/>
        </p:nvSpPr>
        <p:spPr>
          <a:xfrm>
            <a:off x="135000" y="638280"/>
            <a:ext cx="24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Actualizar mens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3 Rectángulo"/>
          <p:cNvSpPr/>
          <p:nvPr/>
        </p:nvSpPr>
        <p:spPr>
          <a:xfrm>
            <a:off x="1444680" y="2924280"/>
            <a:ext cx="82224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rcRect l="21084" t="22948" r="19130" b="10635"/>
          <a:stretch/>
        </p:blipFill>
        <p:spPr>
          <a:xfrm>
            <a:off x="108000" y="907920"/>
            <a:ext cx="8761320" cy="5473800"/>
          </a:xfrm>
          <a:prstGeom prst="rect">
            <a:avLst/>
          </a:prstGeom>
          <a:ln w="0">
            <a:noFill/>
          </a:ln>
        </p:spPr>
      </p:pic>
      <p:sp>
        <p:nvSpPr>
          <p:cNvPr id="496" name="2 CuadroTexto"/>
          <p:cNvSpPr/>
          <p:nvPr/>
        </p:nvSpPr>
        <p:spPr>
          <a:xfrm>
            <a:off x="135000" y="638280"/>
            <a:ext cx="24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Actualizar mens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Rectángulo"/>
          <p:cNvSpPr/>
          <p:nvPr/>
        </p:nvSpPr>
        <p:spPr>
          <a:xfrm>
            <a:off x="1362240" y="2897280"/>
            <a:ext cx="822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rcRect l="21084" t="22205" r="19025" b="10635"/>
          <a:stretch/>
        </p:blipFill>
        <p:spPr>
          <a:xfrm>
            <a:off x="250920" y="809640"/>
            <a:ext cx="8794800" cy="5688000"/>
          </a:xfrm>
          <a:prstGeom prst="rect">
            <a:avLst/>
          </a:prstGeom>
          <a:ln w="0">
            <a:noFill/>
          </a:ln>
        </p:spPr>
      </p:pic>
      <p:sp>
        <p:nvSpPr>
          <p:cNvPr id="499" name="2 CuadroTexto"/>
          <p:cNvSpPr/>
          <p:nvPr/>
        </p:nvSpPr>
        <p:spPr>
          <a:xfrm>
            <a:off x="135000" y="638280"/>
            <a:ext cx="24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Actualizar mens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3 Rectángulo"/>
          <p:cNvSpPr/>
          <p:nvPr/>
        </p:nvSpPr>
        <p:spPr>
          <a:xfrm>
            <a:off x="1514520" y="3240000"/>
            <a:ext cx="822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23:15:16Z</dcterms:created>
  <dc:creator>jlopezp</dc:creator>
  <dc:description/>
  <dc:language>en-US</dc:language>
  <cp:lastModifiedBy>usuario-iea</cp:lastModifiedBy>
  <dcterms:modified xsi:type="dcterms:W3CDTF">2015-09-24T08:09:19Z</dcterms:modified>
  <cp:revision>545</cp:revision>
  <dc:subject/>
  <dc:title>Diapositiva 1</dc:title>
</cp:coreProperties>
</file>