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BB0C-152F-4F44-8F1D-0531B3B9410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7265-A593-44C3-93A1-04561D63F358}" type="slidenum">
              <a:rPr b="0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E1E2-AB9D-4AB9-891E-0CC90890389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4C2A-5B0E-4267-98A6-33B16784B292}" type="slidenum">
              <a:rPr b="0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8FF-17EB-4E8F-8419-D8DBA9F2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0033-177A-4619-993B-B88882C4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997-8FF4-4AB6-8DF9-5236EA65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4EA6-5D02-44BF-95E2-69CB81A4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8572-E41D-4BB9-8BE1-39564F0A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E842-7B27-4A65-9B49-27BD7DAA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7F14-1165-4D0D-8AA3-47C3B8FE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22BD-8C5D-46CC-AAC5-AC39B21E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8D70-5845-4606-83E5-29F77D49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0235-7F72-4BCA-802B-41C0810E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D227-E628-4718-A8B8-C78CA07F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512-1043-40CC-B22C-9F53B228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56F0-87C6-4CAB-82B5-65F0ACAD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120D-6520-4089-9BB2-BF26BF69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ABA1-74DE-4FE6-97CF-3D326437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BBDE-1C69-4D8B-AC48-5B37C0FF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8496-633C-46E1-97AF-3BAEC81C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757F5A-7DEE-43AA-B95B-1C6F363D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8E1F4-4B8B-4809-9324-0E537BA2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0AC49-1AF7-4393-BD6E-6008EA45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458E6-86AD-46F5-A0BD-B0442995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965A0-9EF9-4121-84B4-D00FCFCD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C578-2695-4077-9247-3FED2313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9A5EC1-0C43-47D2-8C8D-EDDE885F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0B06B-56FC-473C-969C-9EE26F0E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090C6-6B30-4501-9CA3-2E978606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EEDBAB-8ECE-495C-A777-0E847B9D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E6ECA-9F3E-4579-9C57-95FC37E2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3198E-B6FE-4BE1-B1E0-B3CB4495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09907-01C4-4244-9BB2-C4A35E00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C218E-3939-44E1-95E5-C0A473A0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C4567-3339-4440-8414-97F1AF1D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73C08-4132-489E-9EF7-F27E29CF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28F3-3440-460D-958D-F5E2EFE7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C9295-0813-42B5-BEB1-57FA0841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120B3-2A3C-48FC-9F34-7E10AB24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4E865-3F7D-443A-8D1B-585D9A59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28022-4DA2-41B7-A3BD-5E1805CA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9D0FB-AE4E-4131-8B99-6790FE40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DC06D-8CEF-49C1-88A8-29B4CC5C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79248-093F-40CB-841E-2D3AA26C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6434B-3F03-4C10-B4C5-F072A43D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51BDA-AD6F-4F52-84CB-A8BCA29F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7C4C-028C-46C1-AE55-F535D304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F0A5-4E21-45D3-AD4D-BEAA3B2D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751D-2685-4358-9CE6-E259E474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421-B693-4E7D-8A4E-DD112981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4A59-D8E4-4B08-AE46-D75BEB4D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F687-B175-4683-883E-5FDCAD397439}" type="slidenum"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2A2A-5398-4352-8F91-530DF0A55546}" type="slidenum">
              <a:rPr b="0" lang="es-MX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E3F6-00D2-4C9F-8AC0-67046D4A122A}" type="slidenum"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B51A-AF93-4EAA-AF84-99297AECF5EE}" type="slidenum"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agen 2" descr=""/>
          <p:cNvPicPr/>
          <p:nvPr/>
        </p:nvPicPr>
        <p:blipFill>
          <a:blip r:embed="rId1"/>
          <a:stretch/>
        </p:blipFill>
        <p:spPr>
          <a:xfrm>
            <a:off x="1582560" y="2538360"/>
            <a:ext cx="5969160" cy="2374920"/>
          </a:xfrm>
          <a:prstGeom prst="rect">
            <a:avLst/>
          </a:prstGeom>
          <a:ln w="0">
            <a:noFill/>
          </a:ln>
        </p:spPr>
      </p:pic>
      <p:sp>
        <p:nvSpPr>
          <p:cNvPr id="343" name="Rectángulo 26"/>
          <p:cNvSpPr/>
          <p:nvPr/>
        </p:nvSpPr>
        <p:spPr>
          <a:xfrm>
            <a:off x="2556000" y="2852640"/>
            <a:ext cx="4032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1 Rectángulo"/>
          <p:cNvSpPr/>
          <p:nvPr/>
        </p:nvSpPr>
        <p:spPr>
          <a:xfrm>
            <a:off x="2135160" y="350028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  <a:ea typeface="Tahoma"/>
              </a:rPr>
              <a:t>Tema 3. Para mejorar la lectura en lengua indíge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4c600"/>
                </a:solidFill>
                <a:latin typeface="Century Gothic"/>
              </a:rPr>
              <a:t>Proceso para realizar la lectura de textos: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5" name="2 CuadroTexto"/>
          <p:cNvSpPr/>
          <p:nvPr/>
        </p:nvSpPr>
        <p:spPr>
          <a:xfrm>
            <a:off x="900000" y="1844640"/>
            <a:ext cx="770436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Anticipación de lectura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comenten e identifiquen la situación comunicativa de lectura, el formato y tipo de texto, posible contenido; para qué podría servir leerlo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Lectura del texto,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realicen la lectura del contenido del texto, primero en silencio y después en voz alta. Si lo necesitan,  ensayen la lectura en voz alta; subrayen o copien las ideas importa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Comprensión del texto,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elaboren un resumen del texto escribiendo la idea o tema central de cada párrafo y/o realicen ejercicios escritos que el formador les proporcione, como pueden ser : Identificar o subrayar la información solicitada; resolver preguntas abiertas o cerradas,  de opción múltiple, completar frases, relacionar columna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5" descr=""/>
          <p:cNvPicPr/>
          <p:nvPr/>
        </p:nvPicPr>
        <p:blipFill>
          <a:blip r:embed="rId1"/>
          <a:stretch/>
        </p:blipFill>
        <p:spPr>
          <a:xfrm>
            <a:off x="590400" y="1268280"/>
            <a:ext cx="1820880" cy="244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549000"/>
            <a:ext cx="392760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Century Gothic"/>
              </a:rPr>
              <a:t>Traducir y/o adaptar  el siguiente planteamiento en lengua indígena</a:t>
            </a:r>
            <a:endParaRPr b="0" lang="en-US" sz="1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2 CuadroTexto"/>
          <p:cNvSpPr/>
          <p:nvPr/>
        </p:nvSpPr>
        <p:spPr>
          <a:xfrm>
            <a:off x="2666880" y="984240"/>
            <a:ext cx="590400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Arial"/>
              </a:rPr>
              <a:t>A Josefina, le dijo una vecina, que en el mercado colocaron un papel donde se dice que habrá un curso de manualidades, a ella le interesó saber de qué se trataba y si podía asist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Arial"/>
              </a:rPr>
              <a:t>Fue al mercado y encontró  lo que busca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CuadroTexto"/>
          <p:cNvSpPr/>
          <p:nvPr/>
        </p:nvSpPr>
        <p:spPr>
          <a:xfrm>
            <a:off x="684360" y="4122720"/>
            <a:ext cx="763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Preguntas guí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¿De que se trata la situación o histori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¿Qué quiere saber Josefina? ¿Y para qué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¿Dónde debe buscar lo que necesita Josefin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¿Qué crees que va encontrar Josefin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¿Qué información podrá decir el texto que busca Josef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¿Qué otros textos se pueden pegar ahí? ¿para qué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68080" y="593280"/>
            <a:ext cx="3927240" cy="3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entury Gothic"/>
              </a:rPr>
              <a:t>Traducir y/o adaptar  el cartel a la lengua indígena</a:t>
            </a:r>
            <a:endParaRPr b="0" lang="en-US" sz="2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2057400" y="981000"/>
            <a:ext cx="481824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 Título"/>
          <p:cNvSpPr/>
          <p:nvPr/>
        </p:nvSpPr>
        <p:spPr>
          <a:xfrm>
            <a:off x="539640" y="476280"/>
            <a:ext cx="392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Century Gothic"/>
                <a:ea typeface="Arial"/>
              </a:rPr>
              <a:t>Traducir y adaptar  las preguntas en la lengua indíg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3 CuadroTexto"/>
          <p:cNvSpPr/>
          <p:nvPr/>
        </p:nvSpPr>
        <p:spPr>
          <a:xfrm>
            <a:off x="2287440" y="1052640"/>
            <a:ext cx="63882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Preguntas guía para la </a:t>
            </a: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Anticipación de lectura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¿Qué tipo de textos 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Si observamos las ilustraciones de ¿qué creen que trata el tex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¿Para qué creen que se elabora</a:t>
            </a: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ste tipo de texto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¿Qué datos o información  creen que se da en el</a:t>
            </a: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artel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scuchen la lectura del título, ¿de qué</a:t>
            </a: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se trata el tex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611280" y="1622520"/>
            <a:ext cx="1531800" cy="18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125360"/>
            <a:ext cx="7024680" cy="417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Century Gothic"/>
              </a:rPr>
              <a:t>Guía para las actividades de la </a:t>
            </a:r>
            <a:r>
              <a:rPr b="1" i="1" lang="es-MX" sz="2400" spc="-1" strike="noStrike">
                <a:solidFill>
                  <a:srgbClr val="000000"/>
                </a:solidFill>
                <a:latin typeface="Century Gothic"/>
              </a:rPr>
              <a:t>Lectura del texto</a:t>
            </a:r>
            <a:r>
              <a:rPr b="0" i="1" lang="es-MX" sz="2400" spc="-1" strike="noStrike">
                <a:solidFill>
                  <a:srgbClr val="000000"/>
                </a:solidFill>
                <a:latin typeface="Century Gothic"/>
              </a:rPr>
              <a:t>: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br>
              <a:rPr sz="2400"/>
            </a:b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Escuchen con atención  la lectura  del texto y se señalen donde se va leyendo.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- Expresen comentarios sobre le contenidos del texto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- Elaboren una lista con las palabras que desconozcan su significado y busquen el significado, sigan las orientaciones del facilitador.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- Realicen una lectura grupal y en voz alta.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- Comenten el contenido del texto, relacionándolo con el propósito o intención de la situación comunicativa en la que se está leyendo.</a:t>
            </a:r>
            <a:endParaRPr b="0" lang="en-US" sz="2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2 CuadroTexto"/>
          <p:cNvSpPr/>
          <p:nvPr/>
        </p:nvSpPr>
        <p:spPr>
          <a:xfrm>
            <a:off x="971640" y="836640"/>
            <a:ext cx="770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  <a:ea typeface="Arial"/>
              </a:rPr>
              <a:t>Lean el texto como se sugiere Resuelvan las siguientes preguntas sobre el contenido del cartel:  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Arial"/>
              </a:rPr>
              <a:t>¿Qué fue lo que encontró Josefina en el text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Arial"/>
              </a:rPr>
              <a:t>¿Qué curso 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Arial"/>
              </a:rPr>
              <a:t>¿Dónde se impar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Arial"/>
              </a:rPr>
              <a:t>¿Cuáles son las fechas?, ¿Cuál es el hor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Arial"/>
              </a:rPr>
              <a:t>¿A quiénes esta dirigido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Arial"/>
              </a:rPr>
              <a:t>Si Josefina quiere asistir ¿qué es lo que      tiene que hac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Arial"/>
              </a:rPr>
              <a:t>¿Los datos del texto permiten que Josefina se decida a asisti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042920" y="3429000"/>
            <a:ext cx="1260720" cy="1171440"/>
          </a:xfrm>
          <a:prstGeom prst="rect">
            <a:avLst/>
          </a:prstGeom>
          <a:ln w="0">
            <a:noFill/>
          </a:ln>
        </p:spPr>
      </p:pic>
      <p:sp>
        <p:nvSpPr>
          <p:cNvPr id="357" name="1 Título"/>
          <p:cNvSpPr/>
          <p:nvPr/>
        </p:nvSpPr>
        <p:spPr>
          <a:xfrm>
            <a:off x="539640" y="476280"/>
            <a:ext cx="392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Century Gothic"/>
                <a:ea typeface="Arial"/>
              </a:rPr>
              <a:t>Traducir y o adaptar  las preguntas en la lengua indígena de acuerdo al contenido del cart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1280" y="1026720"/>
            <a:ext cx="7456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-571680"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Taller dirigido a personas que deseen aprender a hacer manualidades.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9" name="1 Título"/>
          <p:cNvSpPr/>
          <p:nvPr/>
        </p:nvSpPr>
        <p:spPr>
          <a:xfrm>
            <a:off x="539640" y="476280"/>
            <a:ext cx="392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Century Gothic"/>
                <a:ea typeface="Arial"/>
              </a:rPr>
              <a:t>Traducir las frases de acuerdo a la adaptación del cartel en la lengua indíg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1 Título"/>
          <p:cNvSpPr/>
          <p:nvPr/>
        </p:nvSpPr>
        <p:spPr>
          <a:xfrm>
            <a:off x="763560" y="2933640"/>
            <a:ext cx="745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Taller de elaboración de muñecas de trapo</a:t>
            </a:r>
            <a:r>
              <a:rPr b="1" lang="es-MX" sz="2800" spc="-1" strike="noStrike">
                <a:solidFill>
                  <a:srgbClr val="94c600"/>
                </a:solidFill>
                <a:latin typeface="Century Gothic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1 Título"/>
          <p:cNvSpPr/>
          <p:nvPr/>
        </p:nvSpPr>
        <p:spPr>
          <a:xfrm>
            <a:off x="763560" y="4437000"/>
            <a:ext cx="745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El precio incluye el material neces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165744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4c600"/>
                </a:solidFill>
                <a:latin typeface="Century Gothic"/>
              </a:rPr>
              <a:t>trapo</a:t>
            </a:r>
            <a:r>
              <a:rPr b="0" lang="es-MX" sz="40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3" name="1 Título"/>
          <p:cNvSpPr/>
          <p:nvPr/>
        </p:nvSpPr>
        <p:spPr>
          <a:xfrm>
            <a:off x="3995640" y="3174840"/>
            <a:ext cx="25020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4c600"/>
                </a:solidFill>
                <a:latin typeface="Century Gothic"/>
                <a:ea typeface="Arial"/>
              </a:rPr>
              <a:t>materi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1 Título"/>
          <p:cNvSpPr/>
          <p:nvPr/>
        </p:nvSpPr>
        <p:spPr>
          <a:xfrm>
            <a:off x="5246640" y="4797360"/>
            <a:ext cx="299736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4c600"/>
                </a:solidFill>
                <a:latin typeface="Century Gothic"/>
                <a:ea typeface="Arial"/>
              </a:rPr>
              <a:t>inscrip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1 Título"/>
          <p:cNvSpPr/>
          <p:nvPr/>
        </p:nvSpPr>
        <p:spPr>
          <a:xfrm>
            <a:off x="4211640" y="907920"/>
            <a:ext cx="26287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4c600"/>
                </a:solidFill>
                <a:latin typeface="Century Gothic"/>
                <a:ea typeface="Arial"/>
              </a:rPr>
              <a:t>muñe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1 Título"/>
          <p:cNvSpPr/>
          <p:nvPr/>
        </p:nvSpPr>
        <p:spPr>
          <a:xfrm>
            <a:off x="826920" y="3068640"/>
            <a:ext cx="19447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4c600"/>
                </a:solidFill>
                <a:latin typeface="Century Gothic"/>
                <a:ea typeface="Arial"/>
              </a:rPr>
              <a:t>prec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1 Título"/>
          <p:cNvSpPr/>
          <p:nvPr/>
        </p:nvSpPr>
        <p:spPr>
          <a:xfrm>
            <a:off x="6156360" y="2174760"/>
            <a:ext cx="165564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4c600"/>
                </a:solidFill>
                <a:latin typeface="Century Gothic"/>
                <a:ea typeface="Arial"/>
              </a:rPr>
              <a:t>tal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1 Título"/>
          <p:cNvSpPr/>
          <p:nvPr/>
        </p:nvSpPr>
        <p:spPr>
          <a:xfrm>
            <a:off x="1547640" y="4903920"/>
            <a:ext cx="2448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4c600"/>
                </a:solidFill>
                <a:latin typeface="Century Gothic"/>
                <a:ea typeface="Arial"/>
              </a:rPr>
              <a:t>persona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1 Título"/>
          <p:cNvSpPr/>
          <p:nvPr/>
        </p:nvSpPr>
        <p:spPr>
          <a:xfrm>
            <a:off x="539640" y="476280"/>
            <a:ext cx="392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Century Gothic"/>
                <a:ea typeface="Arial"/>
              </a:rPr>
              <a:t>Traducir  las palabras de acuerdo a la adaptación del las frases en la lengua indíg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Imagen 2" descr=""/>
          <p:cNvPicPr/>
          <p:nvPr/>
        </p:nvPicPr>
        <p:blipFill>
          <a:blip r:embed="rId1"/>
          <a:stretch/>
        </p:blipFill>
        <p:spPr>
          <a:xfrm>
            <a:off x="1582560" y="2538360"/>
            <a:ext cx="5969160" cy="2374920"/>
          </a:xfrm>
          <a:prstGeom prst="rect">
            <a:avLst/>
          </a:prstGeom>
          <a:ln w="0">
            <a:noFill/>
          </a:ln>
        </p:spPr>
      </p:pic>
      <p:sp>
        <p:nvSpPr>
          <p:cNvPr id="371" name="Rectángulo 26"/>
          <p:cNvSpPr/>
          <p:nvPr/>
        </p:nvSpPr>
        <p:spPr>
          <a:xfrm>
            <a:off x="2556000" y="2852640"/>
            <a:ext cx="4032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1 Rectángulo"/>
          <p:cNvSpPr/>
          <p:nvPr/>
        </p:nvSpPr>
        <p:spPr>
          <a:xfrm>
            <a:off x="2422440" y="278136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Tema 3. Para mejorar la lectura en lengua indíge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1 Rectángulo"/>
          <p:cNvSpPr/>
          <p:nvPr/>
        </p:nvSpPr>
        <p:spPr>
          <a:xfrm>
            <a:off x="2050920" y="357336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Proceso para la lectura de textos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6T04:17:26Z</dcterms:created>
  <dc:creator>ELY</dc:creator>
  <dc:description/>
  <dc:language>en-US</dc:language>
  <cp:lastModifiedBy>PPerez</cp:lastModifiedBy>
  <dcterms:modified xsi:type="dcterms:W3CDTF">2015-09-03T22:03:33Z</dcterms:modified>
  <cp:revision>44</cp:revision>
  <dc:subject/>
  <dc:title>Presentación de PowerPoint</dc:title>
</cp:coreProperties>
</file>