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CFEA-699A-4032-87F3-315D21A11F3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B776-7FC2-4F88-BC66-EFD5A40E11E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D527-1FBD-4278-A7E6-C41068BD920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023-28E5-45D1-A3C3-38E52BAE117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6C3-39A7-4196-B4E8-7B1CDB9E003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2A8-C998-4154-B7D4-B1B36B4E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9B9-FCE3-4B71-BB85-E17FD2A2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4A1-FEAB-447C-9BE0-67FF6BB7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EC1-2067-4A2A-8068-A46C6934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CEA-FBA5-42E2-9EF3-1E1AB330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7929-15B8-45DE-AFC8-014F710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32A8-1F8B-4BE9-88B1-4D39BEE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E16-B8B7-40EB-B759-91AE9AAF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86B-7875-4CEB-A3C4-5ABC847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6215-77F6-452B-A7A9-D3B6CC7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D1C1-A784-4DC2-ACE3-BAB3F48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355-EC62-44B4-871C-FB18485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7C72-37D9-4EB0-8D98-4C95E5D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2D7E-18B3-4E2E-BB65-45628DB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FEE-815D-4A46-B6E2-37B86505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857D-38A6-49D8-AB45-62852DA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A0F-2070-481A-94E8-0EDD54F7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BCBEA-73EA-42F3-98CD-68D928A9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3573E-607F-4BAA-A503-AFC9EFD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9A89F-578C-4011-9EEE-E15992A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1C379-2F31-4D21-9098-15B3600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D9BDE-145E-4B80-9E62-858BF44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DE6-5A49-4DD0-BA65-2994B18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F6267-2B6F-4935-A511-CFA6FE86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140C3-A781-4695-9A81-6A1082E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78B43-AFE0-4A17-9902-C6477E9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CCE41-3DC2-43BE-A83F-7C45EF4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3F6EE-F38D-4407-B8AE-D7CFE59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F19A7-D847-4C6C-BF25-624392E3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D2FE4-CCD4-4279-8649-86D20174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5C9E-C83F-42DD-B08C-E400E008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806A-7652-4BF6-B298-1F97FCD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841A-974F-4652-9517-C08A236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340-682F-4969-A0CE-E0BAA69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1815-730C-4555-AD6A-D19B592A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0998-A2E3-4DF3-A8BA-277666A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43D9-04E3-4F84-AC70-397A2C4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48C4-7498-45C2-8284-45F2513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52F1-EA3E-495D-9889-D1CF00C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319A-B399-476A-955B-72635CA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16BC-4149-4E15-9FE6-E98B0DED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5C0E-7F55-4B73-ADCB-07ABC8E0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D330-877F-4862-A584-1310BE23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474-95D9-4C8A-9F0B-2C2093A8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677-D356-442E-A35F-ADBF3B79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074-7CB0-4721-ADC8-96E2723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249-7933-40FE-9158-EAAD7F82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2C1-4F0B-4AC4-9E4E-2DD48EF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043E-4FE6-4ACC-B40B-5E5B6BE2DB06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1AD-A752-4E9E-A3D2-D2425A64A992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7F46-95FE-4D54-9369-AFA865BB85B0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B820-BC91-41A1-B523-009D06C3D69A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2" descr=""/>
          <p:cNvPicPr/>
          <p:nvPr/>
        </p:nvPicPr>
        <p:blipFill>
          <a:blip r:embed="rId1"/>
          <a:stretch/>
        </p:blipFill>
        <p:spPr>
          <a:xfrm>
            <a:off x="1582560" y="2538360"/>
            <a:ext cx="5969160" cy="2374920"/>
          </a:xfrm>
          <a:prstGeom prst="rect">
            <a:avLst/>
          </a:prstGeom>
          <a:ln w="0">
            <a:noFill/>
          </a:ln>
        </p:spPr>
      </p:pic>
      <p:sp>
        <p:nvSpPr>
          <p:cNvPr id="343" name="Rectángulo 26"/>
          <p:cNvSpPr/>
          <p:nvPr/>
        </p:nvSpPr>
        <p:spPr>
          <a:xfrm>
            <a:off x="2556000" y="2852640"/>
            <a:ext cx="4032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1 Rectángulo"/>
          <p:cNvSpPr/>
          <p:nvPr/>
        </p:nvSpPr>
        <p:spPr>
          <a:xfrm>
            <a:off x="2135160" y="35002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Tema 4. Para mejorar la escritura en lengua indíg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8760" y="333000"/>
            <a:ext cx="39272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0000"/>
                </a:solidFill>
                <a:latin typeface="Century Gothic"/>
              </a:rPr>
              <a:t>Traducir y adaptar  el siguiente planteamiento en lengua indígena</a:t>
            </a:r>
            <a:endParaRPr b="0" lang="en-US" sz="11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2 CuadroTexto"/>
          <p:cNvSpPr/>
          <p:nvPr/>
        </p:nvSpPr>
        <p:spPr>
          <a:xfrm>
            <a:off x="2235240" y="1041480"/>
            <a:ext cx="6480000" cy="3080160"/>
          </a:xfrm>
          <a:prstGeom prst="rect">
            <a:avLst/>
          </a:prstGeom>
          <a:solidFill>
            <a:srgbClr val="caf278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tuación comunicativ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Un grupo de vecinos de Valle de Bravo se reunieron para dialogar sobre algunos problemas que tienen en la comunidad. En una de las calles hay una fuga de ag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onen de acuerdo para redactar un texto que llevan al municip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CuadroTexto"/>
          <p:cNvSpPr/>
          <p:nvPr/>
        </p:nvSpPr>
        <p:spPr>
          <a:xfrm>
            <a:off x="2124000" y="4278240"/>
            <a:ext cx="64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reguntas guía de identificación de la situación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¿De que se trata la situación o histo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¿Qué quiere hacer los vecinos? ¿Y para qu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¿Qué textos van a escribir o cómo se llam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¿Qué crees que debe contener el texto que escribirá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¿Qué otros textos se pueden llevar a ese lugar? ¿para qu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656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195640" y="285840"/>
            <a:ext cx="5305320" cy="6286320"/>
          </a:xfrm>
          <a:prstGeom prst="rect">
            <a:avLst/>
          </a:prstGeom>
          <a:ln w="0">
            <a:noFill/>
          </a:ln>
        </p:spPr>
      </p:pic>
      <p:sp>
        <p:nvSpPr>
          <p:cNvPr id="350" name="2 CuadroTexto"/>
          <p:cNvSpPr/>
          <p:nvPr/>
        </p:nvSpPr>
        <p:spPr>
          <a:xfrm>
            <a:off x="549360" y="404640"/>
            <a:ext cx="12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alibri"/>
              </a:rPr>
              <a:t>Presentar  y adecuar el texto en lengua indíg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 Título"/>
          <p:cNvSpPr/>
          <p:nvPr/>
        </p:nvSpPr>
        <p:spPr>
          <a:xfrm>
            <a:off x="214200" y="285840"/>
            <a:ext cx="4818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</a:rPr>
              <a:t>Traducir y adaptar  las preguntas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7818480" y="1449360"/>
            <a:ext cx="907920" cy="9716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88960" y="841320"/>
            <a:ext cx="64310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f9500"/>
                </a:solidFill>
                <a:latin typeface="Century Gothic"/>
              </a:rPr>
              <a:t>Momentos o etapas de la escritura de un texto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5 CuadroTexto"/>
          <p:cNvSpPr/>
          <p:nvPr/>
        </p:nvSpPr>
        <p:spPr>
          <a:xfrm>
            <a:off x="468360" y="1433520"/>
            <a:ext cx="82249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Plan de escritura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, se identifica la  situación 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scritura; y definir qué, a quién, cómo  y para qué escribir el tex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Escritura del texto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, se redactan las ideas , cuidando que las frases  sean claras  y lleven  el orden requerido para comunicar,  se ensayan diferentes formas de decir las ideas  para  elegir la más adecuada según el propósito,; se usan las  herramientas  gráficas (letras), reglas de escritura de la leng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1749600" cy="1319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http://1.bp.blogspot.com/-1k4n4EGKvn4/Tv6BMZ9I0rI/AAAAAAAAAWo/bFFmWdjsAfA/s1600/la-gente-escribir-hojas-de-papel-lapices_3250649.jpg"/>
          <p:cNvPicPr/>
          <p:nvPr/>
        </p:nvPicPr>
        <p:blipFill>
          <a:blip r:embed="rId3"/>
          <a:stretch/>
        </p:blipFill>
        <p:spPr>
          <a:xfrm>
            <a:off x="5478480" y="5126040"/>
            <a:ext cx="18828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1 Título"/>
          <p:cNvSpPr/>
          <p:nvPr/>
        </p:nvSpPr>
        <p:spPr>
          <a:xfrm>
            <a:off x="214200" y="285840"/>
            <a:ext cx="4818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</a:rPr>
              <a:t>Traducir y adaptar  las preguntas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78040" y="841320"/>
            <a:ext cx="67183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f9500"/>
                </a:solidFill>
                <a:latin typeface="Century Gothic"/>
              </a:rPr>
              <a:t>Momentos o etapas de la escritura de un texto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611280" y="141300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Revisión y corrección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,  re-leer y verificar que el texto cumpla, en contenido y formato, su función  de comunicar,  se  reelabora el texto , si es necesario; se revisa que las palabras estén escritas según las regla de escritura, se revisan los signos de puntuación uso de mayúscula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25052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4c600"/>
                </a:solidFill>
                <a:latin typeface="Century Gothic"/>
              </a:rPr>
              <a:t>Criterios para revisión de escritura de un texto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3 CuadroTexto"/>
          <p:cNvSpPr/>
          <p:nvPr/>
        </p:nvSpPr>
        <p:spPr>
          <a:xfrm>
            <a:off x="539640" y="1484280"/>
            <a:ext cx="80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Que el contenido e información del texto esté completo y permita cumplir la función para lo que se elaboró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Que cumpla con las características de formato del tipo de tex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visa que las palabras estén escritas de acuerdo al uso del alfabeto y reglas de escritur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Verifiquen que si una misma palabra aparece más de dos veces en el texto estén escritas de la misma forma, es decir que haya consistencia en la escritu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Que en el texto el uso de las mayúsculas y signos de puntuación se adecu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43040" y="765000"/>
            <a:ext cx="559296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f9500"/>
                </a:solidFill>
                <a:latin typeface="Century Gothic"/>
              </a:rPr>
              <a:t>Frases a trabajar en la escritura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1 Título"/>
          <p:cNvSpPr/>
          <p:nvPr/>
        </p:nvSpPr>
        <p:spPr>
          <a:xfrm>
            <a:off x="539640" y="3741840"/>
            <a:ext cx="8064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Les envío un cordial y afectuoso saludo</a:t>
            </a:r>
            <a:r>
              <a:rPr b="1" lang="es-MX" sz="3600" spc="-1" strike="noStrike">
                <a:solidFill>
                  <a:srgbClr val="94c6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 Título"/>
          <p:cNvSpPr/>
          <p:nvPr/>
        </p:nvSpPr>
        <p:spPr>
          <a:xfrm>
            <a:off x="539640" y="2000160"/>
            <a:ext cx="80647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En la calle principal existe u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fuga de agu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 Título"/>
          <p:cNvSpPr/>
          <p:nvPr/>
        </p:nvSpPr>
        <p:spPr>
          <a:xfrm>
            <a:off x="539640" y="5529240"/>
            <a:ext cx="80647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Les pido que solucionen este problema</a:t>
            </a:r>
            <a:r>
              <a:rPr b="1" lang="es-MX" sz="3600" spc="-1" strike="noStrike">
                <a:solidFill>
                  <a:srgbClr val="94c6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 Título"/>
          <p:cNvSpPr/>
          <p:nvPr/>
        </p:nvSpPr>
        <p:spPr>
          <a:xfrm>
            <a:off x="539640" y="476280"/>
            <a:ext cx="39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</a:rPr>
              <a:t>Traducir  las palabras de acuerdo a la adaptación del las frases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4c600"/>
                </a:solidFill>
                <a:latin typeface="Century Gothic"/>
              </a:rPr>
              <a:t>Palabras a trabajar</a:t>
            </a:r>
            <a:r>
              <a:rPr b="0" lang="es-MX" sz="4000" spc="-1" strike="noStrike">
                <a:solidFill>
                  <a:srgbClr val="94c600"/>
                </a:solidFill>
                <a:latin typeface="Century Gothic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2 CuadroTexto"/>
          <p:cNvSpPr/>
          <p:nvPr/>
        </p:nvSpPr>
        <p:spPr>
          <a:xfrm>
            <a:off x="1075320" y="257184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l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4 CuadroTexto"/>
          <p:cNvSpPr/>
          <p:nvPr/>
        </p:nvSpPr>
        <p:spPr>
          <a:xfrm>
            <a:off x="2786040" y="5715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fectu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5 CuadroTexto"/>
          <p:cNvSpPr/>
          <p:nvPr/>
        </p:nvSpPr>
        <p:spPr>
          <a:xfrm>
            <a:off x="4214880" y="36432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8 CuadroTexto"/>
          <p:cNvSpPr/>
          <p:nvPr/>
        </p:nvSpPr>
        <p:spPr>
          <a:xfrm>
            <a:off x="642960" y="4143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al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9 CuadroTexto"/>
          <p:cNvSpPr/>
          <p:nvPr/>
        </p:nvSpPr>
        <p:spPr>
          <a:xfrm>
            <a:off x="7000920" y="178596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10 CuadroTexto"/>
          <p:cNvSpPr/>
          <p:nvPr/>
        </p:nvSpPr>
        <p:spPr>
          <a:xfrm>
            <a:off x="7215120" y="30718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r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11 CuadroTexto"/>
          <p:cNvSpPr/>
          <p:nvPr/>
        </p:nvSpPr>
        <p:spPr>
          <a:xfrm>
            <a:off x="6572160" y="492912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lig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4145040" y="178596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u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4:17:26Z</dcterms:created>
  <dc:creator>ELY</dc:creator>
  <dc:description/>
  <dc:language>en-US</dc:language>
  <cp:lastModifiedBy>ELY</cp:lastModifiedBy>
  <dcterms:modified xsi:type="dcterms:W3CDTF">2014-11-06T10:37:06Z</dcterms:modified>
  <cp:revision>59</cp:revision>
  <dc:subject/>
  <dc:title>Presentación de PowerPoint</dc:title>
</cp:coreProperties>
</file>