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FEDF-4D4D-4B2B-9957-5646BC4B3D1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E9BB-1D86-4959-BC5E-2037907408E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305D-BE81-44DD-8AA5-8D8DFA40BD6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8A74-E695-4BB4-8647-92E3B332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03B3-4BA4-42EC-AFC0-D0A5DD48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0FE3-DECB-49C0-96C4-B3225DCA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3276-8D99-42BE-BDEE-F4E3039A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F91E-5CCB-4D6C-A547-E497D1C2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606E-EC96-482D-8705-94B11D06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A187-5DC0-4564-AF57-70B590A4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9756-14B6-4B50-A8B6-86A3E18C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9D6A-425D-4D04-B8F6-F86146B0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CC37-E88B-4ECE-A081-E750D570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36FD-936A-465E-A1F0-8AABC465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FC88-B6F5-41DB-B2F3-9651E625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001F-6DA6-44B6-B159-14D998C5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1708-8D35-4DB2-A222-642EB537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6C96-294B-4C15-9EA0-90BD1E64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47F6-F009-4778-B83F-E4A18AE3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6323-F71D-4A9B-BD9B-2269BFB5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F7A60-EFAC-4DE6-A4F9-E19074F4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5C51A-7DB6-48D1-A30B-63005A0D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18CD3-5299-4D8B-88A6-55F8D422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E3DD2-EFEE-4088-BE6B-613D6E44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021AB-AEDB-4906-80B9-D0A7DD2E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3179-ADA8-4B10-85F7-3C4E6030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B1B8D-D91F-464F-9F33-1079B09F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2F2EF-C998-4203-B1F1-D749ACBA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5B3F8-2891-4E99-97D3-F085210A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58284-056E-4312-AB4B-0C9032B3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694DE-748D-4DCD-AD63-E2C639C1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D6599-F8BD-4482-BAA5-9BBF0732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7A985-DED1-488F-9925-E29779C1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B8DCB-5B0C-42AD-9657-28605CE9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3D624-7018-44F4-A6FF-69DD9835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44599-394E-499E-9B19-3B7340B6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4AD-FC21-4FCA-B79B-66A7C5E8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BFFE7-5C4A-4942-A67F-C1EAFBC5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340D4-0D93-4E21-BDDE-CD15DB56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953D8-2D78-433D-8CC5-35B4BC1B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B9BDD-EABB-4F4D-909F-0272344A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6BAAF-4509-4FD6-A0C8-34A67813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8B6C1-B42B-46BA-B36D-CFD79636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B7EC1-6E0E-4C93-B348-2C542CAB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577BF-68E1-4D7A-98A2-39F7F8D5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7B27D-AB99-43B2-A30C-1A44DAF6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EB396-AD2D-4247-8A1B-2D59E0DE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F604-2962-4F33-A53B-B7286CBA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B7065-DA42-4B6A-8200-0CE0C388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2E0A7-1B77-4563-85FC-43C33D1D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73DD5-E213-494E-AF10-7C946CC0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A3EF6-C978-4B19-AB4E-38CF92EF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371A0-3CE5-445C-BA2C-B2D5DD71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502CB-1FC2-4865-81E5-E295F365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D0BF2-F52A-4135-91FE-085AD5E4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D910B-14F6-4652-8E6F-0294A4F9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36A5F-9AD0-433D-B4D8-ABC2AE25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0D1AD-2375-48D2-8CAE-A3D51E58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F04C-63AC-4558-BF51-3CBFA156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4C22E-DCDF-49D2-B972-B52E7207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ECF45-A880-4640-807C-7CE7F917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890F8-FA86-4F11-A69D-1B2ACB74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90DA8-2268-4696-B259-915D96ED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A50ED-AFAF-4B2D-B068-1AAE8310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78494-C7B0-45BC-B1B8-1A4EA7A1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94384-06EE-4EF2-90BB-BFC2C05E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EE748-06B5-40B1-ADFE-0B5C66BD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0B780-FC62-4B3D-A1AB-04B5CBDB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38992-7AD7-4E64-A506-E85C45A6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76AD-1604-4CC7-8B4A-EC0B9C99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5D789-6308-4FFB-8443-7F1B4C7B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9CAA3-2FE7-403A-B38C-AE1971FE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26BD4-CCB7-46BB-A794-D0D4B9BC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6B30B-47B0-4A8C-8B19-4D915566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19924-13B0-40CB-A9F2-69703BDD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3CB2F-B7A8-4AB6-8175-E74501B7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3D852-F297-4FC6-9BDE-A3A9064C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19E09-14F9-42A1-9E6E-F9B8DA95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3C1DF-E1BD-4929-AF7E-735EDE1C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FB500-2A86-463A-9918-6EE4602E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79DC-5A36-4924-B05A-0F529EA5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7A9AB-C5D4-4EC0-A1C8-A56F8BA1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42A7E-A36F-44B5-97E1-6456E233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B5144-394C-49E7-A076-B837FCE3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36162-8B59-4853-A5DE-C0DA6426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8A5D6-23EF-4D00-89FC-A7432988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1CAC4-B33C-4A91-A8F5-6306FAD8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06590-235D-41FB-8AD3-2FB9ED8F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B20BE-FC97-47E6-A5FF-5C3455C0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2FC90-523B-45E1-B8B1-332421BC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565D8-CB6C-4E9A-988D-9A7C9645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0FF-57B7-4E41-8721-18058EEA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89598-5E0D-4849-ACBB-3CCD4C2D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6DDFE-2406-46DD-8B43-81E9F019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5A3EE-4C1A-4F08-A1B0-18782AAF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16DC7-2967-49F3-A892-8AE217CE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54975-6E7E-4EB6-9AD6-97ECE034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21BEC-0CB1-4944-BD8D-1E8FEB71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5188B-7CDA-49C7-B193-1584942F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5493-5770-4019-B612-4ED6D293602B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5 Forma libre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51" name="18 Forma libre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18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pic>
          <p:nvPicPr>
            <p:cNvPr id="54" name="19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BCEA-D47A-4428-AA58-A07FCAF187D7}" type="slidenum"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11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3073-8E90-46E2-B89E-E023389510FF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42E1-7AF8-4513-8FA9-EF10F98B4222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39A0-FBC0-4BAA-8B5B-D923C2DFF6BE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8A77-5B97-4C00-A49C-8B63A8980F07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27A8-282C-445E-B4D0-F5FD511552AD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23" name="15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15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326" name="16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18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19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D722-D790-4013-AAAA-58DD65DFF3B2}" type="slidenum"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1 Rectángulo"/>
          <p:cNvSpPr/>
          <p:nvPr/>
        </p:nvSpPr>
        <p:spPr>
          <a:xfrm>
            <a:off x="1403280" y="765000"/>
            <a:ext cx="68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ahoma"/>
                <a:ea typeface="Tahoma"/>
              </a:rPr>
              <a:t>Tema 2. Las Personas Jóvenes y Adultas (PJA): características y motivació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8" name="6 Imagen" descr=""/>
          <p:cNvPicPr/>
          <p:nvPr/>
        </p:nvPicPr>
        <p:blipFill>
          <a:blip r:embed="rId1"/>
          <a:stretch/>
        </p:blipFill>
        <p:spPr>
          <a:xfrm>
            <a:off x="2700360" y="2565360"/>
            <a:ext cx="381636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3 CuadroTexto"/>
          <p:cNvSpPr/>
          <p:nvPr/>
        </p:nvSpPr>
        <p:spPr>
          <a:xfrm>
            <a:off x="179280" y="5345280"/>
            <a:ext cx="869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Son el centro y la razón del aprendizaje y de nuestra atenció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0" name="Picture 6" descr="C:\Mis documentos\Mis imágenes\personas y grupos\d[1].jpg"/>
          <p:cNvPicPr/>
          <p:nvPr/>
        </p:nvPicPr>
        <p:blipFill>
          <a:blip r:embed="rId1"/>
          <a:stretch/>
        </p:blipFill>
        <p:spPr>
          <a:xfrm>
            <a:off x="1712880" y="2117880"/>
            <a:ext cx="2282760" cy="2043000"/>
          </a:xfrm>
          <a:prstGeom prst="rect">
            <a:avLst/>
          </a:prstGeom>
          <a:ln w="0">
            <a:noFill/>
          </a:ln>
        </p:spPr>
      </p:pic>
      <p:sp>
        <p:nvSpPr>
          <p:cNvPr id="381" name="5 CuadroTexto"/>
          <p:cNvSpPr/>
          <p:nvPr/>
        </p:nvSpPr>
        <p:spPr>
          <a:xfrm>
            <a:off x="557280" y="333360"/>
            <a:ext cx="804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c00000"/>
                </a:solidFill>
                <a:latin typeface="Calibri"/>
                <a:ea typeface="MS PGothic"/>
              </a:rPr>
              <a:t>¿Quiénes son las personas jóvenes y adultas que no saben leer y escribir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2" name="Picture 2" descr="http://ciudadania-express.com/wp-content/uploads/2010/08/misioncivil.jpg"/>
          <p:cNvPicPr/>
          <p:nvPr/>
        </p:nvPicPr>
        <p:blipFill>
          <a:blip r:embed="rId2"/>
          <a:stretch/>
        </p:blipFill>
        <p:spPr>
          <a:xfrm>
            <a:off x="3882960" y="2901960"/>
            <a:ext cx="252432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4 CuadroTexto" descr=""/>
          <p:cNvPicPr/>
          <p:nvPr/>
        </p:nvPicPr>
        <p:blipFill>
          <a:blip r:embed="rId1"/>
          <a:stretch/>
        </p:blipFill>
        <p:spPr>
          <a:xfrm>
            <a:off x="401760" y="1238400"/>
            <a:ext cx="6211800" cy="50162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C:\Mis documentos\Mis imágenes\personas y grupos\bodega[1].jpg"/>
          <p:cNvPicPr/>
          <p:nvPr/>
        </p:nvPicPr>
        <p:blipFill>
          <a:blip r:embed="rId2"/>
          <a:stretch/>
        </p:blipFill>
        <p:spPr>
          <a:xfrm>
            <a:off x="6129360" y="2019240"/>
            <a:ext cx="2927160" cy="2343240"/>
          </a:xfrm>
          <a:prstGeom prst="rect">
            <a:avLst/>
          </a:prstGeom>
          <a:ln w="0">
            <a:noFill/>
          </a:ln>
        </p:spPr>
      </p:pic>
      <p:sp>
        <p:nvSpPr>
          <p:cNvPr id="385" name="3 CuadroTexto"/>
          <p:cNvSpPr/>
          <p:nvPr/>
        </p:nvSpPr>
        <p:spPr>
          <a:xfrm>
            <a:off x="2819520" y="33480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00000"/>
                </a:solidFill>
                <a:latin typeface="Calibri"/>
                <a:ea typeface="MS PGothic"/>
              </a:rPr>
              <a:t>¿Qué las caracteriza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5 CuadroTexto"/>
          <p:cNvSpPr/>
          <p:nvPr/>
        </p:nvSpPr>
        <p:spPr>
          <a:xfrm>
            <a:off x="338040" y="981000"/>
            <a:ext cx="4017960" cy="55962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prendizajes previos y experiencia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MS PGothic"/>
              </a:rPr>
              <a:t>Capacidades para la resolución de problemas de vid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MS PGothic"/>
              </a:rPr>
              <a:t>Diversas responsabilidad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MS PGothic"/>
              </a:rPr>
              <a:t>Diferentes niveles de bilingüismo (población indígena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utoestima baja: les da vergüenza ser analfabeta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MS PGothic"/>
              </a:rPr>
              <a:t>Necesidad de solventar situaciones económicas de sobrevivencia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7" name="1 CuadroTexto"/>
          <p:cNvSpPr/>
          <p:nvPr/>
        </p:nvSpPr>
        <p:spPr>
          <a:xfrm>
            <a:off x="4572000" y="981000"/>
            <a:ext cx="4216320" cy="41173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lgunos empezaron a aprender a leer y escribi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MS PGothic"/>
              </a:rPr>
              <a:t>Se vieron obligados a “abandonar” el estudio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MS PGothic"/>
              </a:rPr>
              <a:t>Vivieron  situaciones de frustración en el aprendizaj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MS PGothic"/>
              </a:rPr>
              <a:t>No tuvieron oportunidad de continuar ejerciendo lo aprendido y lo olvidar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3 CuadroTexto"/>
          <p:cNvSpPr/>
          <p:nvPr/>
        </p:nvSpPr>
        <p:spPr>
          <a:xfrm>
            <a:off x="3407040" y="384120"/>
            <a:ext cx="189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alibri"/>
                <a:ea typeface="MS PGothic"/>
              </a:rPr>
              <a:t>Tienen…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5599080" y="5248440"/>
            <a:ext cx="235764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1 Título"/>
          <p:cNvSpPr/>
          <p:nvPr/>
        </p:nvSpPr>
        <p:spPr>
          <a:xfrm>
            <a:off x="611280" y="11592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6464a"/>
                </a:solidFill>
                <a:latin typeface="Lucida Sans Unicode"/>
              </a:rPr>
              <a:t>Las personas indígenas…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2 CuadroTexto"/>
          <p:cNvSpPr/>
          <p:nvPr/>
        </p:nvSpPr>
        <p:spPr>
          <a:xfrm>
            <a:off x="235080" y="1125360"/>
            <a:ext cx="8700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MS PGothic"/>
              </a:rPr>
              <a:t>Han vivido discriminación por su lengua, aspecto y costumbr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MS PGothic"/>
              </a:rPr>
              <a:t>Quieren preservar algunos elementos cultural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MS PGothic"/>
              </a:rPr>
              <a:t>Desean aprender españo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MS PGothic"/>
              </a:rPr>
              <a:t>Han sido engañados y utilizados , en algunos cas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MS PGothic"/>
              </a:rPr>
              <a:t>Tienen necesidad de incorporarse a actividades productivas, dentro y fuera de sus comunidad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92" name="4 Grupo"/>
          <p:cNvGrpSpPr/>
          <p:nvPr/>
        </p:nvGrpSpPr>
        <p:grpSpPr>
          <a:xfrm>
            <a:off x="1133640" y="4437000"/>
            <a:ext cx="6765840" cy="1644840"/>
            <a:chOff x="1133640" y="4437000"/>
            <a:chExt cx="6765840" cy="1644840"/>
          </a:xfrm>
        </p:grpSpPr>
        <p:pic>
          <p:nvPicPr>
            <p:cNvPr id="393" name="5 Imagen" descr=""/>
            <p:cNvPicPr/>
            <p:nvPr/>
          </p:nvPicPr>
          <p:blipFill>
            <a:blip r:embed="rId1"/>
            <a:stretch/>
          </p:blipFill>
          <p:spPr>
            <a:xfrm>
              <a:off x="1133640" y="4455360"/>
              <a:ext cx="2036520" cy="13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6 Imagen" descr=""/>
            <p:cNvPicPr/>
            <p:nvPr/>
          </p:nvPicPr>
          <p:blipFill>
            <a:blip r:embed="rId2"/>
            <a:stretch/>
          </p:blipFill>
          <p:spPr>
            <a:xfrm>
              <a:off x="3170160" y="4722840"/>
              <a:ext cx="2622600" cy="13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7 Imagen" descr=""/>
            <p:cNvPicPr/>
            <p:nvPr/>
          </p:nvPicPr>
          <p:blipFill>
            <a:blip r:embed="rId3"/>
            <a:stretch/>
          </p:blipFill>
          <p:spPr>
            <a:xfrm>
              <a:off x="5749920" y="4437000"/>
              <a:ext cx="2149560" cy="125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1 Título"/>
          <p:cNvSpPr/>
          <p:nvPr/>
        </p:nvSpPr>
        <p:spPr>
          <a:xfrm>
            <a:off x="247680" y="1123920"/>
            <a:ext cx="8645400" cy="158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s el conjunto de intereses, deseos y aspiraciones personales, que dirigen y mantienen la realización de una actividad determinada</a:t>
            </a:r>
            <a:r>
              <a:rPr b="0" lang="es-MX" sz="2800" spc="-1" strike="noStrike">
                <a:solidFill>
                  <a:srgbClr val="0070c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1 Rectángulo"/>
          <p:cNvSpPr/>
          <p:nvPr/>
        </p:nvSpPr>
        <p:spPr>
          <a:xfrm>
            <a:off x="2293920" y="34452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70c0"/>
                </a:solidFill>
                <a:latin typeface="Century Gothic"/>
                <a:ea typeface="Arial"/>
              </a:rPr>
              <a:t>La motivació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1 Título"/>
          <p:cNvSpPr/>
          <p:nvPr/>
        </p:nvSpPr>
        <p:spPr>
          <a:xfrm>
            <a:off x="247680" y="3146400"/>
            <a:ext cx="8340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70c0"/>
                </a:solidFill>
                <a:latin typeface="Century Gothic"/>
              </a:rPr>
              <a:t>¿</a:t>
            </a:r>
            <a:r>
              <a:rPr b="1" lang="es-MX" sz="3200" spc="-1" strike="noStrike">
                <a:solidFill>
                  <a:srgbClr val="0070c0"/>
                </a:solidFill>
                <a:latin typeface="Century Gothic"/>
              </a:rPr>
              <a:t>Qué las motiva a estudiar</a:t>
            </a:r>
            <a:r>
              <a:rPr b="1" lang="es-MX" sz="4000" spc="-1" strike="noStrike">
                <a:solidFill>
                  <a:srgbClr val="0070c0"/>
                </a:solidFill>
                <a:latin typeface="Century Gothic"/>
              </a:rPr>
              <a:t>?</a:t>
            </a:r>
            <a:r>
              <a:rPr b="0" lang="es-MX" sz="4000" spc="-1" strike="noStrike">
                <a:solidFill>
                  <a:srgbClr val="0070c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2 Rectángulo"/>
          <p:cNvSpPr/>
          <p:nvPr/>
        </p:nvSpPr>
        <p:spPr>
          <a:xfrm>
            <a:off x="247680" y="3718080"/>
            <a:ext cx="8763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No ser engañada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Acceder a información contenida en medicamentos, alimentos, promoción de servicios, etc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Necesidad de leer y escribir recados y mensajes, llenar formatos, etc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6 CuadroTexto"/>
          <p:cNvSpPr/>
          <p:nvPr/>
        </p:nvSpPr>
        <p:spPr>
          <a:xfrm>
            <a:off x="395280" y="404640"/>
            <a:ext cx="8380440" cy="45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Ayudar a los hijos o nietos en la escuela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Sentirse parte de un grupo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Saber lo que se firma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P</a:t>
            </a:r>
            <a:r>
              <a:rPr b="0" lang="es-MX" sz="32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oder moverse en un lugar desconocid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Beneficiarse de programas social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Participar en proyectos productivos o comunitarios;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Aprender a utilizar nuevas herramienta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  </a:t>
            </a:r>
            <a:r>
              <a:rPr b="0" lang="es-MX" sz="32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Por gusto o para progresa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2 CuadroTexto"/>
          <p:cNvSpPr/>
          <p:nvPr/>
        </p:nvSpPr>
        <p:spPr>
          <a:xfrm>
            <a:off x="250920" y="907920"/>
            <a:ext cx="8521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MS PGothic"/>
              </a:rPr>
              <a:t>Relacionar las situaciones d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MS PGothic"/>
              </a:rPr>
              <a:t>la vida de las personas  con l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MS PGothic"/>
              </a:rPr>
              <a:t>la alfabetización, de acuerdo 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MS PGothic"/>
              </a:rPr>
              <a:t>sus motivacion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MS PGothic"/>
              </a:rPr>
              <a:t>Acércales materiales que les pudieran ser atractivos: manuales de oficios, literatura interesante, mensajes, avisos, instructivos, recetas, actas de nacimiento, etc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ropicia que al término de cada asesoría las personas tengan la sensación de haber aprendido algo útil o aplicable en su vid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1 Título"/>
          <p:cNvSpPr/>
          <p:nvPr/>
        </p:nvSpPr>
        <p:spPr>
          <a:xfrm>
            <a:off x="479520" y="-27000"/>
            <a:ext cx="834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46464a"/>
                </a:solidFill>
                <a:latin typeface="Lucida Sans Unicode"/>
              </a:rPr>
              <a:t>Para favorecer su motivar conviene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5576760" y="1146240"/>
            <a:ext cx="295272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1 CuadroTexto"/>
          <p:cNvSpPr/>
          <p:nvPr/>
        </p:nvSpPr>
        <p:spPr>
          <a:xfrm>
            <a:off x="684360" y="1596960"/>
            <a:ext cx="7907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70c0"/>
                </a:solidFill>
                <a:latin typeface="Calibri"/>
                <a:ea typeface="MS PGothic"/>
              </a:rPr>
              <a:t>saber que todos o casi todos los educandos, si perciben interés y compromiso con ellos, y ven UTILIDAD en lo que aprenden, así como relación con su vida productiva, familiar y comunitaria, van a venir y a quedars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1 Título"/>
          <p:cNvSpPr/>
          <p:nvPr/>
        </p:nvSpPr>
        <p:spPr>
          <a:xfrm>
            <a:off x="250920" y="333360"/>
            <a:ext cx="834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46464a"/>
                </a:solidFill>
                <a:latin typeface="Lucida Sans Unicode"/>
              </a:rPr>
              <a:t>Para motivar conviene</a:t>
            </a:r>
            <a:r>
              <a:rPr b="0" lang="es-MX" sz="4000" spc="-1" strike="noStrike">
                <a:solidFill>
                  <a:srgbClr val="46464a"/>
                </a:solidFill>
                <a:latin typeface="Lucida Sans Unicode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5T17:10:47Z</dcterms:created>
  <dc:creator>ELY</dc:creator>
  <dc:description/>
  <dc:language>en-US</dc:language>
  <cp:lastModifiedBy>PPerez</cp:lastModifiedBy>
  <dcterms:modified xsi:type="dcterms:W3CDTF">2015-08-12T19:53:07Z</dcterms:modified>
  <cp:revision>21</cp:revision>
  <dc:subject/>
  <dc:title>Presentación de PowerPoint</dc:title>
</cp:coreProperties>
</file>