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8E97F-BBC5-4BBB-9097-26DC82F0FB6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Marcador de número de diapositiva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C72FF-226C-449E-9128-FA685879550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D6788-0805-4F84-8D03-1246C1CD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6128D-1CA2-4DF2-A8B0-1F9CFA8F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13BD3-0F74-41AD-9BE1-E427F015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01CB0-93F4-4BD3-8043-51DE936D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0236-114B-444C-B10C-96BBBB2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D01D6-B1AA-41E4-8377-658B06FD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E42B7-1158-48C8-B116-1D9CF8F1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C55BC-741D-4926-A857-7B3C9599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D9096-BEAC-4AF4-8609-0C58C722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EEF95-CCE9-4152-B0DE-D03A56A7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728F4-8DF5-4E63-B1F2-4D241C1D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C41B6-D995-4DAB-B568-C60BC5DD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A1A17-D034-43E0-B13A-D10A900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DBA3A-8C0C-47D1-AC66-87A085E8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1E73C-9F24-4806-AC56-3814C469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1A622-23F6-461A-97AB-05E3BE9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D9BE7-EC00-4150-A987-ACF825ED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3AF3-9BDD-4C3A-8A5B-BED864A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0EA28-9636-4778-AD22-85A1A97C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2DE77-0418-42BE-B83A-94384AFC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C1552-B444-432E-94F3-6023981A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00D0A-259D-41A9-ADC5-33BFB848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CF68E-264F-43D9-8160-AC56083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4B4D0-34FA-442B-89AA-A501D1A9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381D0-26AA-4303-868D-2EB1CD19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FF189-7550-491C-99D0-E86094CC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4E376-22BC-401D-94D7-340779DA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7E918-40E7-4372-849D-B76C919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6990E-8B76-474F-A429-107FDAE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3A598-0489-4B05-966D-9C0C9AE1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BB5-C64E-4871-A49A-4C30E698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DFE17-7868-4119-847A-75915CC0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F8813-31F4-4ED6-A841-81B27D49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770F0-95E5-43E3-BD38-EA7E3584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7D00A-2CB5-46F5-947B-F4171A04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D9738-DD8C-4FA7-918D-B289E446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5638-6D67-47C4-A89A-20259BBD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4805-2B52-4BD7-9F22-E97041AD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20D74-7E97-41EE-8FC3-92000C9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00283-DCB1-446C-B2E8-3BCF0991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F132E-D0DE-4A54-9668-1BF47A87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C3B-93C9-423E-A673-DF81A883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83A94-4C8E-481F-B0C8-8961806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72F0F-AFD4-4EB6-B12C-7217378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478C3-62C0-4503-BFDB-403C087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4F5A6-BFCD-4331-ACC5-F86B7524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FC336-E15B-4FB7-9D9E-348180C3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03F-62D2-4EF1-8FF5-03B45554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5CD-CA4A-47C8-8BF5-29EA7CEE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E5D-AAC4-445C-BC3D-607DBE5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2C5-2F2C-4C0A-854D-81EF2BDB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CE7-0907-49E3-A414-E6154E5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1C8-6C3A-4007-9CC5-3A501C5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313-A1E1-40C5-AAAB-F142A3C9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07B-BAE3-43BB-BD24-10B92617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2EE-B75C-4514-8560-8D911820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493-3037-4526-B647-8CD82F77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25E9-FAE0-467B-AB1E-DF193EC4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6061-B776-4AC6-8616-2883ED36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C2F5-937D-407C-8AE4-8FBB36CD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B4A3-D1AA-4D69-9C9F-0806F6CA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C5B-29C8-4330-8854-001AC414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18E0-C3E0-4F36-802E-3E50AB5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99E8-C157-49F2-A0BE-B85A6A0C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BEA3-C683-48B1-8D8E-174AB50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AB8-06C5-4960-B30D-B90D4362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CF4E-9C9E-4903-83C4-DBF59B22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0484-0C78-4907-82EA-527F53F1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8406-4F78-45D8-8AF1-50AF5E47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6258-B00D-4665-95BF-C90A28BA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7FF0-E892-47F9-A6AE-26495C79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CF9F-48CE-40D2-8B19-940AFB7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D54E-F30A-4E40-8DB7-DBF8A132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A845-3CD8-4F66-88F4-52432AC8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2CE6-859C-4C32-B946-59B0312B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1990-ECB2-4C7D-9996-7C55037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FA79-1AC9-4BEB-9F5B-8F72D28A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3B7F-0A01-4F4E-8837-718C6E64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9A4A-84C7-4F52-A9AD-3A96C35D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4403-3BD1-48F0-8AA7-606B2BD2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C9A6-799C-4E1A-9252-F6E3482E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6E9D-69D6-4668-A1B3-6A88F58F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C1FE-0F82-4D64-BAD7-186ABD00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4FE92-CE61-40E2-8098-61171BFF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616D-5DC1-4B8D-8ECA-AA7B2626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8EBF-0113-431C-87DF-5ACA2B39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35D0-0DCC-423C-A80A-557DD4F4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CFD6-D644-4437-B212-8C202071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76098-B200-482D-8494-45CA469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77A6-FF8C-4C40-87A9-76334853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4B17-CC1B-42D2-A9F7-E9D3DF89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2368-7162-498E-B78D-D64338E6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C103C-4EB5-478F-88E3-D740E34F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943BB-CE94-4214-9BC6-F49E9286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8B721-C669-44F5-A186-699B96BD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58FED-05C9-4F41-90EB-F5638663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69089-E36D-4349-A6F2-0CE158F7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C091B-7DBD-4BBD-AF1A-FD26FA9D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6015C-2A19-4682-A6A5-8D06A94C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1CA0-C3EE-40B5-B95F-A716A42F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679A-E9B2-43EF-822E-019377AE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526EA-E405-4858-955A-C9216A2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53F0A-00B6-4E8F-B2E9-FFCE0FDC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2517-6ADA-4375-8097-9E74BB30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0CA2A-06E3-4A9C-987F-BC2EE637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A70A3-5D70-4C05-A414-894A2DA6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40C30-FE01-45BE-8089-7B48C23E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3717E-4A99-4FD7-832E-786A92D9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5CE9F-D7BA-4D1E-9C45-62F38B27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A8DA8-9955-4242-970B-1FD351EB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F97D5-0F62-4341-B421-BEA76385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72C0-5469-4C35-8912-101DFD5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EC89A-689B-4B7B-B088-4FD682B6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D1860-28F6-4A5E-9C1D-781A493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4A40-D370-4975-BE33-CBE7DF1B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CFCE0-1399-4889-9527-1E490ABF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72217-3EEC-4445-A6F3-80DAE8A3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034B1-2A19-4A6A-AC58-BDBB4F70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40C7-8681-46C2-9446-FF500F1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F6AB1-02FD-4D17-88BF-2985B91A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80659-D18B-47BB-96EC-D9E970F5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9743F-1B2C-48DD-9455-08EA9C06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F064-5D23-4684-A18E-6DC7EEBF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D02B0-3C43-4E6F-A861-82E3F16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36E6-5293-4B42-9525-5FC55C0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04BF0-6CBB-432F-8E3E-DC13AD1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B18AF-D521-4EDE-BE45-E437A11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73DE8-346C-437B-8D61-9D0B2BDD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5E9EF-8603-4E4A-98F2-3D891EBA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1CAE4-FF5C-45AE-BB5A-EA6853AE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A7340-8146-46E9-98A7-1498D2CB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F0BE1-F05D-4D72-96A0-7BC4F7C0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EA29F-27E0-499B-821C-3DDC6BEA9C6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AECA7-94EE-41CF-B80F-1C9E52832A4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893D4-269E-43AE-9382-DE480277202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EEB0B-638B-4EF6-AC57-0481DE3A8C7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F696D-5E00-4EE1-B75F-D4BFD6B66B3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86645-AD66-4D5B-A572-78DEBF058BC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567C9-CE17-401C-BFA1-7728256CDC5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95DEF-B536-4943-9B1A-5A8E2B6538F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7D498-BC32-40B2-9840-4A2C6F8455F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E5DD0-0CAB-46C5-B733-C4933EC47BA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Imagen 1" descr="PresentacionD.jpg"/>
          <p:cNvPicPr/>
          <p:nvPr/>
        </p:nvPicPr>
        <p:blipFill>
          <a:blip r:embed="rId2"/>
          <a:stretch/>
        </p:blipFill>
        <p:spPr>
          <a:xfrm>
            <a:off x="433440" y="0"/>
            <a:ext cx="867096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8C1E0-035E-4013-89AA-357296E9DC2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57600" y="1677960"/>
            <a:ext cx="60624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plomados a distanci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5 CuadroTexto"/>
          <p:cNvSpPr/>
          <p:nvPr/>
        </p:nvSpPr>
        <p:spPr>
          <a:xfrm>
            <a:off x="2757600" y="5572080"/>
            <a:ext cx="606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UNIÓN NACIONAL ACADÉM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1"/>
          <a:stretch/>
        </p:blipFill>
        <p:spPr>
          <a:xfrm>
            <a:off x="5519880" y="2889360"/>
            <a:ext cx="3300120" cy="11271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2"/>
          <a:stretch/>
        </p:blipFill>
        <p:spPr>
          <a:xfrm>
            <a:off x="271440" y="2889360"/>
            <a:ext cx="45115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409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vanzaron en los resultados del módulo Operaciones avanz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sarrollaron habilidades en lectura y escri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Obtuvieron información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nsolidan estructura de la coordinación de z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ntribuir al fortalecimiento de los equipos esta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409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romueve la apropiación de herramientas tecnológ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ejora de competencias personales y apropiación de conocimi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Fortalecen las habilidades del form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romueve la permanencia al considerarse parte del equi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228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uchos estudiantes han mostrado compromiso y constancia en el desarrollo de las actividades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, s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 esmeran en presentar buenos trabajos, ampliando la información, aportando puntos interesantes y argumentando sus activ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n los foros se ha propiciado una interacción propositiva, análisis, intercambio, formulación y  construcción de propuestas, que contribuyen al aprendiz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 los tutores que han permanecido se ha logrado una incipiente comunidad de aprendiz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28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Desarrollo de habilidades para emplear  herramientas en Internet: aplicaciones, videoconferencias  y videollamadas, correo electrónico, chat y redes sociales, en sus tareas educativas y pers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7" descr=""/>
          <p:cNvPicPr/>
          <p:nvPr/>
        </p:nvPicPr>
        <p:blipFill>
          <a:blip r:embed="rId1"/>
          <a:stretch/>
        </p:blipFill>
        <p:spPr>
          <a:xfrm>
            <a:off x="5919840" y="4119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"/>
          <p:cNvPicPr/>
          <p:nvPr/>
        </p:nvPicPr>
        <p:blipFill>
          <a:blip r:embed="rId2"/>
          <a:stretch/>
        </p:blipFill>
        <p:spPr>
          <a:xfrm>
            <a:off x="2976480" y="46623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"/>
          <p:cNvPicPr/>
          <p:nvPr/>
        </p:nvPicPr>
        <p:blipFill>
          <a:blip r:embed="rId3"/>
          <a:stretch/>
        </p:blipFill>
        <p:spPr>
          <a:xfrm>
            <a:off x="297000" y="5081760"/>
            <a:ext cx="2295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07784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tado que guardan los diplom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52080" y="1672920"/>
            <a:ext cx="849636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Gráfico 5" descr=""/>
          <p:cNvPicPr/>
          <p:nvPr/>
        </p:nvPicPr>
        <p:blipFill>
          <a:blip r:embed="rId1"/>
          <a:stretch/>
        </p:blipFill>
        <p:spPr>
          <a:xfrm>
            <a:off x="1195560" y="2487600"/>
            <a:ext cx="6480000" cy="4351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6348240" y="3038400"/>
            <a:ext cx="2725920" cy="981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"/>
          <p:cNvPicPr/>
          <p:nvPr/>
        </p:nvPicPr>
        <p:blipFill>
          <a:blip r:embed="rId3"/>
          <a:srcRect l="4888" t="26823" r="3311" b="10254"/>
          <a:stretch/>
        </p:blipFill>
        <p:spPr>
          <a:xfrm>
            <a:off x="552600" y="1828800"/>
            <a:ext cx="4800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07784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tado que guardan los diplom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52080" y="1828440"/>
            <a:ext cx="84963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Gráfico 3" descr=""/>
          <p:cNvPicPr/>
          <p:nvPr/>
        </p:nvPicPr>
        <p:blipFill>
          <a:blip r:embed="rId1"/>
          <a:stretch/>
        </p:blipFill>
        <p:spPr>
          <a:xfrm>
            <a:off x="146160" y="1920960"/>
            <a:ext cx="7284960" cy="57783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6362640" y="3052800"/>
            <a:ext cx="2495520" cy="1109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"/>
          <p:cNvPicPr/>
          <p:nvPr/>
        </p:nvPicPr>
        <p:blipFill>
          <a:blip r:embed="rId3"/>
          <a:srcRect l="0" t="21362" r="0" b="7490"/>
          <a:stretch/>
        </p:blipFill>
        <p:spPr>
          <a:xfrm>
            <a:off x="352440" y="1835280"/>
            <a:ext cx="49435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107784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tado que guardan los diplom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52080" y="1828440"/>
            <a:ext cx="84963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Gráfico 3" descr=""/>
          <p:cNvPicPr/>
          <p:nvPr/>
        </p:nvPicPr>
        <p:blipFill>
          <a:blip r:embed="rId1"/>
          <a:stretch/>
        </p:blipFill>
        <p:spPr>
          <a:xfrm>
            <a:off x="622440" y="2120760"/>
            <a:ext cx="6059520" cy="4310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" descr=""/>
          <p:cNvPicPr/>
          <p:nvPr/>
        </p:nvPicPr>
        <p:blipFill>
          <a:blip r:embed="rId2"/>
          <a:stretch/>
        </p:blipFill>
        <p:spPr>
          <a:xfrm>
            <a:off x="6516720" y="2762280"/>
            <a:ext cx="2408040" cy="11714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rcRect l="0" t="16417" r="0" b="19475"/>
          <a:stretch/>
        </p:blipFill>
        <p:spPr>
          <a:xfrm>
            <a:off x="297000" y="1876320"/>
            <a:ext cx="5286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107784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tado que guardan los diplom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52080" y="1828440"/>
            <a:ext cx="84963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2 Gráfico" descr=""/>
          <p:cNvPicPr/>
          <p:nvPr/>
        </p:nvPicPr>
        <p:blipFill>
          <a:blip r:embed="rId1"/>
          <a:stretch/>
        </p:blipFill>
        <p:spPr>
          <a:xfrm>
            <a:off x="749160" y="1778040"/>
            <a:ext cx="7864560" cy="47782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"/>
          <p:cNvPicPr/>
          <p:nvPr/>
        </p:nvPicPr>
        <p:blipFill>
          <a:blip r:embed="rId2"/>
          <a:stretch/>
        </p:blipFill>
        <p:spPr>
          <a:xfrm>
            <a:off x="2079720" y="5064120"/>
            <a:ext cx="406440" cy="1768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"/>
          <p:cNvPicPr/>
          <p:nvPr/>
        </p:nvPicPr>
        <p:blipFill>
          <a:blip r:embed="rId3"/>
          <a:srcRect l="15576" t="0" r="0" b="0"/>
          <a:stretch/>
        </p:blipFill>
        <p:spPr>
          <a:xfrm>
            <a:off x="3413160" y="5064120"/>
            <a:ext cx="479520" cy="1768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4"/>
          <a:stretch/>
        </p:blipFill>
        <p:spPr>
          <a:xfrm>
            <a:off x="4800600" y="5064120"/>
            <a:ext cx="4176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440" y="48240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Problemáticas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52080" y="1255680"/>
            <a:ext cx="84963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Convocatoria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Falta de difus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elección inadecuada de participantes, porque no se apegan a criterios establecidos en convocatori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nocer y manejar la computadora, Internet, procesador de palabras y hoja de cálculo a nivel bás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Haber acreditado el nivel bachillera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isponer de al menos 6-10 horas efectivas a la semana para realizar las actividades del Diplomad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Tener acceso a un equipo de cómputo con conectividad óptima a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ntar con una cuenta de correo electrónico vige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ocos participantes de algunos es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52080" y="1417680"/>
            <a:ext cx="849636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Convocatoria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gistro incompleto o con erro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misión de constancias, entrega y acu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Constancias con errores en la escritura de los nombres de participant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Entrega de constancias muy retrasad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No se regresan a la Dirección Académica acuses firmado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in registro en SAS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n la convocatoria se solicita que los participantes deben estar registrado en el SASA, de no estarlo, será responsabilidad de la entidad realizar el trám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ovilidad de las figuras en su registro de SASA algunas veces se registran de una manera y al poco tiempo cambian de 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onocer las bondades del estudio de los diplomados a distancia como parte de la formación de las figuras educ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nocer y reconocer la situación que guardan los diplomados y las dificultades en su desarr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alizar, proponer y socializar estrategias que permitan mejorar el desarrollo de los diplomados, para el siguiente añ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50940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Problemática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52080" y="1454040"/>
            <a:ext cx="84963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Deserción de participante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30% de los estudiantes que se registraron no ingresaron al módulo propedéut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Poco conocimiento de las TIC a pesar de que en la cédula de registro manifiestan tener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signación de tareas diversas lo que no permite la participación constante y con calid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studiantes manifiestan tener poco tiempo para hacer las actividades, debido a cargas de trabaj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Problemática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52080" y="1555560"/>
            <a:ext cx="8496360" cy="48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Deserción de participante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No cuentan con equipo de cómputo personal o a su disposición, que les permita participar en el diplom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s plazas no cuentan con equipos óptimos o no les permiten usarl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se cuenta con el apoyo de las autoridades para ingresar al diplomado en horas de trabaj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Figuras que cambian su función o que se separan del Institu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8440" y="61884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Problemáticas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52080" y="1404720"/>
            <a:ext cx="8496360" cy="54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Seguimiento a participante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Monitoreo permanente de la participación de los estudi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nvío de mensajes por correo electrónico, Watsapp, o por redes sociales para saber la causa del aleja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Realización de llamadas a teléfono fijo o celular o bien por sistemas como Skype y G+, para saber cuál es su situación y acordar plan de recupe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aboración de actividades para que se regularicen los estudiantes que se han atras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9200" y="1425600"/>
            <a:ext cx="889488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Seguimiento a participante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nvío a entidades de informes, semanal o a la mitad del estudio del módulo, sobre estudiantes que se han retrasado en su particip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analización a entidades de solicitudes de apoyo a estudiantes (acceso a plazas comunitarias, clave de acceso a internet, entre otr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lamadas telefónicas a las entidades para solicitar apoyo para localizar a los estudiantes que no han realizado la evaluación del módulo, y apertura, nuevamente, de la evaluación en lín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Equipos de trabajo                      40 min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quipo 1 - 4 Convocato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quipo 2 - 5 Deserción de particip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quipo 3 - 6 Seguimiento a particip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5905440" y="5195880"/>
            <a:ext cx="29527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326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Discusión en equipos                    40 minut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e expondrán las acciones llevadas a cabo en su entidad  con relación al aspecto que les haya toc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Identificarán las acciones exito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ropondrán otras estrategias encaminadas a resolver las problemáticas presentadas para mejorar la oferta de formación a distancia (diplomad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e registrarán y se expondrán las estrateg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48240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Perspectivas 20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52080" y="1172880"/>
            <a:ext cx="8496360" cy="56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Esquema de formación de formadores especializados ajustad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clusión de diplomados a distancia como la primera continu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 propósito es fortalecer la formación de formadores especializ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Impacto de figuras formada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 qué manera podrían impactar las figuras formadas en mejorar la práctica educativa de los asesores y con ello incidir favorablemente en los índices de acreditación de los módul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48240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Perspectivas 20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52080" y="1295280"/>
            <a:ext cx="8496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Impacto de figuras formada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449280" y="1890720"/>
          <a:ext cx="8124840" cy="4643280"/>
        </p:xfrm>
        <a:graphic>
          <a:graphicData uri="http://schemas.openxmlformats.org/drawingml/2006/table">
            <a:tbl>
              <a:tblPr/>
              <a:tblGrid>
                <a:gridCol w="2031840"/>
                <a:gridCol w="2030400"/>
                <a:gridCol w="2030400"/>
                <a:gridCol w="2032200"/>
              </a:tblGrid>
              <a:tr h="9428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ploma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 fundamentales de álge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ploma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jora de Competencias de lectura y escritura –Nivel básico para EP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res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res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ª generación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ª generación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ª generación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ª generación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ª generación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ª generación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ª generación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ª generación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    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 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52080" y="1417680"/>
            <a:ext cx="849636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cuerdos y compromi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trategias que asumirá cada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signar un responsable estatal para cada diplom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82320"/>
            <a:ext cx="82296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Los diplomados a distan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rincipales ventaj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Estado que guardan los diplom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robl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ropuestas y estrategias de solu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erspectivas 20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1320" y="13510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sentació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5 Imagen" descr=""/>
          <p:cNvPicPr/>
          <p:nvPr/>
        </p:nvPicPr>
        <p:blipFill>
          <a:blip r:embed="rId1"/>
          <a:stretch/>
        </p:blipFill>
        <p:spPr>
          <a:xfrm>
            <a:off x="6221520" y="1995480"/>
            <a:ext cx="2458800" cy="1457280"/>
          </a:xfrm>
          <a:prstGeom prst="rect">
            <a:avLst/>
          </a:prstGeom>
          <a:ln w="0">
            <a:noFill/>
          </a:ln>
        </p:spPr>
      </p:pic>
      <p:pic>
        <p:nvPicPr>
          <p:cNvPr id="496" name="Imagen 1" descr=""/>
          <p:cNvPicPr/>
          <p:nvPr/>
        </p:nvPicPr>
        <p:blipFill>
          <a:blip r:embed="rId2"/>
          <a:stretch/>
        </p:blipFill>
        <p:spPr>
          <a:xfrm rot="20691600">
            <a:off x="299880" y="3038400"/>
            <a:ext cx="3191040" cy="1792440"/>
          </a:xfrm>
          <a:prstGeom prst="rect">
            <a:avLst/>
          </a:prstGeom>
          <a:ln w="0">
            <a:noFill/>
          </a:ln>
        </p:spPr>
      </p:pic>
      <p:pic>
        <p:nvPicPr>
          <p:cNvPr id="497" name="Imagen 2" descr=""/>
          <p:cNvPicPr/>
          <p:nvPr/>
        </p:nvPicPr>
        <p:blipFill>
          <a:blip r:embed="rId3"/>
          <a:stretch/>
        </p:blipFill>
        <p:spPr>
          <a:xfrm>
            <a:off x="4335480" y="3852720"/>
            <a:ext cx="426384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57 Grupo"/>
          <p:cNvGrpSpPr/>
          <p:nvPr/>
        </p:nvGrpSpPr>
        <p:grpSpPr>
          <a:xfrm>
            <a:off x="3035160" y="1371600"/>
            <a:ext cx="3024360" cy="5351400"/>
            <a:chOff x="3035160" y="1371600"/>
            <a:chExt cx="3024360" cy="5351400"/>
          </a:xfrm>
        </p:grpSpPr>
        <p:sp>
          <p:nvSpPr>
            <p:cNvPr id="499" name="48 Rectángulo redondeado"/>
            <p:cNvSpPr/>
            <p:nvPr/>
          </p:nvSpPr>
          <p:spPr>
            <a:xfrm>
              <a:off x="3035160" y="1780920"/>
              <a:ext cx="3024360" cy="4942080"/>
            </a:xfrm>
            <a:custGeom>
              <a:avLst/>
              <a:gdLst>
                <a:gd name="textAreaLeft" fmla="*/ 35280 w 3024360"/>
                <a:gd name="textAreaRight" fmla="*/ 2989080 w 3024360"/>
                <a:gd name="textAreaTop" fmla="*/ 35280 h 4942080"/>
                <a:gd name="textAreaBottom" fmla="*/ 4906800 h 4942080"/>
              </a:gdLst>
              <a:ahLst/>
              <a:rect l="textAreaLeft" t="textAreaTop" r="textAreaRight" b="textAreaBottom"/>
              <a:pathLst>
                <a:path w="21600" h="35295">
                  <a:moveTo>
                    <a:pt x="866" y="0"/>
                  </a:moveTo>
                  <a:arcTo wR="866" hR="866" stAng="16200000" swAng="-5400000"/>
                  <a:lnTo>
                    <a:pt x="0" y="34429"/>
                  </a:lnTo>
                  <a:arcTo wR="866" hR="866" stAng="10800000" swAng="-5400000"/>
                  <a:lnTo>
                    <a:pt x="20734" y="35295"/>
                  </a:lnTo>
                  <a:arcTo wR="866" hR="866" stAng="5400000" swAng="-5400000"/>
                  <a:lnTo>
                    <a:pt x="21600" y="866"/>
                  </a:lnTo>
                  <a:arcTo wR="866" hR="866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53 Rectángulo redondeado"/>
            <p:cNvSpPr/>
            <p:nvPr/>
          </p:nvSpPr>
          <p:spPr>
            <a:xfrm>
              <a:off x="3125520" y="1371600"/>
              <a:ext cx="2881800" cy="792000"/>
            </a:xfrm>
            <a:prstGeom prst="roundRect">
              <a:avLst>
                <a:gd name="adj" fmla="val 9958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Mejora de Competencias en lectura y escritura</a:t>
              </a:r>
              <a:br>
                <a:rPr sz="1600"/>
              </a:b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-Nivel básico para EPJA-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1" name="56 Grupo"/>
          <p:cNvGrpSpPr/>
          <p:nvPr/>
        </p:nvGrpSpPr>
        <p:grpSpPr>
          <a:xfrm>
            <a:off x="6095880" y="1371600"/>
            <a:ext cx="3024360" cy="5351400"/>
            <a:chOff x="6095880" y="1371600"/>
            <a:chExt cx="3024360" cy="5351400"/>
          </a:xfrm>
        </p:grpSpPr>
        <p:sp>
          <p:nvSpPr>
            <p:cNvPr id="502" name="1 Rectángulo redondeado"/>
            <p:cNvSpPr/>
            <p:nvPr/>
          </p:nvSpPr>
          <p:spPr>
            <a:xfrm>
              <a:off x="6095880" y="1780920"/>
              <a:ext cx="3024360" cy="4942080"/>
            </a:xfrm>
            <a:custGeom>
              <a:avLst/>
              <a:gdLst>
                <a:gd name="textAreaLeft" fmla="*/ 35280 w 3024360"/>
                <a:gd name="textAreaRight" fmla="*/ 2989080 w 3024360"/>
                <a:gd name="textAreaTop" fmla="*/ 35280 h 4942080"/>
                <a:gd name="textAreaBottom" fmla="*/ 4906800 h 4942080"/>
              </a:gdLst>
              <a:ahLst/>
              <a:rect l="textAreaLeft" t="textAreaTop" r="textAreaRight" b="textAreaBottom"/>
              <a:pathLst>
                <a:path w="21600" h="35295">
                  <a:moveTo>
                    <a:pt x="866" y="0"/>
                  </a:moveTo>
                  <a:arcTo wR="866" hR="866" stAng="16200000" swAng="-5400000"/>
                  <a:lnTo>
                    <a:pt x="0" y="34429"/>
                  </a:lnTo>
                  <a:arcTo wR="866" hR="866" stAng="10800000" swAng="-5400000"/>
                  <a:lnTo>
                    <a:pt x="20734" y="35295"/>
                  </a:lnTo>
                  <a:arcTo wR="866" hR="866" stAng="5400000" swAng="-5400000"/>
                  <a:lnTo>
                    <a:pt x="21600" y="866"/>
                  </a:lnTo>
                  <a:arcTo wR="866" hR="866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54 Rectángulo redondeado"/>
            <p:cNvSpPr/>
            <p:nvPr/>
          </p:nvSpPr>
          <p:spPr>
            <a:xfrm>
              <a:off x="6181560" y="1371600"/>
              <a:ext cx="2881800" cy="792000"/>
            </a:xfrm>
            <a:prstGeom prst="roundRect">
              <a:avLst>
                <a:gd name="adj" fmla="val 9958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Didáctica de las Ciencias Naturales en Educación Básica, para EPJ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55 Grupo"/>
          <p:cNvGrpSpPr/>
          <p:nvPr/>
        </p:nvGrpSpPr>
        <p:grpSpPr>
          <a:xfrm>
            <a:off x="0" y="1371600"/>
            <a:ext cx="3024360" cy="5351400"/>
            <a:chOff x="0" y="1371600"/>
            <a:chExt cx="3024360" cy="5351400"/>
          </a:xfrm>
        </p:grpSpPr>
        <p:sp>
          <p:nvSpPr>
            <p:cNvPr id="505" name="50 Rectángulo redondeado"/>
            <p:cNvSpPr/>
            <p:nvPr/>
          </p:nvSpPr>
          <p:spPr>
            <a:xfrm>
              <a:off x="0" y="1780920"/>
              <a:ext cx="3024360" cy="4942080"/>
            </a:xfrm>
            <a:custGeom>
              <a:avLst/>
              <a:gdLst>
                <a:gd name="textAreaLeft" fmla="*/ 35280 w 3024360"/>
                <a:gd name="textAreaRight" fmla="*/ 2989080 w 3024360"/>
                <a:gd name="textAreaTop" fmla="*/ 35280 h 4942080"/>
                <a:gd name="textAreaBottom" fmla="*/ 4906800 h 4942080"/>
              </a:gdLst>
              <a:ahLst/>
              <a:rect l="textAreaLeft" t="textAreaTop" r="textAreaRight" b="textAreaBottom"/>
              <a:pathLst>
                <a:path w="21600" h="35295">
                  <a:moveTo>
                    <a:pt x="866" y="0"/>
                  </a:moveTo>
                  <a:arcTo wR="866" hR="866" stAng="16200000" swAng="-5400000"/>
                  <a:lnTo>
                    <a:pt x="0" y="34429"/>
                  </a:lnTo>
                  <a:arcTo wR="866" hR="866" stAng="10800000" swAng="-5400000"/>
                  <a:lnTo>
                    <a:pt x="20734" y="35295"/>
                  </a:lnTo>
                  <a:arcTo wR="866" hR="866" stAng="5400000" swAng="-5400000"/>
                  <a:lnTo>
                    <a:pt x="21600" y="866"/>
                  </a:lnTo>
                  <a:arcTo wR="866" hR="866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1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52 Rectángulo redondeado"/>
            <p:cNvSpPr/>
            <p:nvPr/>
          </p:nvSpPr>
          <p:spPr>
            <a:xfrm>
              <a:off x="87120" y="1371600"/>
              <a:ext cx="2881800" cy="792000"/>
            </a:xfrm>
            <a:prstGeom prst="roundRect">
              <a:avLst>
                <a:gd name="adj" fmla="val 9958"/>
              </a:avLst>
            </a:prstGeom>
            <a:gradFill rotWithShape="0">
              <a:gsLst>
                <a:gs pos="0">
                  <a:srgbClr val="ff1515"/>
                </a:gs>
                <a:gs pos="100000">
                  <a:srgbClr val="e1e8f5"/>
                </a:gs>
              </a:gsLst>
              <a:lin ang="16200000"/>
            </a:gradFill>
            <a:ln w="25560">
              <a:solidFill>
                <a:srgbClr val="ff1515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Temas Fundamentales </a:t>
              </a:r>
              <a:br>
                <a:rPr sz="1600"/>
              </a:b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de álgebr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758680" y="898200"/>
            <a:ext cx="3652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e1442"/>
                </a:solidFill>
                <a:latin typeface="Calibri"/>
                <a:ea typeface="Arial"/>
              </a:rPr>
              <a:t>DIPLOM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4 Subtítulo"/>
          <p:cNvSpPr/>
          <p:nvPr/>
        </p:nvSpPr>
        <p:spPr>
          <a:xfrm>
            <a:off x="87480" y="2184480"/>
            <a:ext cx="29368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Calibri"/>
              </a:rPr>
              <a:t>OBJETIVO: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Incidir en la formación de las figuras educativas que colaboran como formadores en el Eje de matemáticas para coadyuvar a la mejora sustantiva del aprendizaje de los contenidos del módulo </a:t>
            </a:r>
            <a:r>
              <a:rPr b="0" i="1" lang="es-MX" sz="1400" spc="-1" strike="noStrike">
                <a:solidFill>
                  <a:srgbClr val="000000"/>
                </a:solidFill>
                <a:latin typeface="Calibri"/>
              </a:rPr>
              <a:t>Operaciones avanzadas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por parte de las personas jóvenes y adulta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4 Subtítulo"/>
          <p:cNvSpPr/>
          <p:nvPr/>
        </p:nvSpPr>
        <p:spPr>
          <a:xfrm>
            <a:off x="3013200" y="2184480"/>
            <a:ext cx="3114720" cy="17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Calibri"/>
              </a:rPr>
              <a:t>OBJETIVO: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Incidir en la formación de las personas que colaboran como formadores especializados, para contribuir al fortalecimiento de su práctica durante la formación de asesores y coadyuvar a la mejora de las competencias comunicativas de lectura y escritura por parte de las personas jóvenes y adult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4 Subtítulo"/>
          <p:cNvSpPr/>
          <p:nvPr/>
        </p:nvSpPr>
        <p:spPr>
          <a:xfrm>
            <a:off x="6095880" y="2184480"/>
            <a:ext cx="302436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Calibri"/>
              </a:rPr>
              <a:t>OBJETIVO: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poyar la formación de figuras educativas interesadas en el estudio de temas relacionados con las ciencias naturales que lleven a la construcción de estrategias didácticas coherentes con un aprendizaje argumentado, para apoyar las asesorías de los módulos del eje de cienci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3 Título"/>
          <p:cNvSpPr/>
          <p:nvPr/>
        </p:nvSpPr>
        <p:spPr>
          <a:xfrm>
            <a:off x="2870280" y="4195800"/>
            <a:ext cx="33033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ESTRUC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4 Subtítulo"/>
          <p:cNvSpPr/>
          <p:nvPr/>
        </p:nvSpPr>
        <p:spPr>
          <a:xfrm>
            <a:off x="210960" y="4576680"/>
            <a:ext cx="2770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Módulo propedéutic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4 módulos académ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Period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Inicio 24 de ab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Concluye 22 de octub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4 Subtítulo"/>
          <p:cNvSpPr/>
          <p:nvPr/>
        </p:nvSpPr>
        <p:spPr>
          <a:xfrm>
            <a:off x="3209760" y="4576680"/>
            <a:ext cx="2770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Módulo propedéutic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5 módulos académ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Period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Inicio 13 de ab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Concluye 13 de noviemb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4 Subtítulo"/>
          <p:cNvSpPr/>
          <p:nvPr/>
        </p:nvSpPr>
        <p:spPr>
          <a:xfrm>
            <a:off x="6245280" y="4576680"/>
            <a:ext cx="2768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Módulo propedéutic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3 módulos académ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Period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Inicio 18 de may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Concluye 13 de diciemb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3 Título"/>
          <p:cNvSpPr/>
          <p:nvPr/>
        </p:nvSpPr>
        <p:spPr>
          <a:xfrm>
            <a:off x="2881440" y="5826240"/>
            <a:ext cx="33811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ACTUALM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58 Grupo"/>
          <p:cNvGrpSpPr/>
          <p:nvPr/>
        </p:nvGrpSpPr>
        <p:grpSpPr>
          <a:xfrm>
            <a:off x="88920" y="6130800"/>
            <a:ext cx="2892240" cy="506520"/>
            <a:chOff x="88920" y="6130800"/>
            <a:chExt cx="2892240" cy="506520"/>
          </a:xfrm>
        </p:grpSpPr>
        <p:sp>
          <p:nvSpPr>
            <p:cNvPr id="517" name="Rectangle 88"/>
            <p:cNvSpPr/>
            <p:nvPr/>
          </p:nvSpPr>
          <p:spPr>
            <a:xfrm>
              <a:off x="88920" y="6554880"/>
              <a:ext cx="2881440" cy="82440"/>
            </a:xfrm>
            <a:prstGeom prst="rect">
              <a:avLst/>
            </a:prstGeom>
            <a:solidFill>
              <a:srgbClr val="ff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4 Subtítulo"/>
            <p:cNvSpPr/>
            <p:nvPr/>
          </p:nvSpPr>
          <p:spPr>
            <a:xfrm>
              <a:off x="210240" y="6130800"/>
              <a:ext cx="27709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entury Gothic"/>
                </a:rPr>
                <a:t>Semana 3, Módulo IV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60 Grupo"/>
          <p:cNvGrpSpPr/>
          <p:nvPr/>
        </p:nvGrpSpPr>
        <p:grpSpPr>
          <a:xfrm>
            <a:off x="6173640" y="6130800"/>
            <a:ext cx="2880000" cy="506520"/>
            <a:chOff x="6173640" y="6130800"/>
            <a:chExt cx="2880000" cy="506520"/>
          </a:xfrm>
        </p:grpSpPr>
        <p:sp>
          <p:nvSpPr>
            <p:cNvPr id="520" name="Rectangle 88"/>
            <p:cNvSpPr/>
            <p:nvPr/>
          </p:nvSpPr>
          <p:spPr>
            <a:xfrm>
              <a:off x="6173640" y="6554880"/>
              <a:ext cx="2880000" cy="82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4 Subtítulo"/>
            <p:cNvSpPr/>
            <p:nvPr/>
          </p:nvSpPr>
          <p:spPr>
            <a:xfrm>
              <a:off x="6244560" y="6130800"/>
              <a:ext cx="27691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entury Gothic"/>
                </a:rPr>
                <a:t>Semana 7, Módulo II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2" name="59 Grupo"/>
          <p:cNvGrpSpPr/>
          <p:nvPr/>
        </p:nvGrpSpPr>
        <p:grpSpPr>
          <a:xfrm>
            <a:off x="3129120" y="6130800"/>
            <a:ext cx="2879640" cy="506520"/>
            <a:chOff x="3129120" y="6130800"/>
            <a:chExt cx="2879640" cy="506520"/>
          </a:xfrm>
        </p:grpSpPr>
        <p:sp>
          <p:nvSpPr>
            <p:cNvPr id="523" name="4 Subtítulo"/>
            <p:cNvSpPr/>
            <p:nvPr/>
          </p:nvSpPr>
          <p:spPr>
            <a:xfrm>
              <a:off x="3209760" y="6130800"/>
              <a:ext cx="27687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10253f"/>
                  </a:solidFill>
                  <a:latin typeface="Calibri"/>
                </a:rPr>
                <a:t>Semana 5, Módulo IV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Rectangle 88"/>
            <p:cNvSpPr/>
            <p:nvPr/>
          </p:nvSpPr>
          <p:spPr>
            <a:xfrm>
              <a:off x="3129120" y="6554880"/>
              <a:ext cx="2879640" cy="8244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2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ómo ope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4 Marcador de contenido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4632480"/>
          </a:xfrm>
          <a:prstGeom prst="rect">
            <a:avLst/>
          </a:prstGeom>
          <a:ln w="0">
            <a:noFill/>
          </a:ln>
        </p:spPr>
      </p:pic>
      <p:pic>
        <p:nvPicPr>
          <p:cNvPr id="527" name="5 Rectángulo" descr=""/>
          <p:cNvPicPr/>
          <p:nvPr/>
        </p:nvPicPr>
        <p:blipFill>
          <a:blip r:embed="rId2"/>
          <a:stretch/>
        </p:blipFill>
        <p:spPr>
          <a:xfrm>
            <a:off x="109440" y="5803920"/>
            <a:ext cx="3627360" cy="925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3"/>
          <a:stretch/>
        </p:blipFill>
        <p:spPr>
          <a:xfrm>
            <a:off x="6886440" y="5694480"/>
            <a:ext cx="20178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22160" y="368280"/>
            <a:ext cx="80503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ómo ope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90080" y="1077480"/>
            <a:ext cx="865836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Coordinador del diplomado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Coordina las acciones de tutores y participant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Mantiene comunicación con la Jefatura del departament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Da formación inicial y continua a tutor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Elabora informes de seguimiento de tutores y participant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Verifica que los tutores cuenten con todo el material necesario (planeaciones didácticas, lecturas básicas y adicionales, formatos de calificaciones y materiales adicionales) para las actividades semanal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Define estrategias para potenciar el trabajo de los tutores y mejorar sus habilidades de tutorí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Realimenta la práctica educativa de los tutor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Coordina y gestiona los recursos para resolver las problemáticas que se van presentan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1440" y="4824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ómo ope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2080" y="1096560"/>
            <a:ext cx="84963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Tutore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ordinan las acciones de aprendizaje de los particip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Mantienen comunicación con Coordinador, con los otros tutores y particip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articipan en sesiones de form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Abren, moderan y realimentan las participaciones en los foros de discu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Revisan y califican t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an seguimiento a las evaluaciones en lín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nvían informes a Coordin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Apoyan en la solución de problemáticas que enfrentan los particip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Favorecen la interacción entre los participantes del gru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41440" y="4824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ómo ope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52080" y="1152360"/>
            <a:ext cx="84963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Calibri"/>
              </a:rPr>
              <a:t>Participante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alizan acciones pedagógicas que les permite aprender los contenidos abordad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articipan en foros didácticos en los que exponen sus conocimientos, investigaciones y dudas y establecen una interacción con sus compañeros y tu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articipan en sesiones de formación focaliza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Mantienen comunicación constante con el tu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alizan sus evaluaciones en lín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nriquecen y consolidan sus aprendizajes a través de su participación en los foros didáctic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Informan sobre dificultades técnicas que enfrent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23:15:00Z</dcterms:created>
  <dc:creator>Ana María López Gurrola</dc:creator>
  <dc:description/>
  <dc:language>en-US</dc:language>
  <cp:lastModifiedBy>Equipo Para Eventos 07</cp:lastModifiedBy>
  <cp:lastPrinted>2015-09-22T19:27:36Z</cp:lastPrinted>
  <dcterms:modified xsi:type="dcterms:W3CDTF">2015-09-25T14:42:45Z</dcterms:modified>
  <cp:revision>686</cp:revision>
  <dc:subject/>
  <dc:title>Presentación de PowerPoint</dc:title>
</cp:coreProperties>
</file>