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A3CA-9000-4970-B1F9-3D3ACD56B66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1688-A316-494D-9D2F-4A3DE6AC6A8C}" type="slidenum">
              <a:rPr b="0" lang="es-MX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CA9-8ED8-4F46-A3B8-AA9D3F42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6FB-42B7-4FC3-9BB8-CCE48AF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635-C842-4B2A-B915-2F615881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2DF-E45A-463B-A261-6ED95C3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03B-EA6F-4B8A-A8EC-3CDBDA9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652-584E-465A-BF22-CB859CD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449-6D5D-4DBF-968F-9017B6FB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17C-21C1-4C77-975D-CCBFCD3F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F2A-F398-48DD-BAD2-AF0E6EF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EA9-9FA4-42D9-80BC-49C4201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D92-284F-4EAC-B21A-C084EC56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1EF-746C-4340-8428-EC1E091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895-2897-46CA-9909-8D15528DF44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1330200" y="2128680"/>
            <a:ext cx="6386760" cy="155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ducación para la Vida y el Traba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36520" y="1731960"/>
            <a:ext cx="572148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1 CuadroTexto"/>
          <p:cNvSpPr/>
          <p:nvPr/>
        </p:nvSpPr>
        <p:spPr>
          <a:xfrm>
            <a:off x="457200" y="1427040"/>
            <a:ext cx="4308480" cy="4816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os  </a:t>
            </a:r>
            <a:r>
              <a:rPr b="0" lang="es-MX" sz="2200" spc="-1" strike="noStrike">
                <a:solidFill>
                  <a:srgbClr val="e46c0a"/>
                </a:solidFill>
                <a:latin typeface="Calibri"/>
              </a:rPr>
              <a:t>módulos básicos 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ubren las necesidades fundamentales de aprendizaje, en torno a los ejes de lengua y comunicación, matemáticas y ciencias, que integra tanto las naturales como las so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os  </a:t>
            </a:r>
            <a:r>
              <a:rPr b="0" lang="es-MX" sz="2200" spc="-1" strike="noStrike">
                <a:solidFill>
                  <a:srgbClr val="e46c0a"/>
                </a:solidFill>
                <a:latin typeface="Calibri"/>
              </a:rPr>
              <a:t>módulos diversificados 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abordan temas específicos para cubrir los intereses y necesidades de los diversos sectores de la población, sin secuencia programad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2 CuadroTexto"/>
          <p:cNvSpPr/>
          <p:nvPr/>
        </p:nvSpPr>
        <p:spPr>
          <a:xfrm>
            <a:off x="5251320" y="1427040"/>
            <a:ext cx="3587760" cy="41173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engua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Matem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ultura ciuda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Jóv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lfabetización tecn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1 Grupo"/>
          <p:cNvGrpSpPr/>
          <p:nvPr/>
        </p:nvGrpSpPr>
        <p:grpSpPr>
          <a:xfrm>
            <a:off x="1295280" y="1682640"/>
            <a:ext cx="7620120" cy="3772080"/>
            <a:chOff x="1295280" y="1682640"/>
            <a:chExt cx="7620120" cy="3772080"/>
          </a:xfrm>
        </p:grpSpPr>
        <p:pic>
          <p:nvPicPr>
            <p:cNvPr id="50" name="Picture 39" descr="Mevyt"/>
            <p:cNvPicPr/>
            <p:nvPr/>
          </p:nvPicPr>
          <p:blipFill>
            <a:blip r:embed="rId1"/>
            <a:stretch/>
          </p:blipFill>
          <p:spPr>
            <a:xfrm>
              <a:off x="1295280" y="1682640"/>
              <a:ext cx="6086520" cy="37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0"/>
            <p:cNvSpPr/>
            <p:nvPr/>
          </p:nvSpPr>
          <p:spPr>
            <a:xfrm>
              <a:off x="4952880" y="1968120"/>
              <a:ext cx="3962520" cy="2895840"/>
            </a:xfrm>
            <a:prstGeom prst="rect">
              <a:avLst/>
            </a:prstGeom>
            <a:solidFill>
              <a:srgbClr val="77933c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ff"/>
                  </a:solidFill>
                  <a:latin typeface="Arial"/>
                </a:rPr>
                <a:t>Model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r>
                <a:rPr b="1" lang="es-ES_tradnl" sz="4400" spc="-1" strike="noStrike">
                  <a:solidFill>
                    <a:srgbClr val="ffffff"/>
                  </a:solidFill>
                  <a:latin typeface="Arial"/>
                </a:rPr>
                <a:t>para la</a:t>
              </a:r>
              <a:r>
                <a:rPr b="1" lang="es-ES_tradnl" sz="4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5000" spc="-1" strike="noStrike">
                  <a:solidFill>
                    <a:srgbClr val="ffffff"/>
                  </a:solidFill>
                  <a:latin typeface="Arial"/>
                </a:rPr>
                <a:t>Vida</a:t>
              </a:r>
              <a:endParaRPr b="0" lang="en-US" sz="5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ffff"/>
                  </a:solidFill>
                  <a:latin typeface="Arial"/>
                </a:rPr>
                <a:t>y el</a:t>
              </a:r>
              <a:r>
                <a:rPr b="1" lang="es-ES_tradnl" sz="4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5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5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2 CuadroTexto"/>
          <p:cNvSpPr/>
          <p:nvPr/>
        </p:nvSpPr>
        <p:spPr>
          <a:xfrm>
            <a:off x="1295280" y="5454720"/>
            <a:ext cx="6615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ICIADO EN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GENERALIZADO DESDE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N DESARROLLO Y ACTUALIZACIÓN CONTIN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Rectángulo"/>
          <p:cNvSpPr/>
          <p:nvPr/>
        </p:nvSpPr>
        <p:spPr>
          <a:xfrm>
            <a:off x="539640" y="1596960"/>
            <a:ext cx="4961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Ofrece a las personas jóvenes y adultas, de 15 años o más, opciones educativas vinculadas con sus necesidades e intereses, orientadas a desarrollar sus competencias para desenvolverse en mejores condiciones en su vida personal, familiar, laboral y soci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Arial"/>
              </a:rPr>
              <a:t>También se atenderá a niños y jóvenes de 10 a 14 años que no hayan iniciado o concluido su educación básica y que se encuentren fuera del sistema regu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 CuadroTexto"/>
          <p:cNvSpPr/>
          <p:nvPr/>
        </p:nvSpPr>
        <p:spPr>
          <a:xfrm>
            <a:off x="3048120" y="55404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46c0a"/>
                </a:solidFill>
                <a:latin typeface="Calibri"/>
              </a:rPr>
              <a:t>El MEVY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Paty\Desktop\primaria.jpg"/>
          <p:cNvPicPr/>
          <p:nvPr/>
        </p:nvPicPr>
        <p:blipFill>
          <a:blip r:embed="rId1"/>
          <a:stretch/>
        </p:blipFill>
        <p:spPr>
          <a:xfrm>
            <a:off x="5500800" y="1596960"/>
            <a:ext cx="3186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539640" y="1371600"/>
            <a:ext cx="84250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Que las personas jóvenes y adulta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econozcan las experiencias y conocimientos que tienen y los integren a su aprendiza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riquezcan sus conocimientos con nuevos elementos que les sean útiles y significativos para su desarroll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ortalezcan sus habilidades básicas de lectura, escritura, cálculo numérico, expresión oral y comprensión del ambiente natural y social que están a su alreded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xpliquen los fenómenos sociales y natura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articipen responsablemente en la vida democrática del paí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ortalezcan las capacidades, actitudes y valores que les permitan mejorar y transformar su vida y la de su comunidad en un marco de legalidad, respeto y responsabilid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3048120" y="480960"/>
            <a:ext cx="34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46c0a"/>
                </a:solidFill>
                <a:latin typeface="Calibri"/>
              </a:rPr>
              <a:t>Propós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2798640" y="37476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46c0a"/>
                </a:solidFill>
                <a:latin typeface="Calibri"/>
              </a:rPr>
              <a:t>Características del MEV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84280"/>
          <a:ext cx="8208720" cy="5040360"/>
        </p:xfrm>
        <a:graphic>
          <a:graphicData uri="http://schemas.openxmlformats.org/drawingml/2006/table">
            <a:tbl>
              <a:tblPr/>
              <a:tblGrid>
                <a:gridCol w="1584360"/>
                <a:gridCol w="6624360"/>
              </a:tblGrid>
              <a:tr h="71424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structura de mod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ódulos: unidades independientes elaboradas en torno a un 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2268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vers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mite su aplicación en diferentes contextos y sectores de pobl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cluye situaciones y actividades de aprendizaje muy variadas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1424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exible y abier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l adulto decide qué módulo estudiar, establece su ritmo y ruta de aprendizaje de acuerdo con sus posi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rarios flexib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48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g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avorece el desarrollo de las personas jóvenes y adultas en los diferentes ámbitos de su vid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412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borda temas de interés de las personas jóvenes y adultas que pertenecen a diferentes poblacio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sidera las necesidades pedagógicas diferenciadas, hablantes de otras lenguas, discapacidad visual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44600"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l modelo se actualiza permanentemente porque se desarrolla, revisa y mejora para que los módulos respondan a las necesidades de la población joven y adul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s posible contar con diversas ediciones de un módulo con la misma validez of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6 Rectángulo"/>
          <p:cNvSpPr/>
          <p:nvPr/>
        </p:nvSpPr>
        <p:spPr>
          <a:xfrm>
            <a:off x="839880" y="1357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7 Rectángulo"/>
          <p:cNvSpPr/>
          <p:nvPr/>
        </p:nvSpPr>
        <p:spPr>
          <a:xfrm>
            <a:off x="4778280" y="1357200"/>
            <a:ext cx="353376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mpetencias Genera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olución de proble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a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articip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9 Rectángulo"/>
          <p:cNvSpPr/>
          <p:nvPr/>
        </p:nvSpPr>
        <p:spPr>
          <a:xfrm>
            <a:off x="206280" y="1357200"/>
            <a:ext cx="4199040" cy="436284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ecesidades básicas de aprendiza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</a:rPr>
              <a:t>Herramientas esenciales para el aprendiza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ectura y escri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álcu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xpresión 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mprensión del ento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</a:rPr>
              <a:t>Contenidos  que permit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sarrollar capac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Vivir y trabajar con dign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omar decisiones fundament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tinuar aprendie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1 CuadroTexto"/>
          <p:cNvSpPr/>
          <p:nvPr/>
        </p:nvSpPr>
        <p:spPr>
          <a:xfrm>
            <a:off x="3270240" y="5824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2 Rectángulo"/>
          <p:cNvSpPr/>
          <p:nvPr/>
        </p:nvSpPr>
        <p:spPr>
          <a:xfrm>
            <a:off x="4778280" y="3117960"/>
            <a:ext cx="353376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Intenciones Educativ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rechos hum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ctitudes y val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sarrollo hum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dentidad y divers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tercultur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isión de futu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5960" y="1336680"/>
            <a:ext cx="3990960" cy="3046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l sujeto educati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concibe como una persona que posee conocimientos, habilidades, experiencias, saberes y valores de los que parte para favorecer la construcción de nuevos conocimien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4794120" y="1336680"/>
            <a:ext cx="4086360" cy="3020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s un proceso de reflexión y reconstrucción en torno a experiencias, conocimientos y situaciones, donde la persona es capaz de actuar en la realidad transformándola y transformándose a sí mis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345960" y="4751280"/>
            <a:ext cx="85345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tratamiento metodológic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utilizado en el MEVyT, parte de un tema generador que sirve para resaltar y hacer pensar activamente al educando sobre la importancia de saber más sobre el tema, así como para aprender sobre el mismo y resolver situaciones problemát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26 Rectángulo"/>
          <p:cNvSpPr/>
          <p:nvPr/>
        </p:nvSpPr>
        <p:spPr>
          <a:xfrm>
            <a:off x="2235600" y="136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89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79646"/>
                </a:solidFill>
                <a:latin typeface="Calibri"/>
              </a:rPr>
              <a:t>Metodología</a:t>
            </a:r>
            <a:r>
              <a:rPr b="0" lang="es-MX" sz="3200" spc="-1" strike="noStrike">
                <a:solidFill>
                  <a:srgbClr val="f7964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Imagen" descr=""/>
          <p:cNvPicPr/>
          <p:nvPr/>
        </p:nvPicPr>
        <p:blipFill>
          <a:blip r:embed="rId1"/>
          <a:stretch/>
        </p:blipFill>
        <p:spPr>
          <a:xfrm>
            <a:off x="984240" y="1125360"/>
            <a:ext cx="732780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luzma\Desktop\Esquema 2013 3.jpg"/>
          <p:cNvPicPr/>
          <p:nvPr/>
        </p:nvPicPr>
        <p:blipFill>
          <a:blip r:embed="rId1"/>
          <a:stretch/>
        </p:blipFill>
        <p:spPr>
          <a:xfrm>
            <a:off x="243000" y="277920"/>
            <a:ext cx="8721720" cy="6222960"/>
          </a:xfrm>
          <a:prstGeom prst="rect">
            <a:avLst/>
          </a:prstGeom>
          <a:ln w="0">
            <a:noFill/>
          </a:ln>
        </p:spPr>
      </p:pic>
      <p:sp>
        <p:nvSpPr>
          <p:cNvPr id="72" name="6 Elipse"/>
          <p:cNvSpPr/>
          <p:nvPr/>
        </p:nvSpPr>
        <p:spPr>
          <a:xfrm rot="18250200">
            <a:off x="5649840" y="2230200"/>
            <a:ext cx="1573200" cy="196056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41:30Z</dcterms:created>
  <dc:creator>ELY</dc:creator>
  <dc:description/>
  <dc:language>en-US</dc:language>
  <cp:lastModifiedBy>DUARTE</cp:lastModifiedBy>
  <dcterms:modified xsi:type="dcterms:W3CDTF">2015-08-29T02:01:59Z</dcterms:modified>
  <cp:revision>4</cp:revision>
  <dc:subject/>
  <dc:title>Presentación de PowerPoint</dc:title>
</cp:coreProperties>
</file>