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74E0-41B5-4ECD-8767-BD8C4417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40E5-7F57-4ABC-B9B8-D4264327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89EA-8C0E-4E62-B2D8-9E1ED628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F499-DFE8-4D60-9CF0-A228F674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8D3D-E7CD-4B0A-A740-78174AC7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B286-F43A-439E-8BFD-93E09F7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0B1-534F-4B51-A246-F16D300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E415-5AD1-466A-BB74-61FC9B3C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4CA5-6EBA-4743-B1B3-67ECDD5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6D2-3284-4C61-996C-EAD4F504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16B3-574B-4AAA-A153-22575F2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4C3F-0E49-4787-9CF6-29F758D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0F4D-7258-410B-8FD7-4292DF9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DCD8-C4B4-4D9A-BFB9-38A4307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4BD4-DD5F-4A7A-8DAF-3AB02CA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583-0443-4631-9654-9D773040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867D-264F-48EA-AEDE-E976C89C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E3D7-43B6-4B33-B323-EC10A32B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0618-A32C-4C6B-A9DC-7E9B2993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C004-BA63-4EA1-9F2D-B144EC2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00D0-7EA6-4C00-A35E-D3208BD5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D22D-2686-4F22-8C5F-CC81B329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4179-23A6-4F58-84DF-68CE967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11BF-467F-4677-9AE1-A280BAE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2B8-4584-42CB-9FBC-9BE8966F238C}" type="slidenum">
              <a:rPr b="0" lang="es-MX" sz="12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7C83-C02D-4EC2-8739-DD8E76FA8D74}" type="slidenum">
              <a:rPr b="0" lang="es-MX" sz="14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 Título" descr=""/>
          <p:cNvPicPr/>
          <p:nvPr/>
        </p:nvPicPr>
        <p:blipFill>
          <a:blip r:embed="rId1"/>
          <a:stretch/>
        </p:blipFill>
        <p:spPr>
          <a:xfrm>
            <a:off x="549360" y="1268280"/>
            <a:ext cx="8613720" cy="5845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5720" y="201240"/>
            <a:ext cx="61894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a79d99"/>
                </a:solidFill>
                <a:latin typeface="Calibri"/>
              </a:rPr>
              <a:t>Nivel avanzado del MIB</a:t>
            </a:r>
            <a:endParaRPr b="0" lang="en-US" sz="40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Título" descr=""/>
          <p:cNvPicPr/>
          <p:nvPr/>
        </p:nvPicPr>
        <p:blipFill>
          <a:blip r:embed="rId1"/>
          <a:stretch/>
        </p:blipFill>
        <p:spPr>
          <a:xfrm>
            <a:off x="1219320" y="5327640"/>
            <a:ext cx="7242120" cy="1481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606320" y="44280"/>
            <a:ext cx="16700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8 básicos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97" name="Picture 29" descr=""/>
          <p:cNvPicPr/>
          <p:nvPr/>
        </p:nvPicPr>
        <p:blipFill>
          <a:blip r:embed="rId2"/>
          <a:stretch/>
        </p:blipFill>
        <p:spPr>
          <a:xfrm>
            <a:off x="3100320" y="571680"/>
            <a:ext cx="1160640" cy="156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"/>
          <p:cNvPicPr/>
          <p:nvPr/>
        </p:nvPicPr>
        <p:blipFill>
          <a:blip r:embed="rId3"/>
          <a:stretch/>
        </p:blipFill>
        <p:spPr>
          <a:xfrm>
            <a:off x="343080" y="549360"/>
            <a:ext cx="1133280" cy="151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4"/>
          <a:stretch/>
        </p:blipFill>
        <p:spPr>
          <a:xfrm>
            <a:off x="1736640" y="620640"/>
            <a:ext cx="1106640" cy="154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"/>
          <p:cNvPicPr/>
          <p:nvPr/>
        </p:nvPicPr>
        <p:blipFill>
          <a:blip r:embed="rId5"/>
          <a:stretch/>
        </p:blipFill>
        <p:spPr>
          <a:xfrm>
            <a:off x="1258920" y="4003560"/>
            <a:ext cx="1227240" cy="163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6"/>
          <a:stretch/>
        </p:blipFill>
        <p:spPr>
          <a:xfrm>
            <a:off x="2843280" y="3994200"/>
            <a:ext cx="1201680" cy="165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"/>
          <p:cNvPicPr/>
          <p:nvPr/>
        </p:nvPicPr>
        <p:blipFill>
          <a:blip r:embed="rId7"/>
          <a:stretch/>
        </p:blipFill>
        <p:spPr>
          <a:xfrm>
            <a:off x="3076560" y="2205000"/>
            <a:ext cx="1208160" cy="169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"/>
          <p:cNvPicPr/>
          <p:nvPr/>
        </p:nvPicPr>
        <p:blipFill>
          <a:blip r:embed="rId8"/>
          <a:stretch/>
        </p:blipFill>
        <p:spPr>
          <a:xfrm>
            <a:off x="1679400" y="2133720"/>
            <a:ext cx="1273320" cy="177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"/>
          <p:cNvPicPr/>
          <p:nvPr/>
        </p:nvPicPr>
        <p:blipFill>
          <a:blip r:embed="rId9"/>
          <a:stretch/>
        </p:blipFill>
        <p:spPr>
          <a:xfrm>
            <a:off x="272880" y="2205000"/>
            <a:ext cx="127332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9"/>
          <p:cNvSpPr/>
          <p:nvPr/>
        </p:nvSpPr>
        <p:spPr>
          <a:xfrm>
            <a:off x="4572000" y="2708280"/>
            <a:ext cx="720720" cy="10843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+</a:t>
            </a:r>
            <a:endParaRPr b="0" lang="en-US" sz="36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6043680" y="2363760"/>
            <a:ext cx="984240" cy="1128600"/>
          </a:xfrm>
          <a:prstGeom prst="cube">
            <a:avLst>
              <a:gd name="adj" fmla="val 749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  <a:ea typeface="Arial"/>
              </a:rPr>
              <a:t>Diversificado</a:t>
            </a: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1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07" name="AutoShape 25"/>
          <p:cNvSpPr/>
          <p:nvPr/>
        </p:nvSpPr>
        <p:spPr>
          <a:xfrm>
            <a:off x="6253200" y="3774960"/>
            <a:ext cx="985680" cy="1128960"/>
          </a:xfrm>
          <a:prstGeom prst="cube">
            <a:avLst>
              <a:gd name="adj" fmla="val 749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  <a:ea typeface="Arial"/>
              </a:rPr>
              <a:t>Diversificado</a:t>
            </a: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1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7267680" y="2876400"/>
            <a:ext cx="985680" cy="1127160"/>
          </a:xfrm>
          <a:prstGeom prst="cube">
            <a:avLst>
              <a:gd name="adj" fmla="val 749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  <a:ea typeface="Arial"/>
              </a:rPr>
              <a:t>Diversificado</a:t>
            </a: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1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7183440" y="1303200"/>
            <a:ext cx="985680" cy="1128960"/>
          </a:xfrm>
          <a:prstGeom prst="cube">
            <a:avLst>
              <a:gd name="adj" fmla="val 749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  <a:ea typeface="Arial"/>
              </a:rPr>
              <a:t>Diversificado</a:t>
            </a:r>
            <a:endParaRPr b="0" lang="en-US" sz="9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1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0" name="20 Marcador de contenido"/>
          <p:cNvSpPr/>
          <p:nvPr/>
        </p:nvSpPr>
        <p:spPr>
          <a:xfrm>
            <a:off x="6043680" y="44280"/>
            <a:ext cx="2560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4 diversificados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523800" y="5261040"/>
            <a:ext cx="7937640" cy="142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César es tu educando, va  a iniciar a estudiar módulos diversificados para concluir el nivel avanzado del MIB. </a:t>
            </a:r>
            <a:r>
              <a:rPr b="0" lang="es-MX" sz="1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tiene que elegir de todos los diversificados cuatro pero no los conoce y te pide ayuda para hacer su elección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Es casado y tiene hijos, es campesino le gusta  participar en tareas comunitarias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675d59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75d59"/>
                </a:solidFill>
                <a:latin typeface="Calibri"/>
              </a:rPr>
              <a:t>¿Qué acciones vas a realizar para apoyar a César en su elección?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675d59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75d59"/>
                </a:solidFill>
                <a:latin typeface="Calibri"/>
              </a:rPr>
              <a:t>¿Qué tareas  le vas a solicitar para que tome  la mejor decisión?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675d59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75d59"/>
                </a:solidFill>
                <a:latin typeface="Calibri"/>
              </a:rPr>
              <a:t>¿Qué módulos le podrías sugerir?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324000" y="5668920"/>
            <a:ext cx="842328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24000" y="338040"/>
          <a:ext cx="8640720" cy="5035680"/>
        </p:xfrm>
        <a:graphic>
          <a:graphicData uri="http://schemas.openxmlformats.org/drawingml/2006/table">
            <a:tbl>
              <a:tblPr/>
              <a:tblGrid>
                <a:gridCol w="2735280"/>
                <a:gridCol w="288720"/>
                <a:gridCol w="2879640"/>
                <a:gridCol w="289080"/>
                <a:gridCol w="2448000"/>
              </a:tblGrid>
              <a:tr h="82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os mexicanos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gernos tarea de todos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a y salud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99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 casa mi empleo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 hogar sin violencia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ribo mi lengua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 padres una experiencia compartida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un mejor ambiente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riquezas de nuestra tierra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ando enfrentamos un delito... la justicia a nuestro alcance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educación de nuestros hijos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enseñar a ser</a:t>
                      </a:r>
                      <a:endParaRPr b="0" lang="en-US" sz="2400" spc="-1" strike="noStrike">
                        <a:solidFill>
                          <a:srgbClr val="4d5b6b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 Título" descr=""/>
          <p:cNvPicPr/>
          <p:nvPr/>
        </p:nvPicPr>
        <p:blipFill>
          <a:blip r:embed="rId1"/>
          <a:stretch/>
        </p:blipFill>
        <p:spPr>
          <a:xfrm>
            <a:off x="1116000" y="5529240"/>
            <a:ext cx="7272360" cy="135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00000" y="837720"/>
            <a:ext cx="77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5d59"/>
                </a:solidFill>
                <a:latin typeface="Calibri"/>
              </a:rPr>
              <a:t>Los módulos básicos MIBES 1, 3 y 5 pueden ser </a:t>
            </a:r>
            <a:r>
              <a:rPr b="0" lang="es-ES" sz="2800" spc="-1" strike="noStrike" u="sng">
                <a:solidFill>
                  <a:srgbClr val="675d59"/>
                </a:solidFill>
                <a:uFillTx/>
                <a:latin typeface="Calibri"/>
              </a:rPr>
              <a:t>diversificados</a:t>
            </a:r>
            <a:r>
              <a:rPr b="0" lang="es-ES" sz="2800" spc="-1" strike="noStrike">
                <a:solidFill>
                  <a:srgbClr val="675d59"/>
                </a:solidFill>
                <a:latin typeface="Calibri"/>
              </a:rPr>
              <a:t> para quienes estén interesados en aprender a leer y escribir la lengua originaria, en paralelo con los estudios del nivel intermedio o avanzado. En este caso el asesor educativo debe ser bilingüe.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306520" y="3343320"/>
            <a:ext cx="5505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Título" descr=""/>
          <p:cNvPicPr/>
          <p:nvPr/>
        </p:nvPicPr>
        <p:blipFill>
          <a:blip r:embed="rId1"/>
          <a:stretch/>
        </p:blipFill>
        <p:spPr>
          <a:xfrm>
            <a:off x="1219320" y="5230800"/>
            <a:ext cx="7437240" cy="1389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Personas que concluyeron en el nivel inicial de la vertiente hispanohablante (HH)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Son bilingües que hablan una lengua indígena, aprendieron a leer y escribir en españo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75d59"/>
                </a:solidFill>
                <a:latin typeface="Calibri"/>
              </a:rPr>
              <a:t>Desean conocer escribir y leer la lengua indígena que habla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3T09:12:06Z</dcterms:created>
  <dc:creator>DUARTE</dc:creator>
  <dc:description/>
  <dc:language>en-US</dc:language>
  <cp:lastModifiedBy>DUARTE</cp:lastModifiedBy>
  <dcterms:modified xsi:type="dcterms:W3CDTF">2015-08-23T12:45:35Z</dcterms:modified>
  <cp:revision>15</cp:revision>
  <dc:subject/>
  <dc:title>Presentación de PowerPoint</dc:title>
</cp:coreProperties>
</file>