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AD55-BC66-4572-8755-F1418832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EF7B-20B9-4843-9F5F-4B3C7A1F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E948-51C9-4474-B9DC-78FB9E8D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5B46-F56D-45D8-B2C8-2B98DE0A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A647-0DE0-48FF-A49F-DA3D902E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9E68-E210-4554-A396-FB74053D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92F0-3ADC-4A4F-B8ED-FABB0D09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AC25-D3C7-40DC-BEC1-FB1C9A9C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4D17-075F-4494-86D4-9B9BB9BF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BBA8-5EB7-422A-B1D8-D2BDE8F6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F95F-98D0-48B6-A7C0-026E42FD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1C08-6B80-4D9E-94EE-3B010E64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DC91-EE83-45D5-A009-BE76F9026A6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PLECAnvaSIN"/>
          <p:cNvPicPr/>
          <p:nvPr/>
        </p:nvPicPr>
        <p:blipFill>
          <a:blip r:embed="rId1"/>
          <a:stretch/>
        </p:blipFill>
        <p:spPr>
          <a:xfrm>
            <a:off x="468360" y="595440"/>
            <a:ext cx="7991280" cy="757080"/>
          </a:xfrm>
          <a:prstGeom prst="rect">
            <a:avLst/>
          </a:prstGeom>
          <a:ln w="0">
            <a:noFill/>
          </a:ln>
        </p:spPr>
      </p:pic>
      <p:sp>
        <p:nvSpPr>
          <p:cNvPr id="42" name="1 CuadroTexto"/>
          <p:cNvSpPr/>
          <p:nvPr/>
        </p:nvSpPr>
        <p:spPr>
          <a:xfrm>
            <a:off x="2843280" y="706320"/>
            <a:ext cx="432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irección Académic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ubdirección de Contenidos Diversificad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partamento de Ejes Diversificad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2 CuadroTexto"/>
          <p:cNvSpPr/>
          <p:nvPr/>
        </p:nvSpPr>
        <p:spPr>
          <a:xfrm>
            <a:off x="4067280" y="46512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éxico, 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70c0"/>
                </a:solidFill>
                <a:latin typeface="Arial"/>
              </a:rPr>
              <a:t>FORMACIÓN DE ASESORES Y ASESORAS DEL NIVEL INTERMEDIO Y AVANZ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PLECAnvaSIN"/>
          <p:cNvPicPr/>
          <p:nvPr/>
        </p:nvPicPr>
        <p:blipFill>
          <a:blip r:embed="rId1"/>
          <a:stretch/>
        </p:blipFill>
        <p:spPr>
          <a:xfrm>
            <a:off x="755640" y="236520"/>
            <a:ext cx="7993080" cy="744480"/>
          </a:xfrm>
          <a:prstGeom prst="rect">
            <a:avLst/>
          </a:prstGeom>
          <a:ln w="0">
            <a:noFill/>
          </a:ln>
        </p:spPr>
      </p:pic>
      <p:sp>
        <p:nvSpPr>
          <p:cNvPr id="46" name="1 CuadroTexto"/>
          <p:cNvSpPr/>
          <p:nvPr/>
        </p:nvSpPr>
        <p:spPr>
          <a:xfrm>
            <a:off x="755640" y="1844640"/>
            <a:ext cx="7488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Tienen asesores/as que atienden el nivel inicial y además los niveles intermedio y avanzado del MIB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Tienen asesores/as que sólo atienden los niveles intermedio y avanzado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Son asesores/as que hablan la lengua indígena y el españo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Leen y escriben la lengua indígena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Los han formado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Qué curso(s) de formación les imparte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Qué contenidos aborda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Cuentan con planeaciones y materiales didáctico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 CuadroTexto"/>
          <p:cNvSpPr/>
          <p:nvPr/>
        </p:nvSpPr>
        <p:spPr>
          <a:xfrm>
            <a:off x="900000" y="11462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b6bcf"/>
                </a:solidFill>
                <a:latin typeface="Arial"/>
              </a:rPr>
              <a:t>Para comentar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70c0"/>
                </a:solidFill>
                <a:latin typeface="Arial"/>
              </a:rPr>
              <a:t>Formación de asesores de nivel intermedio y avanzado del MIB</a:t>
            </a:r>
            <a:r>
              <a:rPr b="0" lang="es-MX" sz="4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onector recto 82"/>
          <p:cNvSpPr/>
          <p:nvPr/>
        </p:nvSpPr>
        <p:spPr>
          <a:xfrm>
            <a:off x="206280" y="2708280"/>
            <a:ext cx="874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uadro de texto 77"/>
          <p:cNvSpPr/>
          <p:nvPr/>
        </p:nvSpPr>
        <p:spPr>
          <a:xfrm>
            <a:off x="247680" y="2827440"/>
            <a:ext cx="1022400" cy="1173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Introducción al contexto del quehacer instituciona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 CuadroTexto"/>
          <p:cNvSpPr/>
          <p:nvPr/>
        </p:nvSpPr>
        <p:spPr>
          <a:xfrm>
            <a:off x="1552680" y="106200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Formación inic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0 CuadroTexto"/>
          <p:cNvSpPr/>
          <p:nvPr/>
        </p:nvSpPr>
        <p:spPr>
          <a:xfrm>
            <a:off x="5365800" y="1063800"/>
            <a:ext cx="28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Formación continu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ángulo 84"/>
          <p:cNvSpPr/>
          <p:nvPr/>
        </p:nvSpPr>
        <p:spPr>
          <a:xfrm>
            <a:off x="289080" y="1622520"/>
            <a:ext cx="961920" cy="758880"/>
          </a:xfrm>
          <a:prstGeom prst="rect">
            <a:avLst/>
          </a:prstGeom>
          <a:noFill/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Inducció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3 a 5 hora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9 Cruz"/>
          <p:cNvSpPr/>
          <p:nvPr/>
        </p:nvSpPr>
        <p:spPr>
          <a:xfrm>
            <a:off x="4740120" y="1824120"/>
            <a:ext cx="284400" cy="318960"/>
          </a:xfrm>
          <a:prstGeom prst="plus">
            <a:avLst>
              <a:gd name="adj" fmla="val 25000"/>
            </a:avLst>
          </a:prstGeom>
          <a:solidFill>
            <a:srgbClr val="ffc000"/>
          </a:solidFill>
          <a:ln w="9360">
            <a:solidFill>
              <a:srgbClr val="92d0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30 CuadroTexto"/>
          <p:cNvSpPr/>
          <p:nvPr/>
        </p:nvSpPr>
        <p:spPr>
          <a:xfrm>
            <a:off x="5246640" y="1628640"/>
            <a:ext cx="1562040" cy="733680"/>
          </a:xfrm>
          <a:prstGeom prst="rect">
            <a:avLst/>
          </a:prstGeom>
          <a:noFill/>
          <a:ln w="1908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Para saber más del MEVyT y del MI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16 hor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8 CuadroTexto"/>
          <p:cNvSpPr/>
          <p:nvPr/>
        </p:nvSpPr>
        <p:spPr>
          <a:xfrm>
            <a:off x="3078000" y="1650960"/>
            <a:ext cx="1617840" cy="792360"/>
          </a:xfrm>
          <a:prstGeom prst="rect">
            <a:avLst/>
          </a:prstGeom>
          <a:noFill/>
          <a:ln w="1908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Para el asesor del MI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24 hor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5 CuadroTexto"/>
          <p:cNvSpPr/>
          <p:nvPr/>
        </p:nvSpPr>
        <p:spPr>
          <a:xfrm>
            <a:off x="7194600" y="1565280"/>
            <a:ext cx="1461960" cy="733320"/>
          </a:xfrm>
          <a:prstGeom prst="rect">
            <a:avLst/>
          </a:prstGeom>
          <a:noFill/>
          <a:ln w="1908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Formación en ej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(24 hora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uadro de texto 81"/>
          <p:cNvSpPr/>
          <p:nvPr/>
        </p:nvSpPr>
        <p:spPr>
          <a:xfrm>
            <a:off x="3029040" y="2809800"/>
            <a:ext cx="1766880" cy="393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69560" indent="-1695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Calibri"/>
              </a:rPr>
              <a:t>Las personas jóvenes y adulta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Calibri"/>
              </a:rPr>
              <a:t>El MEVyT: características, estructura, metodología y vertient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Calibri"/>
              </a:rPr>
              <a:t>Identidad y diversidad cultura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Calibri"/>
              </a:rPr>
              <a:t>El MIB: características, estructura, niveles intermedio y avanzado, etc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Calibri"/>
              </a:rPr>
              <a:t>Diagnóstico y estrategias para  fortalecer la lectura y escritura en españo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Calibri"/>
              </a:rPr>
              <a:t>Orientaciones para el desarrollo de asesorías (módulos del nivel intermedio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Calibri"/>
              </a:rPr>
              <a:t>Preparación  de las asesorías y evaluación del aprendizaj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uadro de texto 79"/>
          <p:cNvSpPr/>
          <p:nvPr/>
        </p:nvSpPr>
        <p:spPr>
          <a:xfrm>
            <a:off x="5141880" y="2827440"/>
            <a:ext cx="1773360" cy="337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l MEVyT: propósitos, competencias e intencionalidades educativas, metodología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Interculturalida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l MIB: ejes y módulos de los niveles intermedio y avanzad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Orientaciones para desarrollo de las asesorías  (módulos del nivel avanzado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Fortalecimiento de la lectura y escritura de la lengua indígen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uadro de texto 80"/>
          <p:cNvSpPr/>
          <p:nvPr/>
        </p:nvSpPr>
        <p:spPr>
          <a:xfrm>
            <a:off x="7188120" y="2827440"/>
            <a:ext cx="1462320" cy="236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Cursos y talleres sobre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Reflexión y análisis de la práctica educativ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jes y módulos básic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jes y módulos diversificad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Fortalecimiento de habilidades pedagógic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uadro de texto 81"/>
          <p:cNvSpPr/>
          <p:nvPr/>
        </p:nvSpPr>
        <p:spPr>
          <a:xfrm>
            <a:off x="1515960" y="1647720"/>
            <a:ext cx="14637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Lectura y escritura de la lengua indígen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12 hora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1332000" y="2827440"/>
            <a:ext cx="1511280" cy="228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Lengua escrita: sus características y us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l alfabeto y características del la lengua indígen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Para mejorar la lectura en lengua indígen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scribir más y mejor en la lengua indígen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ormación de asesores de nivel intermedio y avanzado del MIB</a:t>
            </a: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onector recto 82"/>
          <p:cNvSpPr/>
          <p:nvPr/>
        </p:nvSpPr>
        <p:spPr>
          <a:xfrm>
            <a:off x="206280" y="2708280"/>
            <a:ext cx="874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uadro de texto 77"/>
          <p:cNvSpPr/>
          <p:nvPr/>
        </p:nvSpPr>
        <p:spPr>
          <a:xfrm>
            <a:off x="247680" y="2827440"/>
            <a:ext cx="1022400" cy="1173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Introducción al contexto del quehacer instituciona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 CuadroTexto"/>
          <p:cNvSpPr/>
          <p:nvPr/>
        </p:nvSpPr>
        <p:spPr>
          <a:xfrm>
            <a:off x="1552680" y="106200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Formación inic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20 CuadroTexto"/>
          <p:cNvSpPr/>
          <p:nvPr/>
        </p:nvSpPr>
        <p:spPr>
          <a:xfrm>
            <a:off x="5365800" y="1063800"/>
            <a:ext cx="28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Formación continu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ángulo 84"/>
          <p:cNvSpPr/>
          <p:nvPr/>
        </p:nvSpPr>
        <p:spPr>
          <a:xfrm>
            <a:off x="289080" y="1622520"/>
            <a:ext cx="961920" cy="758880"/>
          </a:xfrm>
          <a:prstGeom prst="rect">
            <a:avLst/>
          </a:prstGeom>
          <a:noFill/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Inducció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3 a 5 hora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19 Cruz"/>
          <p:cNvSpPr/>
          <p:nvPr/>
        </p:nvSpPr>
        <p:spPr>
          <a:xfrm>
            <a:off x="4740120" y="1824120"/>
            <a:ext cx="284400" cy="318960"/>
          </a:xfrm>
          <a:prstGeom prst="plus">
            <a:avLst>
              <a:gd name="adj" fmla="val 25000"/>
            </a:avLst>
          </a:prstGeom>
          <a:solidFill>
            <a:srgbClr val="ffc000"/>
          </a:solidFill>
          <a:ln w="9360">
            <a:solidFill>
              <a:srgbClr val="92d0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30 CuadroTexto"/>
          <p:cNvSpPr/>
          <p:nvPr/>
        </p:nvSpPr>
        <p:spPr>
          <a:xfrm>
            <a:off x="5246640" y="1628640"/>
            <a:ext cx="1562040" cy="733680"/>
          </a:xfrm>
          <a:prstGeom prst="rect">
            <a:avLst/>
          </a:prstGeom>
          <a:noFill/>
          <a:ln w="1908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Para saber más del MEVyT y del MI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16 hor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8 CuadroTexto"/>
          <p:cNvSpPr/>
          <p:nvPr/>
        </p:nvSpPr>
        <p:spPr>
          <a:xfrm>
            <a:off x="3078000" y="1650960"/>
            <a:ext cx="1617840" cy="792360"/>
          </a:xfrm>
          <a:prstGeom prst="rect">
            <a:avLst/>
          </a:prstGeom>
          <a:noFill/>
          <a:ln w="1908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Para el asesor del MI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24 hor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5 CuadroTexto"/>
          <p:cNvSpPr/>
          <p:nvPr/>
        </p:nvSpPr>
        <p:spPr>
          <a:xfrm>
            <a:off x="7194600" y="1565280"/>
            <a:ext cx="1461960" cy="733320"/>
          </a:xfrm>
          <a:prstGeom prst="rect">
            <a:avLst/>
          </a:prstGeom>
          <a:noFill/>
          <a:ln w="19080">
            <a:solidFill>
              <a:srgbClr val="92d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Formación en ej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(24 hora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uadro de texto 81"/>
          <p:cNvSpPr/>
          <p:nvPr/>
        </p:nvSpPr>
        <p:spPr>
          <a:xfrm>
            <a:off x="3029040" y="2809800"/>
            <a:ext cx="1766880" cy="393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69560" indent="-1695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Calibri"/>
              </a:rPr>
              <a:t>Las personas jóvenes y adulta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Calibri"/>
              </a:rPr>
              <a:t>El MEVyT: características, estructura, metodología y vertient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Calibri"/>
              </a:rPr>
              <a:t>Identidad y diversidad cultura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Calibri"/>
              </a:rPr>
              <a:t>El MIB: características, estructura, niveles intermedio y avanzado, etc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Calibri"/>
              </a:rPr>
              <a:t>Diagnóstico y estrategias para  fortalecer la lectura y escritura en españo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Calibri"/>
              </a:rPr>
              <a:t>Orientaciones para el desarrollo de asesorías (módulos del nivel intermedio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Calibri"/>
              </a:rPr>
              <a:t>Preparación  de las asesorías y evaluación del aprendizaj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uadro de texto 79"/>
          <p:cNvSpPr/>
          <p:nvPr/>
        </p:nvSpPr>
        <p:spPr>
          <a:xfrm>
            <a:off x="5141880" y="2827440"/>
            <a:ext cx="1773360" cy="337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l MEVyT: propósitos, competencias e intencionalidades educativas, metodología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Interculturalida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l MIB: ejes y módulos de los niveles intermedio y avanzad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Orientaciones para desarrollo de las asesorías  (módulos del nivel avanzado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Fortalecimiento de la lectura y escritura de la lengua indígen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uadro de texto 80"/>
          <p:cNvSpPr/>
          <p:nvPr/>
        </p:nvSpPr>
        <p:spPr>
          <a:xfrm>
            <a:off x="7188120" y="2827440"/>
            <a:ext cx="1462320" cy="175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Cursos y talleres sobre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jes y módulos básic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jes y módulos diversificad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Fortalecimiento de habilidades pedagógic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uadro de texto 81"/>
          <p:cNvSpPr/>
          <p:nvPr/>
        </p:nvSpPr>
        <p:spPr>
          <a:xfrm>
            <a:off x="1515960" y="1647720"/>
            <a:ext cx="14637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Lectura y escritura de la lengua indígen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12 hora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1482840" y="2827440"/>
            <a:ext cx="1360440" cy="264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Lengua escrita: sus características y us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l alfabeto y características del la lengua indígen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Para mejorar la lectura en lengua indígen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scribir más y mejor en la lengua indígen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PLECAnvaSIN"/>
          <p:cNvPicPr/>
          <p:nvPr/>
        </p:nvPicPr>
        <p:blipFill>
          <a:blip r:embed="rId1"/>
          <a:stretch/>
        </p:blipFill>
        <p:spPr>
          <a:xfrm>
            <a:off x="623880" y="223920"/>
            <a:ext cx="7993080" cy="745920"/>
          </a:xfrm>
          <a:prstGeom prst="rect">
            <a:avLst/>
          </a:prstGeom>
          <a:ln w="0">
            <a:noFill/>
          </a:ln>
        </p:spPr>
      </p:pic>
      <p:sp>
        <p:nvSpPr>
          <p:cNvPr id="79" name="1 CuadroTexto"/>
          <p:cNvSpPr/>
          <p:nvPr/>
        </p:nvSpPr>
        <p:spPr>
          <a:xfrm>
            <a:off x="468360" y="996840"/>
            <a:ext cx="783576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os asesores que atienden los niveles intermedio y avanzado del MI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on bilingü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een y escriben su lengua indígena, para continuar apoyando a las personas en la lectura y escritura de la lengua indígen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ticiparán en el curso de 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Lectura y escritura de la lengua indígen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si no lo han tomado o si necesitan fortalecer sus competenci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cibirán el curso 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Para ser asesor del MIB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para poder atender estos niveles educativo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ticiparán en el curso 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Para saber más del MEVyT y del MIB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como parte de su formación continu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cibirán cursos y talleres de los ejes de Matemáticas, Lengua y comunicación o habilidades pedagógicas, de acuerdo con sus necesidades y con apoyo de los formadores especializados de la coordinación de zona. También es conveniente que participen en cursos y talleres relacionados con los ejes de ciencias y los ejes diversificados (talleres de actualización académic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 CuadroTexto"/>
          <p:cNvSpPr/>
          <p:nvPr/>
        </p:nvSpPr>
        <p:spPr>
          <a:xfrm>
            <a:off x="1843200" y="2455920"/>
            <a:ext cx="53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70c0"/>
                </a:solidFill>
                <a:latin typeface="Arial"/>
              </a:rPr>
              <a:t>Revisión de los cursos para asesores del nivel intermedio y avanzado del MI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5T16:57:07Z</dcterms:created>
  <dc:creator>Mramirez</dc:creator>
  <dc:description/>
  <dc:language>en-US</dc:language>
  <cp:lastModifiedBy>PPerez</cp:lastModifiedBy>
  <cp:lastPrinted>2015-09-22T16:52:28Z</cp:lastPrinted>
  <dcterms:modified xsi:type="dcterms:W3CDTF">2015-09-22T17:10:49Z</dcterms:modified>
  <cp:revision>210</cp:revision>
  <dc:subject/>
  <dc:title>Formación para Asesores/Alfabetizadores MIB</dc:title>
</cp:coreProperties>
</file>