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D995-F62F-403A-81E4-8AE33E2B50D1}" type="slidenum">
              <a:rPr b="1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1F7-F65B-4228-93C3-B23925427E4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50B1-1599-4143-91C5-2B1495B77AF9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222-99FD-4DC7-9228-A06112B5CD9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B38-DCF1-42FA-A2AE-9C2AFDB7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DF4-615B-4578-A776-B75E5858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49C-6FFD-4F7F-A61F-69D07F2D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FB4-09E0-4B9F-AC65-EEE6FFFD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E69-AE51-4435-AB7B-1A192500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545-4E5D-4967-9528-B04291CF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648-BA62-42C5-880B-D1DE1AA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AE9-AEE6-48D5-9304-C135DA8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F08-2154-4964-9ACF-3480627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AE9-52FD-4E91-BB97-F9DFECD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EC2-FE22-46D7-9A35-2004590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3C8-2663-4FB4-8759-B902B70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9FC-0B0A-4DD2-9B9D-E7FCD6C187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270792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ESQUEMAS DE FORMACIÓN DE FIGURAS DEL 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PLECAnvaSIN"/>
          <p:cNvPicPr/>
          <p:nvPr/>
        </p:nvPicPr>
        <p:blipFill>
          <a:blip r:embed="rId1"/>
          <a:stretch/>
        </p:blipFill>
        <p:spPr>
          <a:xfrm>
            <a:off x="611280" y="596880"/>
            <a:ext cx="799308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1 CuadroTexto"/>
          <p:cNvSpPr/>
          <p:nvPr/>
        </p:nvSpPr>
        <p:spPr>
          <a:xfrm>
            <a:off x="2124000" y="1413000"/>
            <a:ext cx="46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ción Académi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ubdirección de forma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partamento Eje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4140360" y="50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quema de Formación para Asesores/Alfabetizadores 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Grupo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66360" cy="3249720"/>
          </a:xfrm>
          <a:prstGeom prst="rect">
            <a:avLst/>
          </a:prstGeom>
          <a:ln w="0">
            <a:noFill/>
          </a:ln>
        </p:spPr>
      </p:pic>
      <p:sp>
        <p:nvSpPr>
          <p:cNvPr id="56" name="16 CuadroTexto"/>
          <p:cNvSpPr/>
          <p:nvPr/>
        </p:nvSpPr>
        <p:spPr>
          <a:xfrm>
            <a:off x="1835280" y="5445000"/>
            <a:ext cx="6454800" cy="36036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compañamiento permanen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2276640" y="40464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Formación para alfabetizadores y asesores bilingü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752400" y="1338120"/>
            <a:ext cx="1524240" cy="1136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RMA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IC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6 horas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448000" y="1338120"/>
            <a:ext cx="1439640" cy="1136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ECTURA Y ESCRITURA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 LA LENGUA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INDÍGEN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1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213080" y="1338120"/>
            <a:ext cx="1368720" cy="1082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MEJORA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PRÁCTICA I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5796000" y="1311120"/>
            <a:ext cx="1368360" cy="1136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MEJORA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A PRÁCTICA  I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79280" y="1798560"/>
            <a:ext cx="432000" cy="45237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484360" y="2660760"/>
            <a:ext cx="1403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Lengua escrita: sus características y us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l alfabeto y las características de la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ara mejorar la lectura en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scribir más y mejor en la lengua indíge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727200" y="2660760"/>
            <a:ext cx="1549440" cy="348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Situación del analfabetismo  y compromiso del alfabetizad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Características y motivación  de las PJ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l MIB: características, estructura, nivel inicial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Concepto  y valor de la alfabetizació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romoción y aplicación de la entrevista inici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Metodología de la alfabetización en lengua mater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Metodología del aprendizaje del  español como segunda lengu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Planeación  de las asesorías  y  evaluación del aprendizaj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5796000" y="2698920"/>
            <a:ext cx="1440000" cy="269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Recuperación de la práctic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La lectura y la escritura en una segunda lengu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MIBES 4: los materiales y su uso, la metodología para el trabajo con el módul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vocabulario del MIBES 4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2484360" y="4381560"/>
            <a:ext cx="1441440" cy="4046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HABLO Y ESCRIBO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ESPAÑOL </a:t>
            </a:r>
            <a:r>
              <a:rPr b="1" lang="es-MX" sz="900" spc="-1" strike="noStrike">
                <a:solidFill>
                  <a:srgbClr val="000000"/>
                </a:solidFill>
                <a:latin typeface="Calibri"/>
              </a:rPr>
              <a:t>(opcional)</a:t>
            </a: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2 hor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2452680" y="4883040"/>
            <a:ext cx="1514520" cy="147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Aprendizaje del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xpresión y comprensión oral en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strategias para la lectura y escritura de textos en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4213080" y="2670120"/>
            <a:ext cx="1366920" cy="353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Recuperación de mi práctica alfabetizador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Importancia de la escritura en lengua indíge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Bases para la lectura y escritura en lengua indígena:  El trabajo con el MIBES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Tratamiento de  variantes dialect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Fortalecimiento  del trabajo con MIBES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7377120" y="2703600"/>
            <a:ext cx="1441440" cy="307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1" lang="es-MX" sz="1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La alfabetización y su vinculación con la vida de las person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MIBES 3:  los materiales y su uso, los momentos metodológicos para el trabajo con el módulo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El trabajo con el MIBES 5: materiales y su uso, momentos metodológicos para el  trabajo con el módul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reparación de las asesorí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454880" y="1300320"/>
            <a:ext cx="1368360" cy="11365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CONCLUIR E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NIVEL INIC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12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9"/>
          <p:cNvSpPr/>
          <p:nvPr/>
        </p:nvSpPr>
        <p:spPr>
          <a:xfrm>
            <a:off x="5796000" y="32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0" y="6543720"/>
            <a:ext cx="914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rmación de asesores de nivel intermedio y avanzado del MIB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82"/>
          <p:cNvSpPr/>
          <p:nvPr/>
        </p:nvSpPr>
        <p:spPr>
          <a:xfrm>
            <a:off x="206280" y="2708280"/>
            <a:ext cx="874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adro de texto 77"/>
          <p:cNvSpPr/>
          <p:nvPr/>
        </p:nvSpPr>
        <p:spPr>
          <a:xfrm>
            <a:off x="247680" y="2827440"/>
            <a:ext cx="102240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al contexto del quehacer institucion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CuadroTexto"/>
          <p:cNvSpPr/>
          <p:nvPr/>
        </p:nvSpPr>
        <p:spPr>
          <a:xfrm>
            <a:off x="1552680" y="1062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ini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0 CuadroTexto"/>
          <p:cNvSpPr/>
          <p:nvPr/>
        </p:nvSpPr>
        <p:spPr>
          <a:xfrm>
            <a:off x="5365800" y="10638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contin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ángulo 84"/>
          <p:cNvSpPr/>
          <p:nvPr/>
        </p:nvSpPr>
        <p:spPr>
          <a:xfrm>
            <a:off x="289080" y="1622520"/>
            <a:ext cx="961920" cy="758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duc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3 a 5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9 Cruz"/>
          <p:cNvSpPr/>
          <p:nvPr/>
        </p:nvSpPr>
        <p:spPr>
          <a:xfrm>
            <a:off x="4740120" y="1824120"/>
            <a:ext cx="284400" cy="31896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0 CuadroTexto"/>
          <p:cNvSpPr/>
          <p:nvPr/>
        </p:nvSpPr>
        <p:spPr>
          <a:xfrm>
            <a:off x="5246640" y="1628640"/>
            <a:ext cx="1562040" cy="7336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saber más del MEVyT y del M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6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8 CuadroTexto"/>
          <p:cNvSpPr/>
          <p:nvPr/>
        </p:nvSpPr>
        <p:spPr>
          <a:xfrm>
            <a:off x="3078000" y="1650960"/>
            <a:ext cx="1617840" cy="79236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el asesor del M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4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5 CuadroTexto"/>
          <p:cNvSpPr/>
          <p:nvPr/>
        </p:nvSpPr>
        <p:spPr>
          <a:xfrm>
            <a:off x="7194600" y="1565280"/>
            <a:ext cx="1461960" cy="7333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rmación en ej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(24 hora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 de texto 81"/>
          <p:cNvSpPr/>
          <p:nvPr/>
        </p:nvSpPr>
        <p:spPr>
          <a:xfrm>
            <a:off x="3029040" y="2809800"/>
            <a:ext cx="1766880" cy="39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Las personas jóvenes y adulta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l MEVyT: características, estructura, metodología y vertien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Identidad y diversidad cultur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l MIB: características, estructura, niveles intermedio y avanzado, etc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Diagnóstico y estrategias para  fortalecer la lectura y escritura en españ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Orientaciones para el desarrollo de asesorías (módulos del nivel intermedio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Preparación  de las asesorías y evaluación del aprendizaj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adro de texto 79"/>
          <p:cNvSpPr/>
          <p:nvPr/>
        </p:nvSpPr>
        <p:spPr>
          <a:xfrm>
            <a:off x="5141880" y="2827440"/>
            <a:ext cx="1773360" cy="337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MEVyT: propósitos, competencias e intencionalidades educativas, metodologí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ercultural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MIB: ejes y módulos de los niveles intermedio y avanzad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rientaciones para desarrollo de las asesorías  (módulos del nivel avanzado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talecimiento de la lectura y escritura de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 de texto 80"/>
          <p:cNvSpPr/>
          <p:nvPr/>
        </p:nvSpPr>
        <p:spPr>
          <a:xfrm>
            <a:off x="7188120" y="2827440"/>
            <a:ext cx="1462320" cy="23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Cursos y talleres sobre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Reflexión y análisis de la práctica educati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jes y módulos básic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jes y módulo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talecimiento de habilidades pedagógic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adro de texto 81"/>
          <p:cNvSpPr/>
          <p:nvPr/>
        </p:nvSpPr>
        <p:spPr>
          <a:xfrm>
            <a:off x="1515960" y="1647720"/>
            <a:ext cx="14637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Lectura y escritura de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12 hor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1482840" y="2827440"/>
            <a:ext cx="1360440" cy="264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engua escrita: sus características y us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alfabeto y características del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ara mejorar la lectura en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cribir más y mejor en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 Grupo" descr=""/>
          <p:cNvPicPr/>
          <p:nvPr/>
        </p:nvPicPr>
        <p:blipFill>
          <a:blip r:embed="rId1"/>
          <a:stretch/>
        </p:blipFill>
        <p:spPr>
          <a:xfrm>
            <a:off x="171360" y="1231920"/>
            <a:ext cx="8624880" cy="1303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1519560" y="395640"/>
            <a:ext cx="598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ción de Enlaces educativos bilingü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ector recto 82"/>
          <p:cNvSpPr/>
          <p:nvPr/>
        </p:nvSpPr>
        <p:spPr>
          <a:xfrm>
            <a:off x="201600" y="2708280"/>
            <a:ext cx="874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uadro de texto 18"/>
          <p:cNvSpPr/>
          <p:nvPr/>
        </p:nvSpPr>
        <p:spPr>
          <a:xfrm>
            <a:off x="179280" y="2925720"/>
            <a:ext cx="847800" cy="92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Introducción al contexto del quehacer instituciona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 de texto 21"/>
          <p:cNvSpPr/>
          <p:nvPr/>
        </p:nvSpPr>
        <p:spPr>
          <a:xfrm>
            <a:off x="4514760" y="2906640"/>
            <a:ext cx="1260720" cy="282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612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Recuperación de la práctica educativ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Bases para la lectura y escritura en lengua indígena:  fortalecimiento del trabajo con el MIBES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Tratamiento de  variantes dialect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Fortalecimiento  del trabajo con MIBES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Preparación de la asesorí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 de texto 20"/>
          <p:cNvSpPr/>
          <p:nvPr/>
        </p:nvSpPr>
        <p:spPr>
          <a:xfrm>
            <a:off x="5892840" y="2906640"/>
            <a:ext cx="1440000" cy="282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Recuperación de la práctica educativ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La importancia del español escrit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Fortalecer el trabajo con el módulo MIBES 4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Para enseñar a leer en la segunda lengu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Orientaciones para el trabajo con  el vocabulario básico del MIBES 4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Estrategias para el fortalecimiento del españ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Planeación didáctic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 de texto 19"/>
          <p:cNvSpPr/>
          <p:nvPr/>
        </p:nvSpPr>
        <p:spPr>
          <a:xfrm>
            <a:off x="7416720" y="2906640"/>
            <a:ext cx="1478160" cy="282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Recuperación de la práctica educativ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Materiales del MIBES 3 y su interrelació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La enseñanza de los momentos de trabajo del MIBES 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Materiales del MIBES 5 y su interrelació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La enseñanza de los momentos de trabajo del MIBES 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El trabajo bilingüe en el módulo y</a:t>
            </a: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 la e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elaboración de actividades de aprendizaj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Planeación didáctic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uadro de texto 16"/>
          <p:cNvSpPr/>
          <p:nvPr/>
        </p:nvSpPr>
        <p:spPr>
          <a:xfrm>
            <a:off x="1116000" y="2930400"/>
            <a:ext cx="1752480" cy="316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Marco de la Campaña de alfabetizació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Situación del analfabetism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Las personas jóvenes y adulta y su motivació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El  MIB y el nivel inicia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Concepto y valor de la alfabetizació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La Entrevista inicia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Metodología de lengua mater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Metodología de 2ª lengu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Preparación de las asesoría, evaluación del aprendizaje y el SAAE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Tareas del Enla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Formación y acompañamiento de alfabetizador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 de texto 17"/>
          <p:cNvSpPr/>
          <p:nvPr/>
        </p:nvSpPr>
        <p:spPr>
          <a:xfrm>
            <a:off x="3040200" y="2943360"/>
            <a:ext cx="1355760" cy="278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Para mejorar la lectura en mi lengu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Cómo favorecer la enseñanza de la comprensión lector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Redacción de textos corto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Enseñanza de la redacción y corrección de texto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libri"/>
              </a:rPr>
              <a:t>Reflexión sobre la lengu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9 Cruz"/>
          <p:cNvSpPr/>
          <p:nvPr/>
        </p:nvSpPr>
        <p:spPr>
          <a:xfrm>
            <a:off x="4475160" y="1752480"/>
            <a:ext cx="193680" cy="249480"/>
          </a:xfrm>
          <a:prstGeom prst="plus">
            <a:avLst>
              <a:gd name="adj" fmla="val 25000"/>
            </a:avLst>
          </a:prstGeom>
          <a:solidFill>
            <a:srgbClr val="c00000"/>
          </a:solidFill>
          <a:ln w="93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 Grupo" descr=""/>
          <p:cNvPicPr/>
          <p:nvPr/>
        </p:nvPicPr>
        <p:blipFill>
          <a:blip r:embed="rId1"/>
          <a:stretch/>
        </p:blipFill>
        <p:spPr>
          <a:xfrm>
            <a:off x="189000" y="1116000"/>
            <a:ext cx="8437320" cy="1925640"/>
          </a:xfrm>
          <a:prstGeom prst="rect">
            <a:avLst/>
          </a:prstGeom>
          <a:ln w="0">
            <a:noFill/>
          </a:ln>
        </p:spPr>
      </p:pic>
      <p:sp>
        <p:nvSpPr>
          <p:cNvPr id="100" name="Conector recto 82"/>
          <p:cNvSpPr/>
          <p:nvPr/>
        </p:nvSpPr>
        <p:spPr>
          <a:xfrm>
            <a:off x="324000" y="3141720"/>
            <a:ext cx="874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8 Grupo"/>
          <p:cNvGrpSpPr/>
          <p:nvPr/>
        </p:nvGrpSpPr>
        <p:grpSpPr>
          <a:xfrm>
            <a:off x="324000" y="3284640"/>
            <a:ext cx="8283600" cy="2881080"/>
            <a:chOff x="324000" y="3284640"/>
            <a:chExt cx="8283600" cy="2881080"/>
          </a:xfrm>
        </p:grpSpPr>
        <p:sp>
          <p:nvSpPr>
            <p:cNvPr id="102" name="Cuadro de texto 62"/>
            <p:cNvSpPr/>
            <p:nvPr/>
          </p:nvSpPr>
          <p:spPr>
            <a:xfrm>
              <a:off x="1438200" y="3284640"/>
              <a:ext cx="1557720" cy="24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Características de las personas jóvenes y adulta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l MEVyT: características,  estructura y metodología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Identidad Cultur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l MIB: características, estructura, nivel inici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Análisis de los Módulos del MIB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strategias pedagógicas básica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Cuadro de texto 60"/>
            <p:cNvSpPr/>
            <p:nvPr/>
          </p:nvSpPr>
          <p:spPr>
            <a:xfrm>
              <a:off x="3077280" y="3284640"/>
              <a:ext cx="1542600" cy="2881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ducación indígen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l MEVyT Indígena Bilingü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La formación de figuras del MIB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Promoción y aplicación de la entrevista inici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Formación inicial para alfabetizador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Lectura y escritura en la lengua indígena: El trabajo con MIBES 1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Para mejorar la Práctica 1:  El trabajo con el MIBES  2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Acompañamiento pedagógic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Cuadro de texto 61"/>
            <p:cNvSpPr/>
            <p:nvPr/>
          </p:nvSpPr>
          <p:spPr>
            <a:xfrm>
              <a:off x="4547520" y="3356280"/>
              <a:ext cx="1026360" cy="147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74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Calibri"/>
                </a:rPr>
                <a:t>Desarrollo de competencias para la lectura y escritura en lengua indígen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Cuadro de texto 59"/>
            <p:cNvSpPr/>
            <p:nvPr/>
          </p:nvSpPr>
          <p:spPr>
            <a:xfrm>
              <a:off x="5651640" y="3284640"/>
              <a:ext cx="1376280" cy="2593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Recuperación de la práctica educativ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Para mejora la práctica II (MIBES 4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Para concluir el nivel inici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l trabajo con el MIBES 3, materiales  y el proceso metodológic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El trabajo con el MIBES 5: materiales, y el proceso metodológic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Cuadro de texto 58"/>
            <p:cNvSpPr/>
            <p:nvPr/>
          </p:nvSpPr>
          <p:spPr>
            <a:xfrm>
              <a:off x="7134120" y="3284640"/>
              <a:ext cx="1473480" cy="2304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Recuperación de la práctica educativ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Para  el asesor del MIB de los  niveles intermedio y avanzad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0000"/>
                  </a:solidFill>
                  <a:latin typeface="Calibri"/>
                </a:rPr>
                <a:t>Para saber más del MEVyT y del MIB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0000"/>
                  </a:solidFill>
                  <a:latin typeface="Calibri"/>
                </a:rPr>
                <a:t>Formación en ejes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Calibri"/>
                </a:rPr>
                <a:t>Nuestra práctica como formador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Cuadro de texto 56"/>
            <p:cNvSpPr/>
            <p:nvPr/>
          </p:nvSpPr>
          <p:spPr>
            <a:xfrm>
              <a:off x="324000" y="3357360"/>
              <a:ext cx="1014480" cy="82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Introducción al contexto del quehacer institucional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19 Cruz"/>
          <p:cNvSpPr/>
          <p:nvPr/>
        </p:nvSpPr>
        <p:spPr>
          <a:xfrm>
            <a:off x="4933800" y="1308240"/>
            <a:ext cx="284400" cy="31896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7 Rectángulo"/>
          <p:cNvSpPr/>
          <p:nvPr/>
        </p:nvSpPr>
        <p:spPr>
          <a:xfrm>
            <a:off x="539640" y="3348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ción de Formadores especializados de Educación Indíge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CuadroTexto"/>
          <p:cNvSpPr/>
          <p:nvPr/>
        </p:nvSpPr>
        <p:spPr>
          <a:xfrm>
            <a:off x="2068560" y="7286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ini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CuadroTexto"/>
          <p:cNvSpPr/>
          <p:nvPr/>
        </p:nvSpPr>
        <p:spPr>
          <a:xfrm>
            <a:off x="5796000" y="6969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contin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3 Grupo" descr=""/>
          <p:cNvPicPr/>
          <p:nvPr/>
        </p:nvPicPr>
        <p:blipFill>
          <a:blip r:embed="rId1"/>
          <a:stretch/>
        </p:blipFill>
        <p:spPr>
          <a:xfrm>
            <a:off x="828720" y="1225440"/>
            <a:ext cx="7205760" cy="11397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1528200" y="551160"/>
            <a:ext cx="51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 docente y Enlaces regionales del M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9 Rectángulo"/>
          <p:cNvSpPr/>
          <p:nvPr/>
        </p:nvSpPr>
        <p:spPr>
          <a:xfrm>
            <a:off x="826920" y="2852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ormación de Coordinadores de zona (HH y MIB) y Coordinadores microrregionales indígen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Grupo" descr=""/>
          <p:cNvPicPr/>
          <p:nvPr/>
        </p:nvPicPr>
        <p:blipFill>
          <a:blip r:embed="rId2"/>
          <a:stretch/>
        </p:blipFill>
        <p:spPr>
          <a:xfrm>
            <a:off x="828720" y="3876840"/>
            <a:ext cx="74930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 Grupo" descr=""/>
          <p:cNvPicPr/>
          <p:nvPr/>
        </p:nvPicPr>
        <p:blipFill>
          <a:blip r:embed="rId1"/>
          <a:stretch/>
        </p:blipFill>
        <p:spPr>
          <a:xfrm>
            <a:off x="1122480" y="6894360"/>
            <a:ext cx="4046400" cy="1920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1645200" y="508320"/>
            <a:ext cx="54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le de la oficina de formación y seguimient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447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21 Grupo"/>
          <p:cNvGrpSpPr/>
          <p:nvPr/>
        </p:nvGrpSpPr>
        <p:grpSpPr>
          <a:xfrm>
            <a:off x="406440" y="1125360"/>
            <a:ext cx="7910640" cy="2087640"/>
            <a:chOff x="406440" y="1125360"/>
            <a:chExt cx="7910640" cy="2087640"/>
          </a:xfrm>
        </p:grpSpPr>
        <p:sp>
          <p:nvSpPr>
            <p:cNvPr id="121" name="Rectángulo 26"/>
            <p:cNvSpPr/>
            <p:nvPr/>
          </p:nvSpPr>
          <p:spPr>
            <a:xfrm>
              <a:off x="406440" y="1195200"/>
              <a:ext cx="1068480" cy="9687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ducció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3 horas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ángulo 27"/>
            <p:cNvSpPr/>
            <p:nvPr/>
          </p:nvSpPr>
          <p:spPr>
            <a:xfrm>
              <a:off x="1549440" y="1154160"/>
              <a:ext cx="1562040" cy="10234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inicia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ara formadores de educación indígen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ángulo 23"/>
            <p:cNvSpPr/>
            <p:nvPr/>
          </p:nvSpPr>
          <p:spPr>
            <a:xfrm>
              <a:off x="3646080" y="1154160"/>
              <a:ext cx="2125800" cy="11581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laneación, gestión y seguimiento de los servicios educativos y la formación  en el MEAP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12 horas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9"/>
            <p:cNvSpPr/>
            <p:nvPr/>
          </p:nvSpPr>
          <p:spPr>
            <a:xfrm>
              <a:off x="6141600" y="1125360"/>
              <a:ext cx="1942200" cy="10641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especializada 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ángulo 25"/>
            <p:cNvSpPr/>
            <p:nvPr/>
          </p:nvSpPr>
          <p:spPr>
            <a:xfrm>
              <a:off x="4085640" y="2199960"/>
              <a:ext cx="2055960" cy="10130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Balance y mejora de los servicios educativos y de la formació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12 horas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 Más"/>
            <p:cNvSpPr/>
            <p:nvPr/>
          </p:nvSpPr>
          <p:spPr>
            <a:xfrm>
              <a:off x="3111480" y="1340280"/>
              <a:ext cx="536400" cy="53208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377462" h="494355">
                  <a:moveTo>
                    <a:pt x="50033" y="202788"/>
                  </a:moveTo>
                  <a:lnTo>
                    <a:pt x="144341" y="202788"/>
                  </a:lnTo>
                  <a:lnTo>
                    <a:pt x="144341" y="65527"/>
                  </a:lnTo>
                  <a:lnTo>
                    <a:pt x="233121" y="65527"/>
                  </a:lnTo>
                  <a:lnTo>
                    <a:pt x="233121" y="202788"/>
                  </a:lnTo>
                  <a:lnTo>
                    <a:pt x="327429" y="202788"/>
                  </a:lnTo>
                  <a:lnTo>
                    <a:pt x="327429" y="291567"/>
                  </a:lnTo>
                  <a:lnTo>
                    <a:pt x="233121" y="291567"/>
                  </a:lnTo>
                  <a:lnTo>
                    <a:pt x="233121" y="428828"/>
                  </a:lnTo>
                  <a:lnTo>
                    <a:pt x="144341" y="428828"/>
                  </a:lnTo>
                  <a:lnTo>
                    <a:pt x="144341" y="291567"/>
                  </a:lnTo>
                  <a:lnTo>
                    <a:pt x="50033" y="291567"/>
                  </a:lnTo>
                  <a:lnTo>
                    <a:pt x="50033" y="202788"/>
                  </a:ln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8"/>
            <p:cNvSpPr/>
            <p:nvPr/>
          </p:nvSpPr>
          <p:spPr>
            <a:xfrm>
              <a:off x="6949080" y="2158920"/>
              <a:ext cx="1368000" cy="9824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especializada I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5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804960" y="3461040"/>
            <a:ext cx="726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le de la oficina de desarrollo curricular  y Responsables de etnia/ lengu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23 Grupo"/>
          <p:cNvGrpSpPr/>
          <p:nvPr/>
        </p:nvGrpSpPr>
        <p:grpSpPr>
          <a:xfrm>
            <a:off x="442800" y="4076640"/>
            <a:ext cx="7729560" cy="2095560"/>
            <a:chOff x="442800" y="4076640"/>
            <a:chExt cx="7729560" cy="2095560"/>
          </a:xfrm>
        </p:grpSpPr>
        <p:sp>
          <p:nvSpPr>
            <p:cNvPr id="131" name="Rectángulo 26"/>
            <p:cNvSpPr/>
            <p:nvPr/>
          </p:nvSpPr>
          <p:spPr>
            <a:xfrm>
              <a:off x="442800" y="4092120"/>
              <a:ext cx="859320" cy="1284840"/>
            </a:xfrm>
            <a:custGeom>
              <a:avLst/>
              <a:gdLst>
                <a:gd name="textAreaLeft" fmla="*/ 41760 w 859320"/>
                <a:gd name="textAreaRight" fmla="*/ 817560 w 859320"/>
                <a:gd name="textAreaTop" fmla="*/ 41760 h 1284840"/>
                <a:gd name="textAreaBottom" fmla="*/ 1243080 h 1284840"/>
              </a:gdLst>
              <a:ahLst/>
              <a:rect l="textAreaLeft" t="textAreaTop" r="textAreaRight" b="textAreaBottom"/>
              <a:pathLst>
                <a:path w="21600" h="32291">
                  <a:moveTo>
                    <a:pt x="3600" y="0"/>
                  </a:moveTo>
                  <a:arcTo wR="3600" hR="3600" stAng="16200000" swAng="-5400000"/>
                  <a:lnTo>
                    <a:pt x="0" y="28691"/>
                  </a:lnTo>
                  <a:arcTo wR="3600" hR="3600" stAng="10800000" swAng="-5400000"/>
                  <a:lnTo>
                    <a:pt x="18000" y="322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ducció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3 horas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ángulo 27"/>
            <p:cNvSpPr/>
            <p:nvPr/>
          </p:nvSpPr>
          <p:spPr>
            <a:xfrm>
              <a:off x="1549440" y="4076640"/>
              <a:ext cx="1269360" cy="1320840"/>
            </a:xfrm>
            <a:custGeom>
              <a:avLst/>
              <a:gdLst>
                <a:gd name="textAreaLeft" fmla="*/ 61920 w 1269360"/>
                <a:gd name="textAreaRight" fmla="*/ 1207440 w 1269360"/>
                <a:gd name="textAreaTop" fmla="*/ 61920 h 1320840"/>
                <a:gd name="textAreaBottom" fmla="*/ 1258920 h 1320840"/>
              </a:gdLst>
              <a:ahLst/>
              <a:rect l="textAreaLeft" t="textAreaTop" r="textAreaRight" b="textAreaBottom"/>
              <a:pathLst>
                <a:path w="21600" h="22476">
                  <a:moveTo>
                    <a:pt x="3600" y="0"/>
                  </a:moveTo>
                  <a:arcTo wR="3600" hR="3600" stAng="16200000" swAng="-5400000"/>
                  <a:lnTo>
                    <a:pt x="0" y="18876"/>
                  </a:lnTo>
                  <a:arcTo wR="3600" hR="3600" stAng="10800000" swAng="-5400000"/>
                  <a:lnTo>
                    <a:pt x="18000" y="22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inicia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ara elaboradores de material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1 Más"/>
            <p:cNvSpPr/>
            <p:nvPr/>
          </p:nvSpPr>
          <p:spPr>
            <a:xfrm>
              <a:off x="3112920" y="4171680"/>
              <a:ext cx="585720" cy="752400"/>
            </a:xfrm>
            <a:prstGeom prst="pie">
              <a:avLst/>
            </a:prstGeom>
            <a:solidFill>
              <a:srgbClr val="ffcccc"/>
            </a:solidFill>
            <a:ln w="32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ángulo 25"/>
            <p:cNvSpPr/>
            <p:nvPr/>
          </p:nvSpPr>
          <p:spPr>
            <a:xfrm>
              <a:off x="6195600" y="4141080"/>
              <a:ext cx="1424160" cy="10317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laboración y actualización de materiales educativo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ángulo 27"/>
            <p:cNvSpPr/>
            <p:nvPr/>
          </p:nvSpPr>
          <p:spPr>
            <a:xfrm>
              <a:off x="4174200" y="4103640"/>
              <a:ext cx="1295640" cy="10317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especializada  I  para formador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9"/>
            <p:cNvSpPr/>
            <p:nvPr/>
          </p:nvSpPr>
          <p:spPr>
            <a:xfrm>
              <a:off x="4718520" y="5019840"/>
              <a:ext cx="1233720" cy="11523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especializada II para formador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8"/>
            <p:cNvSpPr/>
            <p:nvPr/>
          </p:nvSpPr>
          <p:spPr>
            <a:xfrm>
              <a:off x="6907680" y="4972680"/>
              <a:ext cx="1264680" cy="11862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seño y actualización de instrumentos de evaluació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13 Grupo"/>
          <p:cNvGrpSpPr/>
          <p:nvPr/>
        </p:nvGrpSpPr>
        <p:grpSpPr>
          <a:xfrm>
            <a:off x="511200" y="1557360"/>
            <a:ext cx="8008920" cy="2428920"/>
            <a:chOff x="511200" y="1557360"/>
            <a:chExt cx="8008920" cy="2428920"/>
          </a:xfrm>
        </p:grpSpPr>
        <p:sp>
          <p:nvSpPr>
            <p:cNvPr id="139" name="Rectángulo 23"/>
            <p:cNvSpPr/>
            <p:nvPr/>
          </p:nvSpPr>
          <p:spPr>
            <a:xfrm>
              <a:off x="3057120" y="1557360"/>
              <a:ext cx="1631520" cy="13442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laneación, gestión y seguimiento de los servicios educativos y la formación  en el MEAPI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12 horas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3 Grupo" descr=""/>
            <p:cNvPicPr/>
            <p:nvPr/>
          </p:nvPicPr>
          <p:blipFill>
            <a:blip r:embed="rId1"/>
            <a:stretch/>
          </p:blipFill>
          <p:spPr>
            <a:xfrm>
              <a:off x="511200" y="1821960"/>
              <a:ext cx="4377600" cy="21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ángulo 27"/>
            <p:cNvSpPr/>
            <p:nvPr/>
          </p:nvSpPr>
          <p:spPr>
            <a:xfrm>
              <a:off x="5016960" y="1557360"/>
              <a:ext cx="1277280" cy="12178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especializada  I 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"/>
            <p:cNvSpPr/>
            <p:nvPr/>
          </p:nvSpPr>
          <p:spPr>
            <a:xfrm>
              <a:off x="6798600" y="1557360"/>
              <a:ext cx="1338120" cy="11368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laboración y actualización de materiales educativo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"/>
            <p:cNvSpPr/>
            <p:nvPr/>
          </p:nvSpPr>
          <p:spPr>
            <a:xfrm>
              <a:off x="5356800" y="2788560"/>
              <a:ext cx="1216440" cy="11912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rmación especializada II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ángulo 25"/>
            <p:cNvSpPr/>
            <p:nvPr/>
          </p:nvSpPr>
          <p:spPr>
            <a:xfrm>
              <a:off x="7273080" y="2701080"/>
              <a:ext cx="1247040" cy="12261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3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seño y actualización de instrumentos de evaluació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2232360" y="59292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onsable del Proyecto Indígena (R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6:57:07Z</dcterms:created>
  <dc:creator>Mramirez</dc:creator>
  <dc:description/>
  <dc:language>en-US</dc:language>
  <cp:lastModifiedBy>PPerez</cp:lastModifiedBy>
  <cp:lastPrinted>2015-02-20T16:59:36Z</cp:lastPrinted>
  <dcterms:modified xsi:type="dcterms:W3CDTF">2015-09-22T01:10:38Z</dcterms:modified>
  <cp:revision>113</cp:revision>
  <dc:subject/>
  <dc:title>Formación para Asesores/Alfabetizadores MIB</dc:title>
</cp:coreProperties>
</file>