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A9A-BA51-47A4-B395-18A55345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744-0970-4773-A027-47544CEA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0B7-0E1D-45E3-BA73-577384DA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E9C-84C4-47A6-9FD7-485D6BA0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E1C-567B-4591-97D1-803A5A49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606-EB23-4F70-999B-D901A4E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9C6-763F-4E29-87D3-C7B1E572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020-B581-41B7-9FEC-7AFB4B41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943-7BC4-4D9F-8BD8-6EC74C85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53D-1B32-49BA-A7EF-27EA1CA5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AD1-4C5C-41F9-9379-81379C99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E6D-A62D-4E55-B616-82B3784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A08D-7EF0-4452-8D93-5E3CB2A7ECF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449280" y="4836960"/>
            <a:ext cx="869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Son el centro y la razón del aprendizaje y de nuestra aten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C:\Mis documentos\Mis imágenes\personas y grupos\d[1].jpg"/>
          <p:cNvPicPr/>
          <p:nvPr/>
        </p:nvPicPr>
        <p:blipFill>
          <a:blip r:embed="rId1"/>
          <a:stretch/>
        </p:blipFill>
        <p:spPr>
          <a:xfrm>
            <a:off x="2952720" y="2606760"/>
            <a:ext cx="2282760" cy="204300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>
            <a:off x="449280" y="1308240"/>
            <a:ext cx="804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70c0"/>
                </a:solidFill>
                <a:latin typeface="Calibri"/>
                <a:ea typeface="MS PGothic"/>
              </a:rPr>
              <a:t>¿Quiénes son las personas jóvenes y adultas que no saben leer y escribI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 CuadroTexto" descr=""/>
          <p:cNvPicPr/>
          <p:nvPr/>
        </p:nvPicPr>
        <p:blipFill>
          <a:blip r:embed="rId1"/>
          <a:stretch/>
        </p:blipFill>
        <p:spPr>
          <a:xfrm>
            <a:off x="401760" y="1238400"/>
            <a:ext cx="5913360" cy="5016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Mis documentos\Mis imágenes\personas y grupos\bodega[1].jpg"/>
          <p:cNvPicPr/>
          <p:nvPr/>
        </p:nvPicPr>
        <p:blipFill>
          <a:blip r:embed="rId2"/>
          <a:stretch/>
        </p:blipFill>
        <p:spPr>
          <a:xfrm>
            <a:off x="6129360" y="2019240"/>
            <a:ext cx="2927160" cy="2343240"/>
          </a:xfrm>
          <a:prstGeom prst="rect">
            <a:avLst/>
          </a:prstGeom>
          <a:ln w="0">
            <a:noFill/>
          </a:ln>
        </p:spPr>
      </p:pic>
      <p:sp>
        <p:nvSpPr>
          <p:cNvPr id="46" name="3 CuadroTexto"/>
          <p:cNvSpPr/>
          <p:nvPr/>
        </p:nvSpPr>
        <p:spPr>
          <a:xfrm>
            <a:off x="2719440" y="39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70c0"/>
                </a:solidFill>
                <a:latin typeface="Calibri"/>
                <a:ea typeface="MS PGothic"/>
              </a:rPr>
              <a:t>¿Qué las caracteriz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5 CuadroTexto"/>
          <p:cNvSpPr/>
          <p:nvPr/>
        </p:nvSpPr>
        <p:spPr>
          <a:xfrm>
            <a:off x="338040" y="1882800"/>
            <a:ext cx="4199040" cy="4832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Aprendizajes previos y experi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Capacidades para la resolución de problemas de vi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Diversas responsabilid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Diferentes niveles de bilingüismo (población indígen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Experiencias desagradables de discriminación por ser analfabet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Necesidad de solventar situaciones económicas de sobreviv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 CuadroTexto"/>
          <p:cNvSpPr/>
          <p:nvPr/>
        </p:nvSpPr>
        <p:spPr>
          <a:xfrm>
            <a:off x="4876920" y="1882800"/>
            <a:ext cx="4000320" cy="3445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Algunos empezaron a aprender a leer y escrib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Se vieron obligados a “abandonar” el estudi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Vivieron  situaciones de frustración en el aprendiza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No tuvieron oportunidad de continuar ejerciendo lo aprendido y lo olvidar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3405960" y="117648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ienen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Título"/>
          <p:cNvSpPr/>
          <p:nvPr/>
        </p:nvSpPr>
        <p:spPr>
          <a:xfrm>
            <a:off x="506520" y="950760"/>
            <a:ext cx="901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6464a"/>
                </a:solidFill>
                <a:latin typeface="Calibri"/>
              </a:rPr>
              <a:t>Las personas indígen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 CuadroTexto"/>
          <p:cNvSpPr/>
          <p:nvPr/>
        </p:nvSpPr>
        <p:spPr>
          <a:xfrm>
            <a:off x="235080" y="2004840"/>
            <a:ext cx="8700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Han vivido discriminación  por el simple hecho de ser indígenas hablen o no una lengua indígena, por la forma en que visten, por sus costumbres, formas de ver la vida entre  otras cos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Quieren preservar algunos elementos culturales, uno de ellos es la lengua hablarla  y escribirla, porque saben que es una forma de identidad al grupo que pertenec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esean aprender también españo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"/>
          <p:cNvSpPr/>
          <p:nvPr/>
        </p:nvSpPr>
        <p:spPr>
          <a:xfrm>
            <a:off x="318960" y="1874880"/>
            <a:ext cx="8517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Han sido engañadas y utilizadas, al incorporarse a actividades productivas, dentro y fuera de sus comunidades por no saber leer ni escribir en su lengua materna y/o en españo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4 Grupo"/>
          <p:cNvGrpSpPr/>
          <p:nvPr/>
        </p:nvGrpSpPr>
        <p:grpSpPr>
          <a:xfrm>
            <a:off x="1133640" y="4140360"/>
            <a:ext cx="6765840" cy="1644480"/>
            <a:chOff x="1133640" y="4140360"/>
            <a:chExt cx="6765840" cy="1644480"/>
          </a:xfrm>
        </p:grpSpPr>
        <p:pic>
          <p:nvPicPr>
            <p:cNvPr id="54" name="5 Imagen" descr=""/>
            <p:cNvPicPr/>
            <p:nvPr/>
          </p:nvPicPr>
          <p:blipFill>
            <a:blip r:embed="rId1"/>
            <a:stretch/>
          </p:blipFill>
          <p:spPr>
            <a:xfrm>
              <a:off x="1133640" y="4158720"/>
              <a:ext cx="2036520" cy="13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6 Imagen" descr=""/>
            <p:cNvPicPr/>
            <p:nvPr/>
          </p:nvPicPr>
          <p:blipFill>
            <a:blip r:embed="rId2"/>
            <a:stretch/>
          </p:blipFill>
          <p:spPr>
            <a:xfrm>
              <a:off x="3170160" y="4426200"/>
              <a:ext cx="26226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7 Imagen" descr=""/>
            <p:cNvPicPr/>
            <p:nvPr/>
          </p:nvPicPr>
          <p:blipFill>
            <a:blip r:embed="rId3"/>
            <a:stretch/>
          </p:blipFill>
          <p:spPr>
            <a:xfrm>
              <a:off x="5749920" y="4140360"/>
              <a:ext cx="2149560" cy="125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 Diagrama" descr=""/>
          <p:cNvPicPr/>
          <p:nvPr/>
        </p:nvPicPr>
        <p:blipFill>
          <a:blip r:embed="rId1"/>
          <a:stretch/>
        </p:blipFill>
        <p:spPr>
          <a:xfrm>
            <a:off x="811080" y="2139840"/>
            <a:ext cx="7613640" cy="4237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68160" y="1424160"/>
            <a:ext cx="8080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ienen sistemas sociales propios para organizar sus vidas, en  los que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la alfabetización debe tener un sentido r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 Rectángulo"/>
          <p:cNvSpPr/>
          <p:nvPr/>
        </p:nvSpPr>
        <p:spPr>
          <a:xfrm>
            <a:off x="3308400" y="406440"/>
            <a:ext cx="33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a"/>
                </a:solidFill>
                <a:latin typeface="Calibri"/>
              </a:rPr>
              <a:t>Las personas indígena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851200" y="2319480"/>
            <a:ext cx="611820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80880" y="5276880"/>
            <a:ext cx="8541000" cy="12366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3042b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03042b"/>
                </a:solidFill>
                <a:latin typeface="Calibri"/>
              </a:rPr>
              <a:t>En la más reciente Encuesta sobre discriminación que se realizó en México, aparecen “los indígenas” en el primer lugar de las personas más discriminadas</a:t>
            </a:r>
            <a:r>
              <a:rPr b="0" lang="es-ES" sz="2800" spc="-1" strike="noStrike">
                <a:solidFill>
                  <a:srgbClr val="03042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28760" y="1301760"/>
            <a:ext cx="8493120" cy="37148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68% viven en comunidad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equeñas, en altas condiciones de pobreza y marg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De u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misma etnia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uede esta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spersa en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vari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unidad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y s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variantes lingüística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ueden se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tan distintas que se consideran lenguas diferentes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Tienen un bilingüismo incipi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ducativamente son atendidas en español, sin considerar la lengua que conoce y en la pien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No cuentan con ambientes alfabetizadores o son muy limi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7 Rectángulo"/>
          <p:cNvSpPr/>
          <p:nvPr/>
        </p:nvSpPr>
        <p:spPr>
          <a:xfrm>
            <a:off x="3308400" y="406440"/>
            <a:ext cx="33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a"/>
                </a:solidFill>
                <a:latin typeface="Calibri"/>
              </a:rPr>
              <a:t>Las personas indígena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0:36:10Z</dcterms:created>
  <dc:creator>ELY</dc:creator>
  <dc:description/>
  <dc:language>en-US</dc:language>
  <cp:lastModifiedBy>ELY</cp:lastModifiedBy>
  <dcterms:modified xsi:type="dcterms:W3CDTF">2015-07-23T00:37:15Z</dcterms:modified>
  <cp:revision>1</cp:revision>
  <dc:subject/>
  <dc:title>Presentación de PowerPoint</dc:title>
</cp:coreProperties>
</file>