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F53A-3602-4BE8-9686-D7945B879E31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C76B877-D9B0-4394-8D16-274D00055203}" type="slidenum">
              <a:rPr b="0" lang="es-ES" sz="1200" spc="-1" strike="noStrike">
                <a:solidFill>
                  <a:srgbClr val="4d5b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B2B7B19-1AF7-46DC-8D06-F87E956548C7}" type="slidenum">
              <a:rPr b="0" lang="es-ES" sz="1200" spc="-1" strike="noStrike">
                <a:solidFill>
                  <a:srgbClr val="4d5b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3C109-C1AD-4007-9B10-D21D39120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95777-6B02-4035-8F28-58D14C19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8671B-8461-4F11-9803-ABC1318C8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7EF28-4634-4EA6-809D-B88A3792D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10E2-723C-438B-AE13-CC8B822E5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F63E-2F71-4639-89E6-7E56D2B1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330A-C821-408E-9AB7-A8A396B3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E783-057A-4AB7-901F-B70C5023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9790-AE21-4180-831D-151DFFAD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53E3-271B-4364-9E81-5052E693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D70F-D77D-4DFC-8DA1-33DCC913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AD836-ADDF-4FD0-9D2A-7ED794CA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2C5A-8863-4F47-8BA9-007B6C28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BFF3-530E-4FA9-8BBD-E53E7677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5613-75CE-4BC8-B7F2-E89C2052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877D-2043-417C-9958-86EF0E101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6CD0-7A3F-4AE3-A96E-90FB0CAA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6AA9F-A97B-4521-B2B8-397F3B7F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579D2-60D7-48D1-AA95-4C10F1EB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7566A-F903-4B2F-B144-AC57F5AA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399FD-8F68-4516-8380-65482000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66E8E-A632-48ED-BF84-F974B89F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3B263-90CC-4A14-9A22-619C901F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1D4DF-B228-4CF6-A2F9-D02EC161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11"/>
          <p:cNvGrpSpPr/>
          <p:nvPr/>
        </p:nvGrpSpPr>
        <p:grpSpPr>
          <a:xfrm>
            <a:off x="0" y="0"/>
            <a:ext cx="231840" cy="6858000"/>
            <a:chOff x="0" y="0"/>
            <a:chExt cx="231840" cy="6858000"/>
          </a:xfrm>
        </p:grpSpPr>
        <p:pic>
          <p:nvPicPr>
            <p:cNvPr id="1" name="Rectangle 11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31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5b6b"/>
                </a:solidFill>
                <a:latin typeface="Calibri"/>
              </a:endParaRPr>
            </a:p>
          </p:txBody>
        </p:sp>
      </p:grpSp>
      <p:grpSp>
        <p:nvGrpSpPr>
          <p:cNvPr id="3" name="Rectangle 12"/>
          <p:cNvGrpSpPr/>
          <p:nvPr/>
        </p:nvGrpSpPr>
        <p:grpSpPr>
          <a:xfrm>
            <a:off x="0" y="0"/>
            <a:ext cx="231840" cy="6858000"/>
            <a:chOff x="0" y="0"/>
            <a:chExt cx="231840" cy="6858000"/>
          </a:xfrm>
        </p:grpSpPr>
        <p:pic>
          <p:nvPicPr>
            <p:cNvPr id="4" name="Rectangle 12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231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5b6b"/>
                </a:solidFill>
                <a:latin typeface="Calibri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5257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d5b6b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4d5b6b"/>
              </a:buClr>
              <a:buFont typeface="Calibri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4d5b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258560" y="6552720"/>
            <a:ext cx="7162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686800" y="5740560"/>
            <a:ext cx="380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a79d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8E77-6942-4997-8B8F-39CBF90FDCF8}" type="slidenum">
              <a:rPr b="0" lang="es-MX" sz="1200" spc="-1" strike="noStrike">
                <a:solidFill>
                  <a:srgbClr val="a79d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Freeform 5"/>
          <p:cNvSpPr/>
          <p:nvPr/>
        </p:nvSpPr>
        <p:spPr>
          <a:xfrm>
            <a:off x="8453520" y="5715000"/>
            <a:ext cx="242640" cy="431640"/>
          </a:xfrm>
          <a:custGeom>
            <a:avLst/>
            <a:gdLst/>
            <a:ahLst/>
            <a:rect l="l" t="t" r="r" b="b"/>
            <a:pathLst>
              <a:path w="153" h="272">
                <a:moveTo>
                  <a:pt x="62" y="0"/>
                </a:moveTo>
                <a:lnTo>
                  <a:pt x="0" y="0"/>
                </a:lnTo>
                <a:lnTo>
                  <a:pt x="89" y="136"/>
                </a:lnTo>
                <a:lnTo>
                  <a:pt x="89" y="136"/>
                </a:lnTo>
                <a:lnTo>
                  <a:pt x="0" y="272"/>
                </a:lnTo>
                <a:lnTo>
                  <a:pt x="62" y="272"/>
                </a:lnTo>
                <a:lnTo>
                  <a:pt x="153" y="136"/>
                </a:lnTo>
                <a:lnTo>
                  <a:pt x="62" y="0"/>
                </a:lnTo>
                <a:close/>
              </a:path>
            </a:pathLst>
          </a:custGeom>
          <a:solidFill>
            <a:srgbClr val="a79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dt" idx="3"/>
          </p:nvPr>
        </p:nvSpPr>
        <p:spPr>
          <a:xfrm rot="16200000">
            <a:off x="-1198800" y="4821120"/>
            <a:ext cx="262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Rectangle 10"/>
          <p:cNvGrpSpPr/>
          <p:nvPr/>
        </p:nvGrpSpPr>
        <p:grpSpPr>
          <a:xfrm>
            <a:off x="0" y="0"/>
            <a:ext cx="749160" cy="6858000"/>
            <a:chOff x="0" y="0"/>
            <a:chExt cx="749160" cy="6858000"/>
          </a:xfrm>
        </p:grpSpPr>
        <p:pic>
          <p:nvPicPr>
            <p:cNvPr id="49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7459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0"/>
              <a:ext cx="7491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5b6b"/>
                </a:solidFill>
                <a:latin typeface="Calibri"/>
              </a:endParaRPr>
            </a:p>
          </p:txBody>
        </p:sp>
      </p:grpSp>
      <p:pic>
        <p:nvPicPr>
          <p:cNvPr id="51" name="Group 6" descr=""/>
          <p:cNvPicPr/>
          <p:nvPr/>
        </p:nvPicPr>
        <p:blipFill>
          <a:blip r:embed="rId4"/>
          <a:stretch/>
        </p:blipFill>
        <p:spPr>
          <a:xfrm>
            <a:off x="7467480" y="208080"/>
            <a:ext cx="658800" cy="431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5257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d5b6b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4d5b6b"/>
              </a:buClr>
              <a:buFont typeface="Calibri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4d5b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 rot="16200000">
            <a:off x="-1198800" y="4821120"/>
            <a:ext cx="262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1258560" y="6552720"/>
            <a:ext cx="7162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150400" y="236520"/>
            <a:ext cx="78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a79d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DFE5-465C-4D18-B04B-E5D8057A7239}" type="slidenum">
              <a:rPr b="0" lang="es-MX" sz="1400" spc="-1" strike="noStrike">
                <a:solidFill>
                  <a:srgbClr val="a79d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1 Título" descr=""/>
          <p:cNvPicPr/>
          <p:nvPr/>
        </p:nvPicPr>
        <p:blipFill>
          <a:blip r:embed="rId1"/>
          <a:stretch/>
        </p:blipFill>
        <p:spPr>
          <a:xfrm>
            <a:off x="950760" y="2925720"/>
            <a:ext cx="77724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1284120" y="647640"/>
            <a:ext cx="6372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4d5b6b"/>
                </a:solidFill>
                <a:latin typeface="Arial"/>
                <a:ea typeface="Arial"/>
              </a:rPr>
              <a:t>El MIB, un modelo completo de Educación Básica</a:t>
            </a:r>
            <a:endParaRPr b="0" lang="en-US" sz="2000" spc="-1" strike="noStrike">
              <a:solidFill>
                <a:srgbClr val="4d5b6b"/>
              </a:solidFill>
              <a:latin typeface="Calibri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3402000" y="1413000"/>
            <a:ext cx="2533680" cy="324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2651040" cy="3240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/>
          <p:cNvPicPr/>
          <p:nvPr/>
        </p:nvPicPr>
        <p:blipFill>
          <a:blip r:embed="rId3"/>
          <a:stretch/>
        </p:blipFill>
        <p:spPr>
          <a:xfrm>
            <a:off x="6265800" y="1413000"/>
            <a:ext cx="2627280" cy="3240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395280" y="5300640"/>
            <a:ext cx="8497800" cy="1224000"/>
          </a:xfrm>
          <a:prstGeom prst="rect">
            <a:avLst/>
          </a:prstGeom>
          <a:solidFill>
            <a:srgbClr val="9a2f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os módulos básicos MIBES 1, 3 y 5 pueden ser diversificados para quienes estén interesados en aprender a leer y escribir la lengua originaria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.</a:t>
            </a:r>
            <a:endParaRPr b="0" lang="en-US" sz="2000" spc="-1" strike="noStrike">
              <a:solidFill>
                <a:srgbClr val="4d5b6b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Arial"/>
              </a:rPr>
              <a:t>En este caso el asesor  educativo  debe ser bilingü</a:t>
            </a:r>
            <a:r>
              <a:rPr b="0" lang="es-MX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e.</a:t>
            </a:r>
            <a:endParaRPr b="0" lang="en-US" sz="2000" spc="-1" strike="noStrike">
              <a:solidFill>
                <a:srgbClr val="4d5b6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755640" y="2676600"/>
            <a:ext cx="7632720" cy="2531160"/>
          </a:xfrm>
          <a:prstGeom prst="rect">
            <a:avLst/>
          </a:prstGeom>
          <a:solidFill>
            <a:srgbClr val="de8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d5b6b"/>
                </a:solidFill>
                <a:latin typeface="Arial"/>
                <a:ea typeface="SimSun"/>
              </a:rPr>
              <a:t>¿De acuerdo a la estructura curricular del MIB, en qué niveles educativos se pueden estudiar módulos diversificados sobre la lectura y escritura de la lengua materna?</a:t>
            </a:r>
            <a:endParaRPr b="0" lang="en-US" sz="32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107" name="1 CuadroTexto"/>
          <p:cNvSpPr/>
          <p:nvPr/>
        </p:nvSpPr>
        <p:spPr>
          <a:xfrm>
            <a:off x="596880" y="836640"/>
            <a:ext cx="779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d5b6b"/>
                </a:solidFill>
                <a:latin typeface="Arial"/>
                <a:ea typeface="Arial"/>
              </a:rPr>
              <a:t>El MIB, un modelo completo de </a:t>
            </a:r>
            <a:endParaRPr b="0" lang="en-US" sz="2800" spc="-1" strike="noStrike">
              <a:solidFill>
                <a:srgbClr val="4d5b6b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d5b6b"/>
                </a:solidFill>
                <a:latin typeface="Arial"/>
                <a:ea typeface="Arial"/>
              </a:rPr>
              <a:t>Educación Básica</a:t>
            </a:r>
            <a:endParaRPr b="0" lang="en-US" sz="2800" spc="-1" strike="noStrike">
              <a:solidFill>
                <a:srgbClr val="4d5b6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1 Título" descr=""/>
          <p:cNvPicPr/>
          <p:nvPr/>
        </p:nvPicPr>
        <p:blipFill>
          <a:blip r:embed="rId1"/>
          <a:stretch/>
        </p:blipFill>
        <p:spPr>
          <a:xfrm>
            <a:off x="347760" y="5261040"/>
            <a:ext cx="811368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1042560" y="620280"/>
            <a:ext cx="76438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75d59"/>
                </a:solidFill>
                <a:latin typeface="Calibri"/>
              </a:rPr>
              <a:t>Las personas que estudiarán estos módulos: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75d59"/>
                </a:solidFill>
                <a:latin typeface="Calibri"/>
              </a:rPr>
              <a:t>Tienen el interés de aprender a leer y escribir la lengua indígena que hablan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75d59"/>
                </a:solidFill>
                <a:latin typeface="Calibri"/>
              </a:rPr>
              <a:t>Podrán cursar los módulos en paralelo con los estudios del nivel intermedio o avanzado.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75d59"/>
                </a:solidFill>
                <a:latin typeface="Calibri"/>
              </a:rPr>
              <a:t>Son bilingües: hablan una lengua indígena y el españo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75d59"/>
                </a:solidFill>
                <a:latin typeface="Calibri"/>
              </a:rPr>
              <a:t>Desarrollaron competencias de escritura y lectura en españo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75d59"/>
                </a:solidFill>
                <a:latin typeface="Calibri"/>
              </a:rPr>
              <a:t> </a:t>
            </a:r>
            <a:r>
              <a:rPr b="0" lang="es-MX" sz="2800" spc="-1" strike="noStrike">
                <a:solidFill>
                  <a:srgbClr val="675d59"/>
                </a:solidFill>
                <a:latin typeface="Calibri"/>
              </a:rPr>
              <a:t>Requerirán apoyo de un asesor bilingüe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3T17:08:20Z</dcterms:created>
  <dc:creator>DUARTE</dc:creator>
  <dc:description/>
  <dc:language>en-US</dc:language>
  <cp:lastModifiedBy>DUARTE</cp:lastModifiedBy>
  <dcterms:modified xsi:type="dcterms:W3CDTF">2015-08-23T18:47:06Z</dcterms:modified>
  <cp:revision>4</cp:revision>
  <dc:subject/>
  <dc:title>¿Los módulos en lengua indígena como módulos diversificados?</dc:title>
</cp:coreProperties>
</file>