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E8F8-D12A-4C96-9E91-4B0061BC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A168-6B20-4498-8CAA-5FA959C8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83E2-7969-4E7C-BE60-7C8F03E4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1EE0-E040-4345-80FD-A5E5FB94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D245-FDFE-46FD-80B4-6CC53C6D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BE13-C9AB-48F6-9850-0BBD10D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3B11-A871-494B-A56D-D84BBDDB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DBBF-7380-47BA-8735-3E4F3D63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1E7A-6FC8-4347-B391-4D496E81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066C-E342-471F-9AA3-7AA09D3B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11F0-9A2C-4AD7-B000-262724F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F339-1319-49B3-9CF2-AD72DBDD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C29C-E2F8-4E71-A78E-85CD4973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471B-FB60-4C51-8E45-802D5DE5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4101-287C-4C45-BDC9-CABDC4FA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F065-DFE7-4E3F-B834-33327543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3927-7DBE-4DA1-9E26-B8240907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EF86-BDFB-4A0B-B077-18C4B7D8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54AD-F014-4889-95DB-9F07895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C228-8031-45D3-92FB-E50872DF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96E7-1B94-4C68-B336-8FCB82AF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239A-75F9-474E-983E-56294BB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0073-304E-42B5-8DFB-780ACDCB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F923-CA49-414F-B5F3-10D0B061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3502-4287-4470-ADE8-DEF1E74F1A9F}" type="slidenum">
              <a:rPr b="0" lang="es-MX" sz="12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240E-5C5D-4387-BC6F-2635AD77081A}" type="slidenum">
              <a:rPr b="0" lang="es-MX" sz="14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1290600" y="1995480"/>
            <a:ext cx="695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70c0"/>
                </a:solidFill>
                <a:latin typeface="Calibri"/>
                <a:ea typeface="Arial"/>
              </a:rPr>
              <a:t>Estrategias para fortalecer la lectura y escritura en español</a:t>
            </a:r>
            <a:endParaRPr b="0" lang="en-US" sz="4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Título" descr=""/>
          <p:cNvPicPr/>
          <p:nvPr/>
        </p:nvPicPr>
        <p:blipFill>
          <a:blip r:embed="rId1"/>
          <a:stretch/>
        </p:blipFill>
        <p:spPr>
          <a:xfrm>
            <a:off x="950760" y="4962600"/>
            <a:ext cx="7510680" cy="1749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Una estrategia se define como la serie de acciones que se realizan de manera consciente con la idea de alcanzar un propósito; algunas estrategias son más exitosas que otras para realizar ciertas tareas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Estrategias  para fortalecer el español, son las acciones educativas que se proponen para reforzar un aprendizaje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Título" descr=""/>
          <p:cNvPicPr/>
          <p:nvPr/>
        </p:nvPicPr>
        <p:blipFill>
          <a:blip r:embed="rId1"/>
          <a:stretch/>
        </p:blipFill>
        <p:spPr>
          <a:xfrm>
            <a:off x="950760" y="4962600"/>
            <a:ext cx="7510680" cy="1749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8960" y="112500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Usan su lengua indígena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Aprendieron el español como segunda lengua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Posiblemente tienen dificultades para leer escribir el español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Requieren fortalecer el uso para estudiar los módulos del nivel avanzado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Título" descr=""/>
          <p:cNvPicPr/>
          <p:nvPr/>
        </p:nvPicPr>
        <p:blipFill>
          <a:blip r:embed="rId1"/>
          <a:stretch/>
        </p:blipFill>
        <p:spPr>
          <a:xfrm>
            <a:off x="920880" y="5261040"/>
            <a:ext cx="7540560" cy="1487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08000" y="836280"/>
            <a:ext cx="68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Anticipación y predicción de textos con imágenes y sin ellas. 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Realización de inferencias.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Leer con un propósito definido.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Relacionar lo visual, es decir, que está en el texto, con lo no visual (conocimiento y experiencia previa del lector).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Búsqueda de significaciones de palabras desconocidas.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Hacer y hacerse preguntas pertinentes sobre el contenido, la forma y la función comunicativa según el de texto.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Leer todo, por ejemplo: notas a pie, diagramas, mapas, entre otros.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Leer por partes.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675d59"/>
                </a:solidFill>
                <a:latin typeface="Calibri"/>
              </a:rPr>
              <a:t>Discutir con otros (socializar lo que se entiende).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00" name="Picture 2" descr="Resultado de imagen para personas indigenas leyendo"/>
          <p:cNvPicPr/>
          <p:nvPr/>
        </p:nvPicPr>
        <p:blipFill>
          <a:blip r:embed="rId2"/>
          <a:stretch/>
        </p:blipFill>
        <p:spPr>
          <a:xfrm>
            <a:off x="684360" y="692280"/>
            <a:ext cx="1204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95280" y="189000"/>
          <a:ext cx="8640720" cy="6470640"/>
        </p:xfrm>
        <a:graphic>
          <a:graphicData uri="http://schemas.openxmlformats.org/drawingml/2006/table">
            <a:tbl>
              <a:tblPr/>
              <a:tblGrid>
                <a:gridCol w="1789200"/>
                <a:gridCol w="3379680"/>
                <a:gridCol w="3471840"/>
              </a:tblGrid>
              <a:tr h="366120"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alidades de lectura 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alidad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Cuando usarla</a:t>
                      </a:r>
                      <a:endParaRPr b="0" lang="en-US" sz="18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1008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ctura independiente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Los educandos leen sin apoyo, generalmente en silencio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Cuando los educandos no tienen dificultad con el texto o están muy motivados con el tema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730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ctura cooperativa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Los  educandos leen en parejas o en un grupo pequeño, en forma oral o silenciosa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Cuando los educandos necesitan algún tipo de apoyo o para entretenerse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13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ctura guiada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El asesor habla, estimula y guía a los educandos durante la lectura del texto, mediante preguntas y estimulando sus predicciones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Cuando los educandos requieren mucho apoyo para comprender el texto o cuando éste es difícil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3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ctura compartida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El asesor lee en voz alta, mientras los  educandos siguen el texto con la vista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Cuando los  educandos requieren mucho apoyo para leer. Se utiliza con lectores principiantes o con  educandos que tienen necesidades especiales en lectura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1342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ctura en voz alta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El  asesor lee en voz alta el texto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Cuando el texto es demasiado difícil o los  educandos no tienen conocimientos previos acerca del tema. También se utilizan con fines recreativos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Título" descr=""/>
          <p:cNvPicPr/>
          <p:nvPr/>
        </p:nvPicPr>
        <p:blipFill>
          <a:blip r:embed="rId1"/>
          <a:stretch/>
        </p:blipFill>
        <p:spPr>
          <a:xfrm>
            <a:off x="590400" y="5230800"/>
            <a:ext cx="7651800" cy="1571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Usar de preguntas para recuperar saberes, anticipaciones y/o comprensión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Leer en voz alta e invitar a leer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Leer noticias, artículos, diversos  textos de interés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Leer libros o textos: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literarios (novelas, cuentos, etc.)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de ciencias naturales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de ciencias sociales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de matemáticas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Leer para obtener información: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Elaborar esquemas o cuadros sinópticos, diagramas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Subrayar o hace anotaciones de asuntos relevantes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Leer a partir de un guion de preguntas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Comparar o completar información a partir de diferentes fuentes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Buscar palabras en el diccionarios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Título" descr=""/>
          <p:cNvPicPr/>
          <p:nvPr/>
        </p:nvPicPr>
        <p:blipFill>
          <a:blip r:embed="rId1"/>
          <a:stretch/>
        </p:blipFill>
        <p:spPr>
          <a:xfrm>
            <a:off x="907920" y="5261040"/>
            <a:ext cx="7553520" cy="1457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218960" y="1558440"/>
            <a:ext cx="7467480" cy="33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Escribir a partir de la lectura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Aplicar el proceso de escritura (momentos de escritura)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Generación de ideas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Redacción de textos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Revisión de los escritos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06" name="Picture 2" descr="Resultado de imagen para personas indigenas leyendo"/>
          <p:cNvPicPr/>
          <p:nvPr/>
        </p:nvPicPr>
        <p:blipFill>
          <a:blip r:embed="rId2"/>
          <a:stretch/>
        </p:blipFill>
        <p:spPr>
          <a:xfrm>
            <a:off x="5580000" y="3068640"/>
            <a:ext cx="2697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 Título" descr=""/>
          <p:cNvPicPr/>
          <p:nvPr/>
        </p:nvPicPr>
        <p:blipFill>
          <a:blip r:embed="rId1"/>
          <a:stretch/>
        </p:blipFill>
        <p:spPr>
          <a:xfrm>
            <a:off x="987480" y="5108400"/>
            <a:ext cx="7473960" cy="1573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218960" y="981000"/>
            <a:ext cx="7467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Escribir textos a partir de: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 </a:t>
            </a: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un texto modelo (copiar organización, función, tipografía, léxico, etc.)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ideas, opiniones e  información sobre un tema (elaborar resúmenes y síntesis)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esquemas de textos o datos a investigar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4d5b6b"/>
                </a:solidFill>
                <a:latin typeface="Calibri"/>
              </a:rPr>
              <a:t>revisiónes de  texto con diferentes criterios (redacción tiempo verbal, ortografía, etc.)</a:t>
            </a:r>
            <a:endParaRPr b="0" lang="en-US" sz="15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Escribir textos descriptivos, argumentativos y narrativos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Escribir textos colectivos, sugerido por los temas de los módulos o uno de interés siguiendo los momentos de escritura: planeación, redacción y revisión y corrección.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Escribir experiencias personales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75d59"/>
                </a:solidFill>
                <a:latin typeface="Calibri"/>
              </a:rPr>
              <a:t>Completar textos: escribir el final o conclusión de un texto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3T06:32:11Z</dcterms:created>
  <dc:creator>DUARTE</dc:creator>
  <dc:description/>
  <dc:language>en-US</dc:language>
  <cp:lastModifiedBy>DUARTE</cp:lastModifiedBy>
  <dcterms:modified xsi:type="dcterms:W3CDTF">2015-08-23T09:11:17Z</dcterms:modified>
  <cp:revision>8</cp:revision>
  <dc:subject/>
  <dc:title>Presentación de PowerPoint</dc:title>
</cp:coreProperties>
</file>