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91E-52CB-41E9-B10E-C8096B0D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51A-98EA-4C66-A188-E295171C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85B-F930-414D-B69B-E86102AC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9E8-31AC-450E-A2DA-7B670ED9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0231-0963-4E5B-9336-93D73B85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D72F-73F0-4E06-8BB9-15F2F675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89CC-E36F-47DF-96A1-49D6C6F4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C539-C794-4274-8B05-E791E06C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3742-D3FF-46A3-AC16-F8817719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95FE-C7F2-47CA-AF26-1114E700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21AE-D8E1-44D3-83F3-C3B4BF5A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703-DFE7-46D6-96F0-0F19C4BA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A53A-0A3E-46DB-BCAD-CBF5E40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B1D2-C507-4FD2-9941-E8FA55C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3674-6797-4656-9891-D7C39A6B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3B80-CBFC-4953-9E30-9D2774F1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D45B-41A1-4504-8F4A-52B99507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BCC-AE97-4B64-BBC5-3EB5099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64E-9D06-4643-BFF2-4AAC47B8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547-2089-4227-8778-AAE6F022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2CB-7AF7-4343-844A-543F2AA1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A09-78C5-4E1D-B150-03DEDA8D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F67-C3B4-451B-8A25-CF9CDEF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8AB-8EDA-44AF-8F4A-469FDB69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291D-AAEF-43C7-9B92-203A47C008AB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016C-0725-4C49-A9F0-37289AEDB5DD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LOS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entro de Salud Comunitaria San Andr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rora Estela Lóp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rco Juan Galin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¿Qué es una infecció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infecciones son invasiones de microbios en el cuer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microbios siempre están presentes, pero solamente causan enfermedades cuando se reproducen en gran cantidad y sin control dentro de nuestro cuer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¿Qué es un microbio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criaturas muy pequeñas que no se pueden observar a simple v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necesita un microscopio para verl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637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Aspecto de los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icrobios tienen muy diferentes aspec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ay esféricos, alargados y en formas irregul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odos son muy pequeños y no se pueden ver a simple vi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incipales tipos de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cter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ng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32000" y="24955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Bacter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4863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Hong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1779480"/>
            <a:ext cx="49690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3:13:32Z</dcterms:created>
  <dc:creator>rocio</dc:creator>
  <dc:description/>
  <dc:language>en-US</dc:language>
  <cp:lastModifiedBy>Silvia</cp:lastModifiedBy>
  <dcterms:modified xsi:type="dcterms:W3CDTF">2007-12-03T23:56:31Z</dcterms:modified>
  <cp:revision>10</cp:revision>
  <dc:subject/>
  <dc:title>LAS INFECCIONES</dc:title>
</cp:coreProperties>
</file>