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6F0-D743-4F2F-A23E-985195D2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093-104F-4D9F-A9DF-B38BE8A7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78C-B2F1-434B-8B1A-C678A279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C70-B7D8-46A9-AB88-3CDDF753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EE9-DDC8-4F89-ADDC-59CEC8E7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0F8-B8B2-433F-A005-D6307208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C3F-E954-4328-95F9-A168ECD4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A54-799A-4F95-9413-4B3071C7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F69-4B3F-493E-9C22-26C59CD8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742-C61F-430D-B436-BEC8E3A8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C16-6E7C-4F7B-B067-C8D46EE8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CD8-B8EB-40DD-AA95-D6AC775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5B04-1EDD-4023-AD32-AF89426633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l que toma medicinas está mal avis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uídate del enojo y del aire suc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antente en pie por unos instantes luego de com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strucciones para una vida s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onardo  Da Vi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retrases ni prolongues tu visita al retre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 haces ejercicio que no sea exces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o comas cuando no tienes apetito, come livi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astica bien, y cualquier cosa que ingieras que esté bien cocida y sea de ingredientes simp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egúrate de no dormir al mediod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ja que tu vino se mezcle con agua, toma poco y seguido. No entre comidas, no con el estómago vací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ude ser compulsivo y mantente a esta die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0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o te recuestes con tu estómago para arriba y tu cabeza para abaj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1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úbrete bien de noche, con tu cabeza reposante y tu mente aleg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2:02:04Z</dcterms:created>
  <dc:creator>Silvia</dc:creator>
  <dc:description/>
  <dc:language>en-US</dc:language>
  <cp:lastModifiedBy>INEA</cp:lastModifiedBy>
  <dcterms:modified xsi:type="dcterms:W3CDTF">2008-09-05T16:34:05Z</dcterms:modified>
  <cp:revision>4</cp:revision>
  <dc:subject/>
  <dc:title>Diapositiva 1</dc:title>
</cp:coreProperties>
</file>