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830-6C4B-425C-9AFA-62E5628A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C3B-7FE6-4843-9C7F-4B6561B1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721-2C94-46F1-A321-731F7377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72F-B0EE-4D35-9FB4-3FBE6105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D2AC-74B4-4E6C-9E3E-26EC0646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5680-B227-43D5-9AFF-166015E4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0E40-8251-4AF2-BE18-F1DA2AF8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D821-FCF5-4F20-8A46-790F49AE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5070-00DC-4183-A6D2-46E18593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D7A-60D5-479B-A60A-9E3DDE92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1566-0619-486A-913B-1EDAAE52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805-65E7-4743-B5C7-7215F9C3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81B1-3190-4A42-826B-BC5A7CB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262F-DC9B-45C5-9F02-54D3834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2BB-F89F-4F38-8EDE-9553FBE1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CBAE-8203-4207-A63F-7D5958DE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5BC4-4F4D-4E4F-837A-ED012D67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DDA-9277-4202-B598-9D0D3D5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2D6-6814-4B83-91D2-0C55B9CD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D7F-2768-45EA-974B-50FDAA7B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4A8-4424-40A5-90CF-FB16145F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515-311F-442E-8D0B-249049F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202-1D64-416A-A3F5-9223F4DC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14F-8457-4EB1-BD06-DEE68D7E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5AC1-AD45-47D2-9096-524C69873FA1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96EC-E3BB-4725-8845-273FC5FEB218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ffffcc"/>
                </a:solidFill>
                <a:latin typeface="Arial"/>
              </a:rPr>
              <a:t>Bienvenido a la feria del café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Consejo Ejidal de productores de café de Coatepe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43280" y="4351320"/>
            <a:ext cx="3744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iudad del caf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oatepec produce café desde 183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ada año, actualmente, se realiza la Feria del café entre abril y may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356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Siembra de los cafet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0" y="1773360"/>
            <a:ext cx="2916360" cy="460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Verdana"/>
              </a:rPr>
              <a:t>Germinación del gran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442120" y="2781360"/>
            <a:ext cx="133596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Almácig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0480" y="3860640"/>
            <a:ext cx="241488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Trasplante a la tier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3400" y="4869000"/>
            <a:ext cx="302760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Producción de los cafe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0360" y="234936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335772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450864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737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Producción del café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240000" cy="2122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1692360" cy="126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1152720" cy="101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76360" y="5300640"/>
            <a:ext cx="21607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Tostado y moli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9200" y="1844640"/>
            <a:ext cx="321336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"/>
              </a:rPr>
              <a:t>R</a:t>
            </a: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ecolección del café cerez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1760" y="2565360"/>
            <a:ext cx="243000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eneficiado húme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7560" y="3225960"/>
            <a:ext cx="167868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82840" y="4608360"/>
            <a:ext cx="20599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eneficiado se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223344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292428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361620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43360" y="3933720"/>
            <a:ext cx="9853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Seca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30704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499752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19640" y="4869000"/>
            <a:ext cx="20163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Nuestro Consejo Ejid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148280" cy="2778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3120" y="1571760"/>
            <a:ext cx="41245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Somos 132 miembros con sus famili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Promovemos la calidad del café que se produ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Manejamos un precio justo, que nos permita pagar los gastos de producción y tener gananci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Somos una importante fuente de trabajo en la región y por ello cuidamos mucho la calidad de nuestros producto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Vent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240000" cy="3544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95640" y="1413000"/>
            <a:ext cx="470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Comuníquese con nosotr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Vendemos a cualquier parte del paí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Manejamos exportaciones para cualquier paí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TENEMOS EL MEJOR CAFÉ DE COATEPE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¡Le encantará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1:14Z</dcterms:created>
  <dc:creator>rocio</dc:creator>
  <dc:description/>
  <dc:language>en-US</dc:language>
  <cp:lastModifiedBy>rocio</cp:lastModifiedBy>
  <dcterms:modified xsi:type="dcterms:W3CDTF">2006-05-15T20:27:22Z</dcterms:modified>
  <cp:revision>15</cp:revision>
  <dc:subject/>
  <dc:title>Bienvenido a la feria del café</dc:title>
</cp:coreProperties>
</file>