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applaus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CC-B32F-4E0A-B050-1617DA52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ED8-BBBE-426A-A3ED-36B0E5D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716-6814-431C-A95D-A42A639B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B0B-3BE5-4AF8-8FB2-1497ABA6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0540-B02B-4F77-B3F3-F32BFEFD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0866-280B-44EF-8DC6-F7D19A8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DD6-5F81-4B6F-B5CE-964567D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7CA3-1FA8-4AAD-BB35-4321AC74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02F8-5ABC-4EF4-A8BB-4C2877C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18EC-11E9-4AB9-891B-1D3EABF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8AF9-DA24-4B7B-8744-B15C246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108-9AEE-4B4D-A694-B6EB703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F641-757E-41A8-AF93-A28BF90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806-9CD2-4649-BE60-BA55F41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C187-F4F3-45F6-911B-C1BC600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9B0F-AA8D-4913-AED2-AE2403F6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862-0F25-49FE-A8E7-E8EF0AED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A94-15E6-4B7B-A0F2-5456C16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32B-F611-4557-A1AB-96DEC0D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823-4E9E-46B9-B758-33AF0B5A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07D-7997-440A-AD25-8673D22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811-762D-415F-B2DA-12C1B91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234-68D8-4A20-8198-A806E9B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0E2-65AC-403B-9FD3-E3003B3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64D-75BD-436A-933B-99410F41E400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05A-734D-4072-8093-157205DC63F1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nemexicano.mty.itesm.mx/directores/fernando_fuentes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08000" y="1341360"/>
            <a:ext cx="813600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os años dorado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l cine mexica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280" y="4572000"/>
            <a:ext cx="9072720" cy="2286000"/>
            <a:chOff x="71280" y="4572000"/>
            <a:chExt cx="9072720" cy="2286000"/>
          </a:xfrm>
        </p:grpSpPr>
        <p:sp>
          <p:nvSpPr>
            <p:cNvPr id="213" name=""/>
            <p:cNvSpPr/>
            <p:nvPr/>
          </p:nvSpPr>
          <p:spPr>
            <a:xfrm>
              <a:off x="324000" y="4643640"/>
              <a:ext cx="8640720" cy="21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71280" y="4572000"/>
            <a:ext cx="907272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4572000"/>
                      <a:ext cx="907272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148360" y="5004000"/>
              <a:ext cx="11271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2700360" y="4932360"/>
              <a:ext cx="18730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324000" y="5004000"/>
              <a:ext cx="187164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6732720" y="5076720"/>
              <a:ext cx="20160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  <p:sndAc>
      <p:stSnd>
        <p:snd r:embed="rId7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La época de oro del cine mexic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4560" y="2053800"/>
            <a:ext cx="6480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Inicia en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1936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con el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treno de la película Allá en el Rancho Grande (de Fernando de Fuent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360" y="126828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1936-1957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2040" y="4365720"/>
            <a:ext cx="691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65b2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mina en 1957, con la muerte 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dro Inf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actores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8400" y="1769760"/>
            <a:ext cx="35989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Inf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ía Féli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io Moreno "Cantinflas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Armendári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ea Pal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rge Negre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91628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olores del Rí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ara Garcí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ernando So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és Soler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aquín Pardavé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rturo de Córdo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Algunos de los grandes directores mexican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ernando de Fue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milio Fernánd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ulio Brach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oberto Gavald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smael Rodríguez</a:t>
            </a: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María Félix, la Doñ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u primer película, con Pedro Infante, la convirtió en una gran estre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1812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5280" y="333360"/>
          <a:ext cx="8532720" cy="6021360"/>
        </p:xfrm>
        <a:graphic>
          <a:graphicData uri="http://schemas.openxmlformats.org/drawingml/2006/table">
            <a:tbl>
              <a:tblPr/>
              <a:tblGrid>
                <a:gridCol w="2741760"/>
                <a:gridCol w="57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Una producción de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lasa Films (originalmente Jesús Grovas)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énero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elodrama rural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ura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38 mi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irec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65b2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Fernando de Fuentes</a:t>
                      </a: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; codirector: Miguel M. Delgado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uión</a:t>
                      </a:r>
                      <a:r>
                        <a:rPr b="1" lang="es-ES" sz="24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Rómulo Gallegos y Fernando de Fuentes, sobre la novela homónima de Rómulo Galleg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1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0" spc="-1" strike="noStrike">
                          <a:solidFill>
                            <a:srgbClr val="66ff66"/>
                          </a:solidFill>
                          <a:latin typeface="Arial"/>
                          <a:ea typeface="Times New Roman"/>
                        </a:rPr>
                        <a:t>DOÑA BÁRBARA</a:t>
                      </a:r>
                      <a:endParaRPr b="0" lang="en-US" sz="6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Resumen de Doña Bárba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01480" y="2053800"/>
            <a:ext cx="63342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spués de estudiar leyes en Caracas, Santos Luzardo regresa a Altamira,  en la llanura venezolana dominada por doña Bárbar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9000"/>
            <a:ext cx="7488360" cy="4464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62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domina la región y a los campesinos, porque es una mujer de mano dura, astuta y además, practica la brujerí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4437000"/>
            <a:ext cx="8820000" cy="2421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472428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se enamora del joven e intenta conseguirlo a cualquier pre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53:07Z</dcterms:created>
  <dc:creator>rocio</dc:creator>
  <dc:description/>
  <dc:language>en-US</dc:language>
  <cp:lastModifiedBy>rocio</cp:lastModifiedBy>
  <dcterms:modified xsi:type="dcterms:W3CDTF">2006-04-03T18:46:04Z</dcterms:modified>
  <cp:revision>24</cp:revision>
  <dc:subject/>
  <dc:title>Diapositiva 1</dc:title>
</cp:coreProperties>
</file>