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camera.wav" ContentType="audio/x-wav"/>
  <Override PartName="/ppt/media/image6.png" ContentType="image/png"/>
  <Override PartName="/ppt/media/image7.jpeg" ContentType="image/jpeg"/>
  <Override PartName="/ppt/media/applause.wav" ContentType="audio/x-wav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8B9C-4632-405E-A3D3-0B415825A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076B-5FF6-446C-9677-AF08DFCA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49E4-BC5E-4F38-9012-22BEAEFB8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6FCE-2F08-42C3-AB3D-30A88635D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B63F-6BE1-427E-84A7-B3B261B36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F792-92FD-4B94-87DA-58766F22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905A-73DC-48BC-9335-8907699D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3CCA8-218C-4B5F-9077-D34D51AA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6126-EE74-43AE-9EE3-B21FDDA5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CF45-DBBD-4503-8515-00EAA3F4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7514-E479-4F01-A4B5-95A07FC3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CBA9-8697-442A-87D8-8FD598E4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ABA2-4BFB-4D6F-B63D-13F5C80B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5775-6709-44D8-AE8F-909FD458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7D3D6-57D3-4C37-8D0A-197B0E31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E4BA-A800-40BC-B918-625CE047E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C861-1FC1-49B0-B25E-B40C919C3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AE0E-EF75-4C1F-BD7B-D6D403FD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14DA-391C-4772-9B89-D00840B1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C228-DA12-4A90-8E85-CC8316BB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7E8D-412A-42A4-A1B2-CD569232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E87A-EAEF-4DF9-AB56-FBBD395E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AF12-3BC1-4C23-A02E-EE742944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6DFB-7403-4820-9C5C-EA54CE4E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50D1-97C7-4C0F-940D-E16820AFE3AF}" type="slidenum">
              <a:rPr b="0" lang="es-MX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2B87-7948-4349-A791-5BB3CB297ACB}" type="slidenum">
              <a:rPr b="0" lang="es-MX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inemexicano.mty.itesm.mx/directores/fernando_fuentes.html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1008000" y="1341360"/>
            <a:ext cx="8136000" cy="204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af528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Los años dorados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af528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af528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del cine mexicano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af528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1280" y="4572000"/>
            <a:ext cx="9072720" cy="2286000"/>
            <a:chOff x="71280" y="4572000"/>
            <a:chExt cx="9072720" cy="2286000"/>
          </a:xfrm>
        </p:grpSpPr>
        <p:sp>
          <p:nvSpPr>
            <p:cNvPr id="213" name=""/>
            <p:cNvSpPr/>
            <p:nvPr/>
          </p:nvSpPr>
          <p:spPr>
            <a:xfrm>
              <a:off x="324000" y="4643640"/>
              <a:ext cx="8640720" cy="216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aphicFrame>
          <p:nvGraphicFramePr>
            <p:cNvPr id="214" name=""/>
            <p:cNvGraphicFramePr/>
            <p:nvPr/>
          </p:nvGraphicFramePr>
          <p:xfrm>
            <a:off x="71280" y="4572000"/>
            <a:ext cx="9072720" cy="2286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1280" y="4572000"/>
                      <a:ext cx="9072720" cy="228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16" name="" descr=""/>
            <p:cNvPicPr/>
            <p:nvPr/>
          </p:nvPicPr>
          <p:blipFill>
            <a:blip r:embed="rId3"/>
            <a:stretch/>
          </p:blipFill>
          <p:spPr>
            <a:xfrm>
              <a:off x="5148360" y="5004000"/>
              <a:ext cx="1127160" cy="14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4"/>
            <a:stretch/>
          </p:blipFill>
          <p:spPr>
            <a:xfrm>
              <a:off x="2700360" y="4932360"/>
              <a:ext cx="1873080" cy="151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5"/>
            <a:stretch/>
          </p:blipFill>
          <p:spPr>
            <a:xfrm>
              <a:off x="324000" y="5004000"/>
              <a:ext cx="1871640" cy="14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6"/>
            <a:stretch/>
          </p:blipFill>
          <p:spPr>
            <a:xfrm>
              <a:off x="6732720" y="5076720"/>
              <a:ext cx="2016000" cy="13417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00ff"/>
                </a:solidFill>
                <a:latin typeface="Arial"/>
              </a:rPr>
              <a:t>La época de oro del cine mexican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4560" y="2053800"/>
            <a:ext cx="64800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Arial"/>
              </a:rPr>
              <a:t>Inicia en 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1936 </a:t>
            </a:r>
            <a:r>
              <a:rPr b="1" lang="es-ES" sz="3200" spc="-1" strike="noStrike">
                <a:solidFill>
                  <a:srgbClr val="eaeaea"/>
                </a:solidFill>
                <a:latin typeface="Arial"/>
              </a:rPr>
              <a:t>con el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streno de la película Allá en el Rancho Grande (de Fernando de Fuente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420360" y="1268280"/>
            <a:ext cx="22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1" lang="es-ES" sz="3200" spc="-1" strike="noStrike">
                <a:solidFill>
                  <a:srgbClr val="eaeaea"/>
                </a:solidFill>
                <a:latin typeface="Arial"/>
              </a:rPr>
              <a:t>1936-1957</a:t>
            </a: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32040" y="4365720"/>
            <a:ext cx="69148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buClr>
                <a:srgbClr val="65b2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ermina en 1957, con la muerte 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edro Infan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00ff"/>
                </a:solidFill>
                <a:latin typeface="Arial"/>
              </a:rPr>
              <a:t>Los grandes actores</a:t>
            </a: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8400" y="1769760"/>
            <a:ext cx="3598920" cy="27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Pedro Infant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María Félix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Mario Moreno "Cantinflas"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Pedro Armendáriz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ndrea Palm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Jorge Negrete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43280" y="1916280"/>
            <a:ext cx="36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Sara Garcí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Fernando Sol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ndrés Soler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Joaquín Pardavé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rturo de Córdova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Dolores del Rí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00ff"/>
                </a:solidFill>
                <a:latin typeface="Arial"/>
              </a:rPr>
              <a:t>Los grandes director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aeaea"/>
                </a:solidFill>
                <a:latin typeface="Arial"/>
              </a:rPr>
              <a:t>Emilio Fernández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aeaea"/>
                </a:solidFill>
                <a:latin typeface="Arial"/>
              </a:rPr>
              <a:t>Julio Bracho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aeaea"/>
                </a:solidFill>
                <a:latin typeface="Arial"/>
              </a:rPr>
              <a:t>Roberto Gavaldón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eaeaea"/>
                </a:solidFill>
                <a:latin typeface="Arial"/>
              </a:rPr>
              <a:t>Ismael Rodríguez</a:t>
            </a:r>
            <a:r>
              <a:rPr b="0" lang="es-MX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00ff"/>
                </a:solidFill>
                <a:latin typeface="Arial"/>
              </a:rPr>
              <a:t>María Félix, la Doñ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Su primer película, con Pedro Infante, la convirtió en una gran estrell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492360" y="3068640"/>
            <a:ext cx="2181240" cy="29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395280" y="333360"/>
          <a:ext cx="8532720" cy="6021360"/>
        </p:xfrm>
        <a:graphic>
          <a:graphicData uri="http://schemas.openxmlformats.org/drawingml/2006/table">
            <a:tbl>
              <a:tblPr/>
              <a:tblGrid>
                <a:gridCol w="2741760"/>
                <a:gridCol w="57909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99ccff"/>
                          </a:solidFill>
                          <a:latin typeface="Arial"/>
                          <a:ea typeface="Times New Roman"/>
                        </a:rPr>
                        <a:t>Una producción de:</a:t>
                      </a:r>
                      <a:r>
                        <a:rPr b="0" lang="es-ES" sz="2400" spc="-1" strike="noStrike">
                          <a:solidFill>
                            <a:srgbClr val="99cc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Clasa Films (originalmente Jesús Grovas)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99ccff"/>
                          </a:solidFill>
                          <a:latin typeface="Arial"/>
                          <a:ea typeface="Times New Roman"/>
                        </a:rPr>
                        <a:t>Género:</a:t>
                      </a:r>
                      <a:r>
                        <a:rPr b="0" lang="es-ES" sz="2400" spc="-1" strike="noStrike">
                          <a:solidFill>
                            <a:srgbClr val="99cc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Melodrama rural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99ccff"/>
                          </a:solidFill>
                          <a:latin typeface="Arial"/>
                          <a:ea typeface="Times New Roman"/>
                        </a:rPr>
                        <a:t>Duración:</a:t>
                      </a:r>
                      <a:r>
                        <a:rPr b="0" lang="es-ES" sz="2400" spc="-1" strike="noStrike">
                          <a:solidFill>
                            <a:srgbClr val="99cc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138 min.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99ccff"/>
                          </a:solidFill>
                          <a:latin typeface="Arial"/>
                          <a:ea typeface="Times New Roman"/>
                        </a:rPr>
                        <a:t>Dirección:</a:t>
                      </a:r>
                      <a:r>
                        <a:rPr b="0" lang="es-ES" sz="2400" spc="-1" strike="noStrike">
                          <a:solidFill>
                            <a:srgbClr val="99cc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 u="sng">
                          <a:solidFill>
                            <a:srgbClr val="65b2ff"/>
                          </a:solidFill>
                          <a:uFillTx/>
                          <a:latin typeface="Arial"/>
                          <a:ea typeface="Times New Roman"/>
                          <a:hlinkClick r:id="rId1"/>
                        </a:rPr>
                        <a:t>Fernando de Fuentes</a:t>
                      </a:r>
                      <a:r>
                        <a:rPr b="0" lang="es-ES" sz="24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; codirector: Miguel M. Delgado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99ccff"/>
                          </a:solidFill>
                          <a:latin typeface="Arial"/>
                          <a:ea typeface="Times New Roman"/>
                        </a:rPr>
                        <a:t>Guión</a:t>
                      </a:r>
                      <a:r>
                        <a:rPr b="1" lang="es-ES" sz="2400" spc="-1" strike="noStrike">
                          <a:solidFill>
                            <a:srgbClr val="9900ff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99ccff"/>
                          </a:solidFill>
                          <a:latin typeface="Arial"/>
                          <a:ea typeface="Times New Roman"/>
                        </a:rPr>
                        <a:t>Rómulo Gallegos y Fernando de Fuentes, sobre la novela homónima de Rómulo Gallego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1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0" spc="-1" strike="noStrike">
                          <a:solidFill>
                            <a:srgbClr val="66ff66"/>
                          </a:solidFill>
                          <a:latin typeface="Arial"/>
                          <a:ea typeface="Times New Roman"/>
                        </a:rPr>
                        <a:t>DOÑA BÁRBARA</a:t>
                      </a:r>
                      <a:endParaRPr b="0" lang="en-US" sz="6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00ff"/>
                </a:solidFill>
                <a:latin typeface="Arial"/>
              </a:rPr>
              <a:t>Resumen de Doña Bárba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401480" y="2053800"/>
            <a:ext cx="633420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espués de estudiar leyes en Caracas, Santos Luzardo regresa a Altamira,  en la llanura venezolana dominada por doña Bárbara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68360" y="189000"/>
            <a:ext cx="7488360" cy="446400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62755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oña bárbara domina la región y a los campesinos, porque es una mujer de mano dura, astuta y además, practica la brujería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24000" y="4437000"/>
            <a:ext cx="8820000" cy="242100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94920" y="4724280"/>
            <a:ext cx="800244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oña Bárbara se enamore del joven e intente conseguirlo a cualquier preci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21:53:07Z</dcterms:created>
  <dc:creator>rocio</dc:creator>
  <dc:description/>
  <dc:language>en-US</dc:language>
  <cp:lastModifiedBy>rocio</cp:lastModifiedBy>
  <dcterms:modified xsi:type="dcterms:W3CDTF">2006-03-28T23:55:35Z</dcterms:modified>
  <cp:revision>24</cp:revision>
  <dc:subject/>
  <dc:title>Diapositiva 1</dc:title>
</cp:coreProperties>
</file>