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172-2E49-4A18-BE62-5138EE7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1F1-2BAD-420B-BB99-F3BD86F8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33F-EE6A-404B-91DC-E336136E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D31-E8EF-4389-996B-F88183A4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E81-6D03-4127-9879-BCB56FCC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7461-A96F-4781-96C1-64C5CEDA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253-261D-49FC-9F64-BB6654F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AE5A-DC11-48C9-A3EA-D620FC1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4A02-3E48-49BB-B2F9-14273DC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1DA0-89DE-49F8-A9CF-A1474C6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A4A6-2D07-464C-BB8C-181F6E2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2E5-0F7F-4FF5-90C8-D444128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43C-38BF-4595-A5B6-B1B6B29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CF06-101F-4F59-93E5-7A41674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E675-4AAF-4ADC-9214-2144026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53FD-EA97-48F5-B273-F16FF2FD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42CA-4008-4575-A108-7576D57C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FEF-EDD6-4966-8763-2706B09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7AF-8368-4572-B1CA-2E41FC89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0E2-9855-462F-B12F-675A3F4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980-3374-4AFF-972D-E7CD28E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AC7-DED9-4694-87AE-5BAFE48C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AA3-BF7B-44A7-BCAA-D7EE072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1B0-FABD-4DFE-A7EA-43A79CE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707-8784-47D2-AD61-5D4D9CCE309E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6f1e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FF0-5F17-4713-8EF8-2DD5F22BCF47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6f1ec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vinculando.org/mercado/cafe/procesamiento.htm" TargetMode="External"/><Relationship Id="rId3" Type="http://schemas.openxmlformats.org/officeDocument/2006/relationships/hyperlink" Target="http://www.vinculando.org/mercado/cafe/procesamiento.htm" TargetMode="External"/><Relationship Id="rId4" Type="http://schemas.openxmlformats.org/officeDocument/2006/relationships/hyperlink" Target="http://www.vinculando.org/mercado/cafe/procesamiento.htm" TargetMode="External"/><Relationship Id="rId5" Type="http://schemas.openxmlformats.org/officeDocument/2006/relationships/hyperlink" Target="http://www.vinculando.org/mercado/cafe/procesamiento.htm" TargetMode="External"/><Relationship Id="rId6" Type="http://schemas.openxmlformats.org/officeDocument/2006/relationships/hyperlink" Target="http://www.vinculando.org/mercado/cafe/procesamiento.htm" TargetMode="External"/><Relationship Id="rId7" Type="http://schemas.openxmlformats.org/officeDocument/2006/relationships/hyperlink" Target="http://www.vinculando.org/mercado/cafe/procesamiento.htm" TargetMode="External"/><Relationship Id="rId8" Type="http://schemas.openxmlformats.org/officeDocument/2006/relationships/hyperlink" Target="http://www.vinculando.org/mercado/cafe/procesamiento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Bienvenido a la</a:t>
            </a:r>
            <a:br>
              <a:rPr sz="5700"/>
            </a:b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 feria del café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Consejo Ejidal de productores de café de Coatep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4351320"/>
            <a:ext cx="3744720" cy="25066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iudad del caf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oatepec produce café desde 18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56000" cy="3049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2997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da año, actualmente, se realiza la Feria del café entre abril y may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iembra de los cafe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2916360" cy="460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Verdana"/>
              </a:rPr>
              <a:t>Germinación del gran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442120" y="2781360"/>
            <a:ext cx="13359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Almácig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10480" y="3860640"/>
            <a:ext cx="24148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Trasplante a la tier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3400" y="4869000"/>
            <a:ext cx="30276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Producción de los cafe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234936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33577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45086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37080" cy="403380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Producción del café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240000" cy="21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6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1152720" cy="1014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5300640"/>
            <a:ext cx="21607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Tostado y moli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9200" y="1844640"/>
            <a:ext cx="32133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ecolección del café cerez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21760" y="2565360"/>
            <a:ext cx="24300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húme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27560" y="3225960"/>
            <a:ext cx="16786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2840" y="4608360"/>
            <a:ext cx="20599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se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22334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92428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61620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3360" y="3933720"/>
            <a:ext cx="9853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Seca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3070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9975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2016360" cy="16030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148280" cy="2778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3120" y="1571760"/>
            <a:ext cx="41245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mos 132 miembros con sus famili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Promovemos la calidad del café que se produ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remove" presetClass="emph" presetID="33" repeatCount="2000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2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13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13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Manejamos un </a:t>
            </a: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precio justo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, que nos permita pagar los gastos de producción y tener gananci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wheel spokes="1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mos una importante fuente de trabajo en la región y por ello cuidamos mucho la calidad de nuestros produc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Vent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354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13000"/>
            <a:ext cx="47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omuníquese con nos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Vendemos a cualquier parte del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anejamos exportacion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TENEMOS EL MEJOR CAFÉ DE COATEPE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¡Le encantará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20000" y="522936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6146640"/>
            <a:ext cx="68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vinculando.org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/mercado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cafe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procesamiento.ht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1:14Z</dcterms:created>
  <dc:creator>rocio</dc:creator>
  <dc:description/>
  <dc:language>en-US</dc:language>
  <cp:lastModifiedBy>rocio</cp:lastModifiedBy>
  <dcterms:modified xsi:type="dcterms:W3CDTF">2006-06-19T18:57:22Z</dcterms:modified>
  <cp:revision>31</cp:revision>
  <dc:subject/>
  <dc:title>Bienvenido a la feria del café</dc:title>
</cp:coreProperties>
</file>