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6F0-A45B-4F91-9CCB-A187D3B1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8338-00E3-4D11-A6E3-A0CAA09C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023-52A9-4DBF-8F21-7EEFF69C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7A50-5F5A-44FB-A95B-702BF573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9D03-18A3-43BD-8958-77517446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291A-518B-4A03-8122-F030A0EA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D85A-42C9-454A-84DE-88D941A6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738F-743A-4396-A92B-1022853F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80BD-9DDD-4530-88DD-1EF6F8BF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7B03-AB30-40B7-8C61-B8FD056D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BDCA-CE03-4946-801B-05CC60AB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AA5C-E2ED-4E77-9379-13DF58F8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17EE-83B7-495C-8E25-66D55512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7C95-1F3E-4A39-8B3B-314FB982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B9FF-F679-451A-ACEB-03E1A9FF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80F7-E90E-4C9C-8827-31CBC2E3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08D2-F1BA-4E4A-B39A-6DDDB2E8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E97-586E-4C5B-903D-A806440C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CB4-EF80-4DC9-9BCD-9B4FB53E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6BB-BE57-4763-9195-2413EBAE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8E6-A327-402B-BBF9-C0175ECB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6C17-E4A4-46D6-91CD-5C5C9460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328-116C-405F-B3A8-F72D9D8C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5E28-2AB6-41BE-968B-B313E4A9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EDFE-6AD8-4BC6-8052-C37A6D2E2919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D11C-0801-4A89-BF2C-68B90D419515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b7"/>
                </a:solidFill>
                <a:latin typeface="Arial Black"/>
              </a:rPr>
              <a:t>Asociación de productores de mole de San Pedro Actopa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436572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ilpa Alta, D.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a asociación que traba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680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116000" y="3241440"/>
            <a:ext cx="7343280" cy="1338480"/>
            <a:chOff x="1116000" y="3241440"/>
            <a:chExt cx="7343280" cy="1338480"/>
          </a:xfrm>
        </p:grpSpPr>
        <p:cxnSp>
          <p:nvCxnSpPr>
            <p:cNvPr id="188" name="_s2062"/>
            <p:cNvCxnSpPr>
              <a:stCxn id="189" idx="0"/>
              <a:endCxn id="190" idx="2"/>
            </p:cNvCxnSpPr>
            <p:nvPr/>
          </p:nvCxnSpPr>
          <p:spPr>
            <a:xfrm flipV="1" rot="16200000">
              <a:off x="5938560" y="2667600"/>
              <a:ext cx="183960" cy="2486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1" name="_s2063"/>
            <p:cNvCxnSpPr>
              <a:stCxn id="192" idx="0"/>
              <a:endCxn id="190" idx="2"/>
            </p:cNvCxnSpPr>
            <p:nvPr/>
          </p:nvCxnSpPr>
          <p:spPr>
            <a:xfrm flipV="1">
              <a:off x="4788000" y="3818880"/>
              <a:ext cx="1440" cy="183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3" name="_s2064"/>
            <p:cNvCxnSpPr>
              <a:stCxn id="194" idx="0"/>
              <a:endCxn id="190" idx="2"/>
            </p:cNvCxnSpPr>
            <p:nvPr/>
          </p:nvCxnSpPr>
          <p:spPr>
            <a:xfrm flipH="1" flipV="1" rot="5400000">
              <a:off x="3452760" y="2667600"/>
              <a:ext cx="183960" cy="2486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0" name="_s2065"/>
            <p:cNvSpPr/>
            <p:nvPr/>
          </p:nvSpPr>
          <p:spPr>
            <a:xfrm>
              <a:off x="3721320" y="3241440"/>
              <a:ext cx="2133360" cy="5781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8000"/>
                  </a:solidFill>
                  <a:latin typeface="Arial"/>
                </a:rPr>
                <a:t>Presiden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8000"/>
                  </a:solidFill>
                  <a:latin typeface="Arial"/>
                </a:rPr>
                <a:t>Pascasiano Gómez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2066"/>
            <p:cNvSpPr/>
            <p:nvPr/>
          </p:nvSpPr>
          <p:spPr>
            <a:xfrm>
              <a:off x="1116000" y="4003200"/>
              <a:ext cx="2371320" cy="5767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8000"/>
                  </a:solidFill>
                  <a:latin typeface="Arial"/>
                </a:rPr>
                <a:t>Tesore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8000"/>
                  </a:solidFill>
                  <a:latin typeface="Arial"/>
                </a:rPr>
                <a:t>Florentina López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_s2067"/>
            <p:cNvSpPr/>
            <p:nvPr/>
          </p:nvSpPr>
          <p:spPr>
            <a:xfrm>
              <a:off x="3601800" y="4003200"/>
              <a:ext cx="2371320" cy="5767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8000"/>
                  </a:solidFill>
                  <a:latin typeface="Arial"/>
                </a:rPr>
                <a:t>Secretari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8000"/>
                  </a:solidFill>
                  <a:latin typeface="Arial"/>
                </a:rPr>
                <a:t>Asunción Martínez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_s2068"/>
            <p:cNvSpPr/>
            <p:nvPr/>
          </p:nvSpPr>
          <p:spPr>
            <a:xfrm>
              <a:off x="6087960" y="4003200"/>
              <a:ext cx="2371320" cy="5767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8000"/>
                  </a:solidFill>
                  <a:latin typeface="Arial"/>
                </a:rPr>
                <a:t>Voc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8000"/>
                  </a:solidFill>
                  <a:latin typeface="Arial"/>
                </a:rPr>
                <a:t>Rosenda Flor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485000" y="1066680"/>
            <a:ext cx="6407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Consejo dir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ociación de productores de San Pedro Actopan A.C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680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680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17080" y="6237360"/>
            <a:ext cx="50292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0" y="2852640"/>
            <a:ext cx="4392720" cy="3240360"/>
          </a:xfrm>
          <a:prstGeom prst="rect">
            <a:avLst/>
          </a:prstGeom>
          <a:solidFill>
            <a:srgbClr val="99cc00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2852640"/>
            <a:ext cx="3745080" cy="3241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04840" y="3429000"/>
            <a:ext cx="2863800" cy="2141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56000" y="765000"/>
            <a:ext cx="3671640" cy="1632240"/>
          </a:xfrm>
          <a:custGeom>
            <a:avLst/>
            <a:gdLst>
              <a:gd name="textAreaLeft" fmla="*/ 0 w 3671640"/>
              <a:gd name="textAreaRight" fmla="*/ 3672000 w 3671640"/>
              <a:gd name="textAreaTop" fmla="*/ 211320 h 1632240"/>
              <a:gd name="textAreaBottom" fmla="*/ 1420920 h 16322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1440" y="126828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Arial"/>
              </a:rPr>
              <a:t>El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3975120" cy="237168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680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El mole mexica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a comida mexicana reconocida mundialm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os más famosos: el mole poblano y el mole negro de Oaxa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mole existe desde la época prehispánica y existen muchas var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680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Los ingredientes del mole pobla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327400" y="2286000"/>
            <a:ext cx="4191120" cy="4189320"/>
            <a:chOff x="2327400" y="2286000"/>
            <a:chExt cx="4191120" cy="4189320"/>
          </a:xfrm>
        </p:grpSpPr>
        <p:sp>
          <p:nvSpPr>
            <p:cNvPr id="119" name="_s29719"/>
            <p:cNvSpPr/>
            <p:nvPr/>
          </p:nvSpPr>
          <p:spPr>
            <a:xfrm flipH="1" flipV="1">
              <a:off x="3682800" y="3639960"/>
              <a:ext cx="369720" cy="371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29718"/>
            <p:cNvSpPr/>
            <p:nvPr/>
          </p:nvSpPr>
          <p:spPr>
            <a:xfrm>
              <a:off x="2787840" y="2744640"/>
              <a:ext cx="1047600" cy="1047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ollo 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uer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29713"/>
            <p:cNvSpPr/>
            <p:nvPr/>
          </p:nvSpPr>
          <p:spPr>
            <a:xfrm flipH="1">
              <a:off x="3376440" y="4379760"/>
              <a:ext cx="523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29712"/>
            <p:cNvSpPr/>
            <p:nvPr/>
          </p:nvSpPr>
          <p:spPr>
            <a:xfrm>
              <a:off x="2327400" y="3855960"/>
              <a:ext cx="1047600" cy="1047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hocol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29717"/>
            <p:cNvSpPr/>
            <p:nvPr/>
          </p:nvSpPr>
          <p:spPr>
            <a:xfrm flipH="1">
              <a:off x="3683160" y="4751280"/>
              <a:ext cx="371520" cy="368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29716"/>
            <p:cNvSpPr/>
            <p:nvPr/>
          </p:nvSpPr>
          <p:spPr>
            <a:xfrm>
              <a:off x="2787840" y="4967280"/>
              <a:ext cx="1047600" cy="1047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hil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hipo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29715"/>
            <p:cNvSpPr/>
            <p:nvPr/>
          </p:nvSpPr>
          <p:spPr>
            <a:xfrm>
              <a:off x="4422960" y="4903560"/>
              <a:ext cx="1440" cy="52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29714"/>
            <p:cNvSpPr/>
            <p:nvPr/>
          </p:nvSpPr>
          <p:spPr>
            <a:xfrm>
              <a:off x="3899160" y="5427720"/>
              <a:ext cx="1047600" cy="1047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hil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anch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29711"/>
            <p:cNvSpPr/>
            <p:nvPr/>
          </p:nvSpPr>
          <p:spPr>
            <a:xfrm>
              <a:off x="4794480" y="4749840"/>
              <a:ext cx="368280" cy="369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29710"/>
            <p:cNvSpPr/>
            <p:nvPr/>
          </p:nvSpPr>
          <p:spPr>
            <a:xfrm>
              <a:off x="5010120" y="4967280"/>
              <a:ext cx="1047960" cy="1047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hil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asi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29708"/>
            <p:cNvSpPr/>
            <p:nvPr/>
          </p:nvSpPr>
          <p:spPr>
            <a:xfrm>
              <a:off x="4946760" y="4379760"/>
              <a:ext cx="522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29707"/>
            <p:cNvSpPr/>
            <p:nvPr/>
          </p:nvSpPr>
          <p:spPr>
            <a:xfrm>
              <a:off x="5470560" y="3855960"/>
              <a:ext cx="1047960" cy="1047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Almendr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29706"/>
            <p:cNvSpPr/>
            <p:nvPr/>
          </p:nvSpPr>
          <p:spPr>
            <a:xfrm flipV="1">
              <a:off x="4792680" y="3639960"/>
              <a:ext cx="370080" cy="370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29705"/>
            <p:cNvSpPr/>
            <p:nvPr/>
          </p:nvSpPr>
          <p:spPr>
            <a:xfrm>
              <a:off x="5010120" y="2744640"/>
              <a:ext cx="1047960" cy="1047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Tortill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frit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29704"/>
            <p:cNvSpPr/>
            <p:nvPr/>
          </p:nvSpPr>
          <p:spPr>
            <a:xfrm flipV="1">
              <a:off x="4422960" y="3333240"/>
              <a:ext cx="0" cy="523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29703"/>
            <p:cNvSpPr/>
            <p:nvPr/>
          </p:nvSpPr>
          <p:spPr>
            <a:xfrm>
              <a:off x="3899160" y="2286000"/>
              <a:ext cx="1047600" cy="1047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ul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29702"/>
            <p:cNvSpPr/>
            <p:nvPr/>
          </p:nvSpPr>
          <p:spPr>
            <a:xfrm>
              <a:off x="3899160" y="3857400"/>
              <a:ext cx="1047600" cy="1047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ol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obla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previousslide"/>
          </p:cNvPr>
          <p:cNvSpPr/>
          <p:nvPr/>
        </p:nvSpPr>
        <p:spPr>
          <a:xfrm>
            <a:off x="680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Los ingredientes del mole neg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514600" y="2286000"/>
            <a:ext cx="4141800" cy="4092480"/>
            <a:chOff x="2514600" y="2286000"/>
            <a:chExt cx="4141800" cy="4092480"/>
          </a:xfrm>
        </p:grpSpPr>
        <p:sp>
          <p:nvSpPr>
            <p:cNvPr id="141" name="_s33817"/>
            <p:cNvSpPr/>
            <p:nvPr/>
          </p:nvSpPr>
          <p:spPr>
            <a:xfrm flipH="1" flipV="1">
              <a:off x="3844800" y="3499920"/>
              <a:ext cx="439560" cy="520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33816"/>
            <p:cNvSpPr/>
            <p:nvPr/>
          </p:nvSpPr>
          <p:spPr>
            <a:xfrm>
              <a:off x="3070440" y="2665440"/>
              <a:ext cx="944640" cy="944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eboll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33804"/>
            <p:cNvSpPr/>
            <p:nvPr/>
          </p:nvSpPr>
          <p:spPr>
            <a:xfrm flipH="1" flipV="1">
              <a:off x="3452760" y="4181400"/>
              <a:ext cx="671760" cy="117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33803"/>
            <p:cNvSpPr/>
            <p:nvPr/>
          </p:nvSpPr>
          <p:spPr>
            <a:xfrm>
              <a:off x="2514600" y="3627360"/>
              <a:ext cx="944640" cy="944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asi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33813"/>
            <p:cNvSpPr/>
            <p:nvPr/>
          </p:nvSpPr>
          <p:spPr>
            <a:xfrm flipH="1">
              <a:off x="3589560" y="4614840"/>
              <a:ext cx="590400" cy="341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33812"/>
            <p:cNvSpPr/>
            <p:nvPr/>
          </p:nvSpPr>
          <p:spPr>
            <a:xfrm>
              <a:off x="2708280" y="4721040"/>
              <a:ext cx="944640" cy="944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ante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er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33815"/>
            <p:cNvSpPr/>
            <p:nvPr/>
          </p:nvSpPr>
          <p:spPr>
            <a:xfrm flipH="1">
              <a:off x="4192200" y="4821120"/>
              <a:ext cx="233640" cy="639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33814"/>
            <p:cNvSpPr/>
            <p:nvPr/>
          </p:nvSpPr>
          <p:spPr>
            <a:xfrm>
              <a:off x="3559320" y="5433840"/>
              <a:ext cx="944640" cy="944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Jitomate 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toma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33811"/>
            <p:cNvSpPr/>
            <p:nvPr/>
          </p:nvSpPr>
          <p:spPr>
            <a:xfrm>
              <a:off x="4746600" y="4821120"/>
              <a:ext cx="233640" cy="639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33810"/>
            <p:cNvSpPr/>
            <p:nvPr/>
          </p:nvSpPr>
          <p:spPr>
            <a:xfrm>
              <a:off x="4668840" y="5433840"/>
              <a:ext cx="944640" cy="944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Ajonjol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ondimen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33809"/>
            <p:cNvSpPr/>
            <p:nvPr/>
          </p:nvSpPr>
          <p:spPr>
            <a:xfrm>
              <a:off x="4992840" y="4614840"/>
              <a:ext cx="590400" cy="339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33808"/>
            <p:cNvSpPr/>
            <p:nvPr/>
          </p:nvSpPr>
          <p:spPr>
            <a:xfrm>
              <a:off x="5519880" y="4719600"/>
              <a:ext cx="944640" cy="944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Bolillo 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torti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33807"/>
            <p:cNvSpPr/>
            <p:nvPr/>
          </p:nvSpPr>
          <p:spPr>
            <a:xfrm flipV="1">
              <a:off x="5048280" y="4177800"/>
              <a:ext cx="6717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33806"/>
            <p:cNvSpPr/>
            <p:nvPr/>
          </p:nvSpPr>
          <p:spPr>
            <a:xfrm>
              <a:off x="5712120" y="3625920"/>
              <a:ext cx="944280" cy="94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Almend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Y nue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33802"/>
            <p:cNvSpPr/>
            <p:nvPr/>
          </p:nvSpPr>
          <p:spPr>
            <a:xfrm flipV="1">
              <a:off x="4886280" y="3496680"/>
              <a:ext cx="438480" cy="52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33801"/>
            <p:cNvSpPr/>
            <p:nvPr/>
          </p:nvSpPr>
          <p:spPr>
            <a:xfrm>
              <a:off x="5156280" y="2665440"/>
              <a:ext cx="944640" cy="944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hocol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_s33800"/>
            <p:cNvSpPr/>
            <p:nvPr/>
          </p:nvSpPr>
          <p:spPr>
            <a:xfrm flipV="1">
              <a:off x="4584960" y="3228840"/>
              <a:ext cx="0" cy="681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33799"/>
            <p:cNvSpPr/>
            <p:nvPr/>
          </p:nvSpPr>
          <p:spPr>
            <a:xfrm>
              <a:off x="4113360" y="2286000"/>
              <a:ext cx="944640" cy="944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hilgua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33798"/>
            <p:cNvSpPr/>
            <p:nvPr/>
          </p:nvSpPr>
          <p:spPr>
            <a:xfrm>
              <a:off x="4113360" y="3909960"/>
              <a:ext cx="944640" cy="944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ol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negr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680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183280" y="2133720"/>
            <a:ext cx="3960720" cy="25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El mole en San Pedro Actop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ay una importante producción de mole de primera ca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ada año se organiza su Feria del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8920" y="2349360"/>
            <a:ext cx="3473640" cy="205920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680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124000" y="765000"/>
            <a:ext cx="5184720" cy="56167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84360" y="2781360"/>
            <a:ext cx="1990800" cy="2558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24360" y="1484280"/>
            <a:ext cx="2663640" cy="1081080"/>
          </a:xfrm>
          <a:prstGeom prst="wedgeRoundRectCallout">
            <a:avLst>
              <a:gd name="adj1" fmla="val -80810"/>
              <a:gd name="adj2" fmla="val 98750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oy haciendo un rico m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680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Nuestra asoci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icroempresas de tipo famili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ducción y comercialización de mo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cedimientos e ingredientes tradicionales para conservar la cal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680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Nuestra asoci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766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mos 45 miembros con sus famil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s apoyamos para mejorar la producción y ven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mos una fuente muy importante de empleo en la reg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771640" y="6021360"/>
            <a:ext cx="3876840" cy="44784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previousslide"/>
          </p:cNvPr>
          <p:cNvSpPr/>
          <p:nvPr/>
        </p:nvSpPr>
        <p:spPr>
          <a:xfrm>
            <a:off x="680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21:45:27Z</dcterms:created>
  <dc:creator>rocio</dc:creator>
  <dc:description/>
  <dc:language>en-US</dc:language>
  <cp:lastModifiedBy>rocio</cp:lastModifiedBy>
  <dcterms:modified xsi:type="dcterms:W3CDTF">2006-06-19T18:26:58Z</dcterms:modified>
  <cp:revision>15</cp:revision>
  <dc:subject/>
  <dc:title>Diapositiva 1</dc:title>
</cp:coreProperties>
</file>