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930-D31B-4DBC-BBEB-44509399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0A6-1F65-4E16-9B09-CEE90856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5EE-AE9F-429F-9AA4-7652B539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DDA-316D-49F0-A6F5-FED75659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269E-8C37-4562-9243-375E2696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7199-A0FD-48F4-B405-9FFBF474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3EA7-EC1E-45BD-B2B1-8A3A6B0D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0E9D-2A08-45B6-8C34-34D592D5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36A7-F984-466A-81C0-E2EFE009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90E4-D07A-4EC5-8C9D-92FDBBD8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BB59-A0BA-420E-9F60-1366D9B6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BCC-54B4-4A26-BD38-D2BE934C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B210-25E9-4D92-AF65-0F4C802E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93BF-7938-41B5-B838-269E9506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BCF9-2368-481A-A849-57FB92A5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01DA-CD00-4F03-881D-A89514C9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7214-CDE7-4138-84C7-91C272C3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57D-30D1-46B6-9E79-EC72D530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31E-34F0-4FAD-8C32-5211C64D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ABC-9A84-4F16-A09D-A4B4CA4F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A15-3F8E-4CC3-B476-BC13726C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E97-4277-4AA3-8B6A-8EEBAC06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9F8-66F0-467D-A7B4-A082664C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2C2-8580-4DC0-9FE3-BC202515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4F1C-ECF4-4854-9E54-04BB8249A9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C753-7D6F-425C-A900-847FEC65CC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LOS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entro de Salud Comunitaria San Andr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rora Estela Lóp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rco Juan Galin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¿Qué es una infecció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infecciones son invasiones de microbios en el cuer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microbios siempre están presentes, pero solamente causan enfermedades cuando se reproducen en gran cantidad y sin control dentro de nuestro cuer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¿Qué es un microbio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 criaturas muy pequeñas que no se pueden observar a simple v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necesita un microscopio para verl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637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Aspecto de los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microbios tienen muy diferentes aspec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ay esféricos, alargados y en formas irregul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odos son muy pequeños y no se pueden ver a simple vi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incipales tipos de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cter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ng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32000" y="24955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Vir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1865160"/>
            <a:ext cx="4969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Hong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1779480"/>
            <a:ext cx="4969080" cy="44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Vir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1928880"/>
            <a:ext cx="763884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3:13:32Z</dcterms:created>
  <dc:creator>rocio</dc:creator>
  <dc:description/>
  <dc:language>en-US</dc:language>
  <cp:lastModifiedBy>INEA</cp:lastModifiedBy>
  <dcterms:modified xsi:type="dcterms:W3CDTF">2008-09-05T16:21:42Z</dcterms:modified>
  <cp:revision>11</cp:revision>
  <dc:subject/>
  <dc:title>LAS INFECCIONES</dc:title>
</cp:coreProperties>
</file>