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757-72BF-4476-946D-97149B00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4B4-F438-48A5-A314-08CC0EB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875-E53A-4CBD-AEC3-41D23F7D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896-2C8C-4EFB-B24E-3E1F0778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7E2-5296-447D-ABF6-6E4D758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336-E836-4434-801A-6761F8D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0DC-855B-466B-99E7-BE193C7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E4E-5BA8-4E4A-900D-286D495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482-8D9F-4626-8A4C-3FA901E9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85A-9F1F-45B0-B157-4096CA9A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4BB-AC2F-4D4A-AC42-04B1396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9D4-1CC6-4C2D-A3D7-8849947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C64-ED93-4441-883C-A0177EA6A6C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341360"/>
            <a:ext cx="82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80">
                    <a:alpha val="8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intores oaxaqueño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80">
                  <a:alpha val="8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ba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19280" y="1492200"/>
            <a:ext cx="59770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eamos algunas pinturas de Rufino Tama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8247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pi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771560"/>
            <a:ext cx="5400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00" y="1560600"/>
            <a:ext cx="4824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ombre mirando la l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862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rando pája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35280" y="1550880"/>
            <a:ext cx="4968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and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16000" y="1455840"/>
            <a:ext cx="712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axaca, un estado lleno de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oaxaqueños somos personas que apreciamos la música, las canciones, las pinturas y los trabajos artesa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jemplo, en la region mixe tenemos muy buenas bandas y orq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mujeres hacen bordados muy bonitos y finos, que sirven para vestir, para hacer cojines y adornos de m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a cocina también es un verdadero 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intores oaxa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muchos pintores en Oaxaca. Dos de ell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rancisco Toled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ufino Tama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amos a hacer un viaje para ver algunas obras de estos pin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62040" y="3433680"/>
            <a:ext cx="4219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ra de Francisco Tole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254628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41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rt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45356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11280" y="2058840"/>
            <a:ext cx="41054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f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5329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mono de la ti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3294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0:00:40Z</dcterms:created>
  <dc:creator>rocio</dc:creator>
  <dc:description/>
  <dc:language>en-US</dc:language>
  <cp:lastModifiedBy>rocio</cp:lastModifiedBy>
  <dcterms:modified xsi:type="dcterms:W3CDTF">2006-06-19T17:39:33Z</dcterms:modified>
  <cp:revision>9</cp:revision>
  <dc:subject/>
  <dc:title>Diapositiva 1</dc:title>
</cp:coreProperties>
</file>